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468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344-8952-4FEE-B956-AD026C23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902-6D59-4209-9BFB-ACC5263D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C7F-2FB9-43F9-90ED-F7CC8111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E43-D965-4BC7-8FCD-EB7F452B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588C-423C-4390-9438-1731AA35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1DBB-BF1C-4B64-BF6A-60C135AA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3C7A-CE18-4554-8002-0FEE24A5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3F99-D4A2-4712-9EC1-8E397640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D599-18EC-4A7F-AD73-8AE2FBEF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EB5B-4545-4DF6-86CF-F23F4CBA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564E-0ABF-477C-A317-1F73866E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14E-373B-4083-ADB4-888B8029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E636-6754-4910-B451-EBF49D5E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C187-AC77-48D3-84F2-9ED678FE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8A83-4D41-433B-BDC8-382F7316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231A-816A-4ED6-9F13-097A0ABC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4BE1-C1BB-46D0-B614-7947E3FC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626-7D2B-4CE3-B01F-9B46EAFF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958-C5AA-4B7D-9807-34BAF57A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A8A-B5EE-4849-BEBE-A2E03436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445-02CF-49EA-85AD-AA486807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80B-0143-4553-8687-67F455A0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0A5-0228-45F3-B810-2194847B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C35-62CE-425A-84DC-B0E8680A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2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762120" y="609480"/>
            <a:ext cx="8380440" cy="7621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04960" y="117360"/>
            <a:ext cx="66600" cy="669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04960" y="347760"/>
            <a:ext cx="66600" cy="651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F8AD-E0C6-4F1B-A1B8-D91097DC07A0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531120"/>
            <a:ext cx="3505320" cy="3268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990720"/>
            <a:ext cx="8456760" cy="22111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80920" y="119160"/>
            <a:ext cx="66960" cy="666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80920" y="349200"/>
            <a:ext cx="66960" cy="651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0920" y="576360"/>
            <a:ext cx="66960" cy="651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38520" y="6672240"/>
            <a:ext cx="4332600" cy="64800"/>
            <a:chOff x="4538520" y="6672240"/>
            <a:chExt cx="4332600" cy="64800"/>
          </a:xfrm>
        </p:grpSpPr>
        <p:sp>
          <p:nvSpPr>
            <p:cNvPr id="60" name=""/>
            <p:cNvSpPr/>
            <p:nvPr/>
          </p:nvSpPr>
          <p:spPr>
            <a:xfrm>
              <a:off x="4538520" y="6672240"/>
              <a:ext cx="66960" cy="648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48360" y="6672240"/>
              <a:ext cx="66600" cy="648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57840" y="6672240"/>
              <a:ext cx="65160" cy="648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67320" y="6672240"/>
              <a:ext cx="65160" cy="648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77160" y="6672240"/>
              <a:ext cx="66600" cy="648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86640" y="6672240"/>
              <a:ext cx="66600" cy="648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96120" y="6672240"/>
              <a:ext cx="66960" cy="648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5960" y="6672240"/>
              <a:ext cx="65160" cy="648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80920" y="806400"/>
            <a:ext cx="66960" cy="637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8D50-F3FA-4068-8498-E17F3CED1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819160" y="35809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Stephan Reiff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iversity of Glasgow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ttp://www.dcs.gla.ac.uk/~sreiff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reiff@dcs.gla.ac.uk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1" name="shield2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1457280" cy="1724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Modelling a Telecommunications Switch with a Feature Manag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CM: Extract in Promel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447920"/>
            <a:ext cx="87631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s code still uses state information ..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typ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= {offhook, onhook, dial,</a:t>
            </a:r>
            <a:r>
              <a:rPr b="1" i="1" lang="en-US" sz="1600" spc="-1" strike="noStrike">
                <a:solidFill>
                  <a:srgbClr val="00ff00"/>
                </a:solidFill>
                <a:latin typeface="Courier New"/>
              </a:rPr>
              <a:t>[…]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dial_tone, ring_tone,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line_error_tone, no_outgoing_calls_tone};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proctyp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bcs(byte id)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i="1" lang="en-US" sz="1600" spc="-1" strike="noStrike">
                <a:solidFill>
                  <a:srgbClr val="00ff00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BC_IDLE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sin[id]?m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-&gt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atomic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assert(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ls[id] == Fre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);   assert(m.ev != onhook);               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m.ev == offhook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-&gt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ls[id] = Busy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got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BC_OFFHOOK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m.ev == i_alert_request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-&gt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ls[id] = Busy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partner = m.param;               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bcs_send_msg(alert, 0, sout[id]);             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got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BC_ALERTED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(m.ev == i_connect_request)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-&gt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got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BC_IDLE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fi;}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i="1" lang="en-US" sz="1600" spc="-1" strike="noStrike">
                <a:solidFill>
                  <a:srgbClr val="00ff00"/>
                </a:solidFill>
                <a:latin typeface="Courier New"/>
              </a:rPr>
              <a:t>[…]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S: Promel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1447920"/>
            <a:ext cx="89913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is code does not uses state information..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proctyp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bcs(byte id)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i="1" lang="en-US" sz="1600" spc="-1" strike="noStrike">
                <a:solidFill>
                  <a:srgbClr val="00ff00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TCS_1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atomic{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nempty(tcsin[id])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-&gt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tcsin[id]?m;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                 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f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                 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(m.ev == o_free)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-&gt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a=m.to;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got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TCS_2;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                 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else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got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TCS_1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                 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fi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fi;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TCS_2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atomic{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((a == screened1) || (a == screened2))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-&gt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send_msg(o_inform_screened, id, a, 0, tcsout[id]);             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got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TCS_1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::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else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-&gt;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got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TCS_1;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fi;}}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mulation: an Exampl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1676520"/>
            <a:ext cx="0" cy="46479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8" name="msc1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029120" cy="4876560"/>
          </a:xfrm>
          <a:prstGeom prst="rect">
            <a:avLst/>
          </a:prstGeom>
          <a:ln w="0">
            <a:noFill/>
          </a:ln>
        </p:spPr>
      </p:pic>
      <p:pic>
        <p:nvPicPr>
          <p:cNvPr id="139" name="msc2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40291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availability of state information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l without state information need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ssible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eatures and the legacy software respond to messag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haviour can be described as event sequences and these can be combined to tre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y of interactions needed that provides detection and resolution mechanisms which operate on these tre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haviour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Example Behaviour Tre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638680" y="2286000"/>
          <a:ext cx="301464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286000"/>
                    <a:ext cx="301464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33520" y="2286000"/>
          <a:ext cx="4800600" cy="384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48006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715000" y="1905120"/>
            <a:ext cx="0" cy="4038480"/>
          </a:xfrm>
          <a:prstGeom prst="line">
            <a:avLst/>
          </a:prstGeom>
          <a:ln cap="sq"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565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asic Call Mod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1523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Terminating Call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creen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 and Next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hievements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l of telephone system develope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ed for theory of interactions identifie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xt Steps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theory of interaction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algorithms for feature manag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ludes pruning of behaviour tree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ludes choice of best resolu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905120" y="3047760"/>
            <a:ext cx="5790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Any Questions?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of Wo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Joint work with Prof. Muffy Calder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ject: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ybrid Techniques for Detecting and Resolving Feature Interactions in Telecommunication Servic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tners: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versity of Strathclyd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itel (industrial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tel (industrial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dcs.gla.ac.uk/research/hfig/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520" y="380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ucture of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ature Manager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l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Why?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itial Mod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ur Tre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and targe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520" y="380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 Interaction - well known problem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Approaches do not take into account specific problems of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cy System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unreliable documentat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amounts of fragile cod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tary System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working is to be kept secre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detection and resolution mechanism of Marples and Magil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eature Manag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actional natur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cepts messages between users and featur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 messages are farmed out to all features in parall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messages are only passed to the user once interactions have been resolve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s interaction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solves interaction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ased on theoretical framework: off-line analysis and theory of interaction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ystem Archite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905120" y="1600200"/>
          <a:ext cx="5638680" cy="42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563868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520" y="380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delling - Wh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523880"/>
          <a:ext cx="667224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6722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523880" y="1523880"/>
          <a:ext cx="667224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6722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520" y="380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itial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1523880"/>
          <a:ext cx="8610480" cy="41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6104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5T12:12:26Z</dcterms:created>
  <dc:creator>sreiff</dc:creator>
  <dc:description/>
  <dc:language>en-US</dc:language>
  <cp:lastModifiedBy>sreiff</cp:lastModifiedBy>
  <cp:lastPrinted>1999-09-03T12:07:30Z</cp:lastPrinted>
  <dcterms:modified xsi:type="dcterms:W3CDTF">1999-09-03T12:24:18Z</dcterms:modified>
  <cp:revision>35</cp:revision>
  <dc:subject/>
  <dc:title>Modelling a telecommunications Switch with a Feature Manager</dc:title>
</cp:coreProperties>
</file>