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media/image8.png" ContentType="image/png"/>
  <Override PartName="/ppt/media/image9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15138" cy="9547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14800" cy="954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52720" cy="47772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4640" bIns="44640" anchor="t">
            <a:noAutofit/>
          </a:bodyPr>
          <a:p>
            <a:pPr marL="216000" indent="0">
              <a:buNone/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62440" y="-360"/>
            <a:ext cx="2952720" cy="47772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4640" bIns="44640" anchor="t">
            <a:noAutofit/>
          </a:bodyPr>
          <a:lstStyle>
            <a:lvl1pPr marL="216000" indent="0" algn="r">
              <a:buNone/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025640" y="716040"/>
            <a:ext cx="4773600" cy="357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07560" y="4533480"/>
            <a:ext cx="4999320" cy="429588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4640" bIns="446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0" y="9067680"/>
            <a:ext cx="2952720" cy="47808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4640" bIns="44640" anchor="b">
            <a:noAutofit/>
          </a:bodyPr>
          <a:lstStyle>
            <a:lvl1pPr marL="216000" indent="0">
              <a:buNone/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62440" y="9067680"/>
            <a:ext cx="2952720" cy="47808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4640" bIns="44640" anchor="b">
            <a:noAutofit/>
          </a:bodyPr>
          <a:lstStyle>
            <a:lvl1pPr marL="216000" indent="0" algn="r">
              <a:buNone/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fld id="{A90C064C-CD47-402A-9137-91D7B12F061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025640" y="716040"/>
            <a:ext cx="4773600" cy="357984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07560" y="4533480"/>
            <a:ext cx="4999320" cy="429588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4640" bIns="446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ork originated in GPT with a grant from the Royal Commission for the Exhibition of 1851 at University of Strathcly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ntinued at CITE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any of the ideas in the work are now in use in an operational environ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eature Interaction is the </a:t>
            </a: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Change in operation in one Feature which can be attributed to the presence of another Feature in the Environ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025640" y="716040"/>
            <a:ext cx="4773600" cy="357984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07560" y="4533480"/>
            <a:ext cx="4999320" cy="429588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4640" bIns="446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ypically this would be a pre-existent PABX or other swit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een around for a very long ti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ragile code. Often using legacy languag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se things exist - often the ‘cash cows’ for a busine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n’t predict operation because mathematically rigid system definitions are not available - often not even spe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ften the only way to figure out what the system will do in a given situation. is to try 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56DC3-1FDD-4B3D-B58A-BAD67F1F3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5FCA4-FFE8-4A0D-A9B0-5E5CAFA42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BFA36-C4DD-463C-AD18-B27DFD67B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E9363-F794-41FD-B8BB-832C799A4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EBF6D-FE7F-4F1E-8D0C-9D28CA2CA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E39D2-93EC-4A9F-A366-A6BA0ED47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E1024-1B5B-4B4E-B762-A841731EE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D61A1-BCB6-40BB-BA60-C8F89971F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FCB2A-F877-470C-8BD0-D25759E9B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AEFAF-D08B-42ED-BFE6-0410C48BD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B9A5A-FD6F-4143-A14E-E3CABABFC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149BA-784E-4EB1-B509-BAD2E30BB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20C73-9E58-4883-B0E0-B970CAD49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7F751-5828-4364-BCE9-4615A6B21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0A330-652D-4A37-BDEF-4164ACC5C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85692-18D3-4CBC-997F-8A2ED9790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8E726-A26F-46AA-A7A7-0F3D424AD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E8DA3-EFD6-4A95-8F00-B6AEB06C6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11B51-218E-48D4-91D7-52902494E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79B60-8565-4804-AE8F-E89CB3419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01792-5C2F-4183-8B07-53D011AB6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4D3EA-28D4-46A5-8D77-3C75A118A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A070E-5AA1-4451-94D8-8058118E9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94B8E-A986-41B7-9707-392DEB8EC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ccec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1277D-CAE8-4E94-8466-4EF711232355}" type="slidenum">
              <a:rPr b="1" lang="en-US" sz="1000" spc="-1" strike="noStrike">
                <a:solidFill>
                  <a:srgbClr val="ccecff"/>
                </a:solidFill>
                <a:latin typeface="Tahoma"/>
              </a:rPr>
              <a:t>&lt;number&gt;</a:t>
            </a:fld>
            <a:r>
              <a:rPr b="1" lang="en-US" sz="1000" spc="-1" strike="noStrike">
                <a:solidFill>
                  <a:srgbClr val="ccecff"/>
                </a:solidFill>
                <a:latin typeface="Tahoma"/>
              </a:rPr>
              <a:t>/1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194AF-B515-4CF9-AC0B-3776A317719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23047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ffff"/>
                </a:solidFill>
                <a:latin typeface="Tahoma"/>
              </a:rPr>
              <a:t>The Use of Rollback to Prevent Incorrect Operation of Features in Intelligent Network Based Systems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523880" y="5105520"/>
            <a:ext cx="70106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1" name=""/>
          <p:cNvSpPr/>
          <p:nvPr/>
        </p:nvSpPr>
        <p:spPr>
          <a:xfrm>
            <a:off x="1015560" y="5029200"/>
            <a:ext cx="3115800" cy="11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0000"/>
                </a:solidFill>
                <a:latin typeface="Tahoma"/>
              </a:rPr>
              <a:t>Dave Marples</a:t>
            </a:r>
            <a:endParaRPr b="0" lang="en-US" sz="30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ahoma"/>
              </a:rPr>
              <a:t>CITEL Technologies Ltd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ahoma"/>
              </a:rPr>
              <a:t>Dave.Marples@citel.com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004360" y="5029200"/>
            <a:ext cx="3250080" cy="11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0000"/>
                </a:solidFill>
                <a:latin typeface="Tahoma"/>
              </a:rPr>
              <a:t>Evan Magill</a:t>
            </a:r>
            <a:endParaRPr b="0" lang="en-US" sz="30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ahoma"/>
              </a:rPr>
              <a:t>University of Strathclyde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ahoma"/>
              </a:rPr>
              <a:t>E.Magill@eee.strath.ac.uk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93" name="bigcrest" descr=""/>
          <p:cNvPicPr/>
          <p:nvPr/>
        </p:nvPicPr>
        <p:blipFill>
          <a:blip r:embed="rId1"/>
          <a:stretch/>
        </p:blipFill>
        <p:spPr>
          <a:xfrm>
            <a:off x="5943600" y="3524400"/>
            <a:ext cx="1285920" cy="1409400"/>
          </a:xfrm>
          <a:prstGeom prst="rect">
            <a:avLst/>
          </a:prstGeom>
          <a:ln w="0">
            <a:noFill/>
          </a:ln>
        </p:spPr>
      </p:pic>
      <p:grpSp>
        <p:nvGrpSpPr>
          <p:cNvPr id="94" name=""/>
          <p:cNvGrpSpPr/>
          <p:nvPr/>
        </p:nvGrpSpPr>
        <p:grpSpPr>
          <a:xfrm>
            <a:off x="2055240" y="3524400"/>
            <a:ext cx="1090440" cy="1447560"/>
            <a:chOff x="2055240" y="3524400"/>
            <a:chExt cx="1090440" cy="1447560"/>
          </a:xfrm>
        </p:grpSpPr>
        <p:sp>
          <p:nvSpPr>
            <p:cNvPr id="95" name=""/>
            <p:cNvSpPr/>
            <p:nvPr/>
          </p:nvSpPr>
          <p:spPr>
            <a:xfrm>
              <a:off x="2057400" y="3524400"/>
              <a:ext cx="1066680" cy="1447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99cc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209680" y="3600360"/>
              <a:ext cx="762120" cy="762120"/>
            </a:xfrm>
            <a:prstGeom prst="ellipse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055240" y="4438800"/>
              <a:ext cx="1090440" cy="51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66"/>
                  </a:solidFill>
                  <a:latin typeface="Arial"/>
                </a:rPr>
                <a:t>CITEL</a:t>
              </a:r>
              <a:endParaRPr b="0" lang="en-US" sz="1600" spc="-1" strike="noStrike">
                <a:solidFill>
                  <a:srgbClr val="ccec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66"/>
                  </a:solidFill>
                  <a:latin typeface="Arial"/>
                </a:rPr>
                <a:t>Technologies</a:t>
              </a:r>
              <a:endParaRPr b="0" lang="en-US" sz="12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</p:spTree>
  </p:cSld>
  <p:transition>
    <p:pull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20720" y="267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ffff"/>
                </a:solidFill>
                <a:latin typeface="Tahoma"/>
              </a:rPr>
              <a:t>Outpu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720720" y="1627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ahoma"/>
              </a:rPr>
              <a:t>Graph of transitions in response to initial triggering event.  (Action Trace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ahoma"/>
              </a:rPr>
              <a:t>Automated resolution by rules (Feature x takes precedence over Feature y)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ahoma"/>
              </a:rPr>
              <a:t>Manual Resolution by Operator Intervention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ahoma"/>
              </a:rPr>
              <a:t>Automated ‘learned’ resolutions based on past experience (under development)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7149960" y="5607000"/>
            <a:ext cx="1774800" cy="1033560"/>
            <a:chOff x="7149960" y="5607000"/>
            <a:chExt cx="1774800" cy="1033560"/>
          </a:xfrm>
        </p:grpSpPr>
        <p:sp>
          <p:nvSpPr>
            <p:cNvPr id="179" name=""/>
            <p:cNvSpPr/>
            <p:nvPr/>
          </p:nvSpPr>
          <p:spPr>
            <a:xfrm>
              <a:off x="7149960" y="5607000"/>
              <a:ext cx="1774800" cy="10335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grpSp>
          <p:nvGrpSpPr>
            <p:cNvPr id="180" name=""/>
            <p:cNvGrpSpPr/>
            <p:nvPr/>
          </p:nvGrpSpPr>
          <p:grpSpPr>
            <a:xfrm>
              <a:off x="7211880" y="5664240"/>
              <a:ext cx="695160" cy="934920"/>
              <a:chOff x="7211880" y="5664240"/>
              <a:chExt cx="695160" cy="934920"/>
            </a:xfrm>
          </p:grpSpPr>
          <p:sp>
            <p:nvSpPr>
              <p:cNvPr id="181" name=""/>
              <p:cNvSpPr/>
              <p:nvPr/>
            </p:nvSpPr>
            <p:spPr>
              <a:xfrm>
                <a:off x="7211880" y="5664240"/>
                <a:ext cx="695160" cy="934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99cc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7311960" y="5713560"/>
                <a:ext cx="495360" cy="492120"/>
              </a:xfrm>
              <a:prstGeom prst="ellipse">
                <a:avLst/>
              </a:prstGeom>
              <a:gradFill rotWithShape="0">
                <a:gsLst>
                  <a:gs pos="0">
                    <a:srgbClr val="99ccff"/>
                  </a:gs>
                  <a:gs pos="100000">
                    <a:srgbClr val="0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</p:grpSp>
        <p:sp>
          <p:nvSpPr>
            <p:cNvPr id="183" name=""/>
            <p:cNvSpPr/>
            <p:nvPr/>
          </p:nvSpPr>
          <p:spPr>
            <a:xfrm>
              <a:off x="7168320" y="6192720"/>
              <a:ext cx="787320" cy="39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10000"/>
                  </a:solidFill>
                  <a:latin typeface="Arial"/>
                </a:rPr>
                <a:t>CITEL</a:t>
              </a:r>
              <a:endParaRPr b="0" lang="en-US" sz="1200" spc="-1" strike="noStrike">
                <a:solidFill>
                  <a:srgbClr val="ccec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10000"/>
                  </a:solidFill>
                  <a:latin typeface="Arial"/>
                </a:rPr>
                <a:t>Technologies</a:t>
              </a:r>
              <a:endParaRPr b="0" lang="en-US" sz="8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pic>
          <p:nvPicPr>
            <p:cNvPr id="184" name="bigcrest" descr=""/>
            <p:cNvPicPr/>
            <p:nvPr/>
          </p:nvPicPr>
          <p:blipFill>
            <a:blip r:embed="rId1"/>
            <a:stretch/>
          </p:blipFill>
          <p:spPr>
            <a:xfrm>
              <a:off x="8049960" y="5664240"/>
              <a:ext cx="868320" cy="952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5" name=""/>
          <p:cNvSpPr/>
          <p:nvPr/>
        </p:nvSpPr>
        <p:spPr>
          <a:xfrm>
            <a:off x="1962720" y="228600"/>
            <a:ext cx="7022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00"/>
                </a:solidFill>
                <a:latin typeface="Arial"/>
              </a:rPr>
              <a:t>Structure * Target System * </a:t>
            </a: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Algorithms</a:t>
            </a:r>
            <a:r>
              <a:rPr b="1" lang="en-GB" sz="14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en-GB" sz="1400" spc="-1" strike="noStrike">
                <a:solidFill>
                  <a:srgbClr val="ffff00"/>
                </a:solidFill>
                <a:latin typeface="Arial"/>
              </a:rPr>
              <a:t>* Implementation * Results * Conclusions</a:t>
            </a:r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8795D-08B8-42AA-A243-0574D85FEF21}" type="slidenum">
              <a:t>10</a:t>
            </a:fld>
          </a:p>
        </p:txBody>
      </p:sp>
    </p:spTree>
  </p:cSld>
  <p:transition>
    <p:pull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ffff"/>
                </a:solidFill>
                <a:latin typeface="Tahoma"/>
              </a:rPr>
              <a:t>Implementation of Syste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ahoma"/>
              </a:rPr>
              <a:t>Based around eight IN-style Features implemented as separate processes in a UNIX environment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ahoma"/>
              </a:rPr>
              <a:t>Whole system runs under DESK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ahoma"/>
              </a:rPr>
              <a:t>Runs on a Pentium II 233 system under Linux with the Hardware Subsystem in a DOS window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88" name=""/>
          <p:cNvSpPr/>
          <p:nvPr/>
        </p:nvSpPr>
        <p:spPr>
          <a:xfrm>
            <a:off x="1962720" y="228600"/>
            <a:ext cx="7022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00"/>
                </a:solidFill>
                <a:latin typeface="Arial"/>
              </a:rPr>
              <a:t>Structure * Target System * Algorithms * </a:t>
            </a: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Implementation</a:t>
            </a:r>
            <a:r>
              <a:rPr b="1" lang="en-GB" sz="14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en-GB" sz="1400" spc="-1" strike="noStrike">
                <a:solidFill>
                  <a:srgbClr val="ffff00"/>
                </a:solidFill>
                <a:latin typeface="Arial"/>
              </a:rPr>
              <a:t>* Results * Conclusions</a:t>
            </a:r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7149960" y="5607000"/>
            <a:ext cx="1774800" cy="1033560"/>
            <a:chOff x="7149960" y="5607000"/>
            <a:chExt cx="1774800" cy="1033560"/>
          </a:xfrm>
        </p:grpSpPr>
        <p:sp>
          <p:nvSpPr>
            <p:cNvPr id="190" name=""/>
            <p:cNvSpPr/>
            <p:nvPr/>
          </p:nvSpPr>
          <p:spPr>
            <a:xfrm>
              <a:off x="7149960" y="5607000"/>
              <a:ext cx="1774800" cy="10335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grpSp>
          <p:nvGrpSpPr>
            <p:cNvPr id="191" name=""/>
            <p:cNvGrpSpPr/>
            <p:nvPr/>
          </p:nvGrpSpPr>
          <p:grpSpPr>
            <a:xfrm>
              <a:off x="7211880" y="5664240"/>
              <a:ext cx="695160" cy="934920"/>
              <a:chOff x="7211880" y="5664240"/>
              <a:chExt cx="695160" cy="934920"/>
            </a:xfrm>
          </p:grpSpPr>
          <p:sp>
            <p:nvSpPr>
              <p:cNvPr id="192" name=""/>
              <p:cNvSpPr/>
              <p:nvPr/>
            </p:nvSpPr>
            <p:spPr>
              <a:xfrm>
                <a:off x="7211880" y="5664240"/>
                <a:ext cx="695160" cy="934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99cc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7311960" y="5713560"/>
                <a:ext cx="495360" cy="492120"/>
              </a:xfrm>
              <a:prstGeom prst="ellipse">
                <a:avLst/>
              </a:prstGeom>
              <a:gradFill rotWithShape="0">
                <a:gsLst>
                  <a:gs pos="0">
                    <a:srgbClr val="99ccff"/>
                  </a:gs>
                  <a:gs pos="100000">
                    <a:srgbClr val="0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7168320" y="6192720"/>
              <a:ext cx="787320" cy="39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10000"/>
                  </a:solidFill>
                  <a:latin typeface="Arial"/>
                </a:rPr>
                <a:t>CITEL</a:t>
              </a:r>
              <a:endParaRPr b="0" lang="en-US" sz="1200" spc="-1" strike="noStrike">
                <a:solidFill>
                  <a:srgbClr val="ccec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10000"/>
                  </a:solidFill>
                  <a:latin typeface="Arial"/>
                </a:rPr>
                <a:t>Technologies</a:t>
              </a:r>
              <a:endParaRPr b="0" lang="en-US" sz="8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pic>
          <p:nvPicPr>
            <p:cNvPr id="195" name="bigcrest" descr=""/>
            <p:cNvPicPr/>
            <p:nvPr/>
          </p:nvPicPr>
          <p:blipFill>
            <a:blip r:embed="rId1"/>
            <a:stretch/>
          </p:blipFill>
          <p:spPr>
            <a:xfrm>
              <a:off x="8049960" y="5664240"/>
              <a:ext cx="868320" cy="952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564C3-2552-4836-9E97-F0D83869311B}" type="slidenum">
              <a:t>11</a:t>
            </a:fld>
          </a:p>
        </p:txBody>
      </p:sp>
    </p:spTree>
  </p:cSld>
  <p:transition>
    <p:pull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276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ffff"/>
                </a:solidFill>
                <a:latin typeface="Tahoma"/>
              </a:rPr>
              <a:t>Sample Outpu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97" name="dnd" descr=""/>
          <p:cNvPicPr/>
          <p:nvPr/>
        </p:nvPicPr>
        <p:blipFill>
          <a:blip r:embed="rId1"/>
          <a:stretch/>
        </p:blipFill>
        <p:spPr>
          <a:xfrm>
            <a:off x="228600" y="190440"/>
            <a:ext cx="4976640" cy="6438960"/>
          </a:xfrm>
          <a:prstGeom prst="rect">
            <a:avLst/>
          </a:prstGeom>
          <a:ln w="63360">
            <a:solidFill>
              <a:srgbClr val="000000"/>
            </a:solidFill>
            <a:miter/>
          </a:ln>
        </p:spPr>
      </p:pic>
      <p:sp>
        <p:nvSpPr>
          <p:cNvPr id="198" name=""/>
          <p:cNvSpPr/>
          <p:nvPr/>
        </p:nvSpPr>
        <p:spPr>
          <a:xfrm>
            <a:off x="5245200" y="1676520"/>
            <a:ext cx="3111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Basic Call together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with Do Not Disturb.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326200" y="228600"/>
            <a:ext cx="3603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00"/>
                </a:solidFill>
                <a:latin typeface="Arial"/>
              </a:rPr>
              <a:t>Structure * Target System * Algorithms *</a:t>
            </a:r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400" spc="-1" strike="noStrike">
                <a:solidFill>
                  <a:srgbClr val="ffff00"/>
                </a:solidFill>
                <a:latin typeface="Arial"/>
              </a:rPr>
              <a:t>Implementation * </a:t>
            </a: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Results</a:t>
            </a:r>
            <a:r>
              <a:rPr b="1" lang="en-GB" sz="14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en-GB" sz="1400" spc="-1" strike="noStrike">
                <a:solidFill>
                  <a:srgbClr val="ffff00"/>
                </a:solidFill>
                <a:latin typeface="Arial"/>
              </a:rPr>
              <a:t>* Conclusions</a:t>
            </a:r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7149960" y="5607000"/>
            <a:ext cx="1774800" cy="1033560"/>
            <a:chOff x="7149960" y="5607000"/>
            <a:chExt cx="1774800" cy="1033560"/>
          </a:xfrm>
        </p:grpSpPr>
        <p:sp>
          <p:nvSpPr>
            <p:cNvPr id="201" name=""/>
            <p:cNvSpPr/>
            <p:nvPr/>
          </p:nvSpPr>
          <p:spPr>
            <a:xfrm>
              <a:off x="7149960" y="5607000"/>
              <a:ext cx="1774800" cy="10335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grpSp>
          <p:nvGrpSpPr>
            <p:cNvPr id="202" name=""/>
            <p:cNvGrpSpPr/>
            <p:nvPr/>
          </p:nvGrpSpPr>
          <p:grpSpPr>
            <a:xfrm>
              <a:off x="7211880" y="5664240"/>
              <a:ext cx="695160" cy="934920"/>
              <a:chOff x="7211880" y="5664240"/>
              <a:chExt cx="695160" cy="934920"/>
            </a:xfrm>
          </p:grpSpPr>
          <p:sp>
            <p:nvSpPr>
              <p:cNvPr id="203" name=""/>
              <p:cNvSpPr/>
              <p:nvPr/>
            </p:nvSpPr>
            <p:spPr>
              <a:xfrm>
                <a:off x="7211880" y="5664240"/>
                <a:ext cx="695160" cy="934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99cc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7311960" y="5713560"/>
                <a:ext cx="495360" cy="492120"/>
              </a:xfrm>
              <a:prstGeom prst="ellipse">
                <a:avLst/>
              </a:prstGeom>
              <a:gradFill rotWithShape="0">
                <a:gsLst>
                  <a:gs pos="0">
                    <a:srgbClr val="99ccff"/>
                  </a:gs>
                  <a:gs pos="100000">
                    <a:srgbClr val="0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</p:grpSp>
        <p:sp>
          <p:nvSpPr>
            <p:cNvPr id="205" name=""/>
            <p:cNvSpPr/>
            <p:nvPr/>
          </p:nvSpPr>
          <p:spPr>
            <a:xfrm>
              <a:off x="7168320" y="6192720"/>
              <a:ext cx="787320" cy="39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10000"/>
                  </a:solidFill>
                  <a:latin typeface="Arial"/>
                </a:rPr>
                <a:t>CITEL</a:t>
              </a:r>
              <a:endParaRPr b="0" lang="en-US" sz="1200" spc="-1" strike="noStrike">
                <a:solidFill>
                  <a:srgbClr val="ccec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10000"/>
                  </a:solidFill>
                  <a:latin typeface="Arial"/>
                </a:rPr>
                <a:t>Technologies</a:t>
              </a:r>
              <a:endParaRPr b="0" lang="en-US" sz="8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pic>
          <p:nvPicPr>
            <p:cNvPr id="206" name="bigcrest" descr=""/>
            <p:cNvPicPr/>
            <p:nvPr/>
          </p:nvPicPr>
          <p:blipFill>
            <a:blip r:embed="rId2"/>
            <a:stretch/>
          </p:blipFill>
          <p:spPr>
            <a:xfrm>
              <a:off x="8049960" y="5664240"/>
              <a:ext cx="868320" cy="952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FFB5E-FDBF-400C-A173-3BD3C645F92F}" type="slidenum">
              <a:t>12</a:t>
            </a:fld>
          </a:p>
        </p:txBody>
      </p:sp>
    </p:spTree>
  </p:cSld>
  <p:transition>
    <p:pull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0" y="-381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ffff"/>
                </a:solidFill>
                <a:latin typeface="Tahoma"/>
              </a:rPr>
              <a:t>BCM with DND and CFU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685800" y="914400"/>
          <a:ext cx="7621560" cy="5716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914400"/>
                    <a:ext cx="7621560" cy="5716440"/>
                  </a:xfrm>
                  <a:prstGeom prst="rect">
                    <a:avLst/>
                  </a:prstGeom>
                  <a:ln w="63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94286-3286-4205-A80B-41FB3BBCD8C8}" type="slidenum">
              <a:t>13</a:t>
            </a:fld>
          </a:p>
        </p:txBody>
      </p:sp>
    </p:spTree>
  </p:cSld>
  <p:transition>
    <p:pull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419720" y="990360"/>
            <a:ext cx="5486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ffff"/>
                </a:solidFill>
                <a:latin typeface="Tahoma"/>
              </a:rPr>
              <a:t>Sample Outpu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211" name="p2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4916520" cy="6362640"/>
          </a:xfrm>
          <a:prstGeom prst="rect">
            <a:avLst/>
          </a:prstGeom>
          <a:ln w="63360">
            <a:solidFill>
              <a:srgbClr val="000000"/>
            </a:solidFill>
            <a:miter/>
          </a:ln>
        </p:spPr>
      </p:pic>
      <p:sp>
        <p:nvSpPr>
          <p:cNvPr id="212" name=""/>
          <p:cNvSpPr/>
          <p:nvPr/>
        </p:nvSpPr>
        <p:spPr>
          <a:xfrm>
            <a:off x="5252400" y="2057400"/>
            <a:ext cx="299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BCM with CFU Loop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249880" y="304920"/>
            <a:ext cx="3603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00"/>
                </a:solidFill>
                <a:latin typeface="Arial"/>
              </a:rPr>
              <a:t>Structure * Target System * Algorithms *</a:t>
            </a:r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400" spc="-1" strike="noStrike">
                <a:solidFill>
                  <a:srgbClr val="ffff00"/>
                </a:solidFill>
                <a:latin typeface="Arial"/>
              </a:rPr>
              <a:t>Implementation * </a:t>
            </a: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Results</a:t>
            </a:r>
            <a:r>
              <a:rPr b="1" lang="en-GB" sz="14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en-GB" sz="1400" spc="-1" strike="noStrike">
                <a:solidFill>
                  <a:srgbClr val="ffff00"/>
                </a:solidFill>
                <a:latin typeface="Arial"/>
              </a:rPr>
              <a:t>* Conclusions</a:t>
            </a:r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7149960" y="5607000"/>
            <a:ext cx="1774800" cy="1033560"/>
            <a:chOff x="7149960" y="5607000"/>
            <a:chExt cx="1774800" cy="1033560"/>
          </a:xfrm>
        </p:grpSpPr>
        <p:sp>
          <p:nvSpPr>
            <p:cNvPr id="215" name=""/>
            <p:cNvSpPr/>
            <p:nvPr/>
          </p:nvSpPr>
          <p:spPr>
            <a:xfrm>
              <a:off x="7149960" y="5607000"/>
              <a:ext cx="1774800" cy="10335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grpSp>
          <p:nvGrpSpPr>
            <p:cNvPr id="216" name=""/>
            <p:cNvGrpSpPr/>
            <p:nvPr/>
          </p:nvGrpSpPr>
          <p:grpSpPr>
            <a:xfrm>
              <a:off x="7211880" y="5664240"/>
              <a:ext cx="695160" cy="934920"/>
              <a:chOff x="7211880" y="5664240"/>
              <a:chExt cx="695160" cy="934920"/>
            </a:xfrm>
          </p:grpSpPr>
          <p:sp>
            <p:nvSpPr>
              <p:cNvPr id="217" name=""/>
              <p:cNvSpPr/>
              <p:nvPr/>
            </p:nvSpPr>
            <p:spPr>
              <a:xfrm>
                <a:off x="7211880" y="5664240"/>
                <a:ext cx="695160" cy="934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99cc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7311960" y="5713560"/>
                <a:ext cx="495360" cy="492120"/>
              </a:xfrm>
              <a:prstGeom prst="ellipse">
                <a:avLst/>
              </a:prstGeom>
              <a:gradFill rotWithShape="0">
                <a:gsLst>
                  <a:gs pos="0">
                    <a:srgbClr val="99ccff"/>
                  </a:gs>
                  <a:gs pos="100000">
                    <a:srgbClr val="0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</p:grpSp>
        <p:sp>
          <p:nvSpPr>
            <p:cNvPr id="219" name=""/>
            <p:cNvSpPr/>
            <p:nvPr/>
          </p:nvSpPr>
          <p:spPr>
            <a:xfrm>
              <a:off x="7168320" y="6192720"/>
              <a:ext cx="787320" cy="39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10000"/>
                  </a:solidFill>
                  <a:latin typeface="Arial"/>
                </a:rPr>
                <a:t>CITEL</a:t>
              </a:r>
              <a:endParaRPr b="0" lang="en-US" sz="1200" spc="-1" strike="noStrike">
                <a:solidFill>
                  <a:srgbClr val="ccec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10000"/>
                  </a:solidFill>
                  <a:latin typeface="Arial"/>
                </a:rPr>
                <a:t>Technologies</a:t>
              </a:r>
              <a:endParaRPr b="0" lang="en-US" sz="8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pic>
          <p:nvPicPr>
            <p:cNvPr id="220" name="bigcrest" descr=""/>
            <p:cNvPicPr/>
            <p:nvPr/>
          </p:nvPicPr>
          <p:blipFill>
            <a:blip r:embed="rId2"/>
            <a:stretch/>
          </p:blipFill>
          <p:spPr>
            <a:xfrm>
              <a:off x="8049960" y="5664240"/>
              <a:ext cx="868320" cy="952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C9C47-8083-49E7-B8EB-00B18E82DC72}" type="slidenum">
              <a:t>14</a:t>
            </a:fld>
          </a:p>
        </p:txBody>
      </p:sp>
    </p:spTree>
  </p:cSld>
  <p:transition>
    <p:pull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ffff"/>
                </a:solidFill>
                <a:latin typeface="Tahoma"/>
              </a:rPr>
              <a:t>Result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1371600" y="1447920"/>
          <a:ext cx="6743880" cy="5219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447920"/>
                    <a:ext cx="6743880" cy="521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4" name=""/>
          <p:cNvSpPr/>
          <p:nvPr/>
        </p:nvSpPr>
        <p:spPr>
          <a:xfrm>
            <a:off x="1962720" y="228600"/>
            <a:ext cx="7022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00"/>
                </a:solidFill>
                <a:latin typeface="Arial"/>
              </a:rPr>
              <a:t>Structure * Target System * Algorithms * Implementation * </a:t>
            </a: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Results </a:t>
            </a:r>
            <a:r>
              <a:rPr b="1" lang="en-GB" sz="1400" spc="-1" strike="noStrike">
                <a:solidFill>
                  <a:srgbClr val="ffff00"/>
                </a:solidFill>
                <a:latin typeface="Arial"/>
              </a:rPr>
              <a:t>* Conclusions</a:t>
            </a:r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7A21C-C5ED-4446-A0FC-FF017D43F33A}" type="slidenum">
              <a:t>15</a:t>
            </a:fld>
          </a:p>
        </p:txBody>
      </p:sp>
    </p:spTree>
  </p:cSld>
  <p:transition>
    <p:pull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738360" y="299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ffff"/>
                </a:solidFill>
                <a:latin typeface="Tahoma"/>
              </a:rPr>
              <a:t>Analysis of Result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747360" y="1595160"/>
            <a:ext cx="7954920" cy="37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The technique does not generate false positive or negative results. It detects interaction</a:t>
            </a:r>
            <a:r>
              <a:rPr b="0" lang="en-GB" sz="2000" spc="-1" strike="noStrike" baseline="30000">
                <a:solidFill>
                  <a:srgbClr val="ffff00"/>
                </a:solidFill>
                <a:latin typeface="Tahoma"/>
              </a:rPr>
              <a:t>*</a:t>
            </a: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 in every case when the interaction occurs between two stable system states.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It is not possible to automatically resolve intention interactions using this, or any other, automatic system.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Missed trigger points are not detected using the technique. 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The action trace is a useful facility for seeing what features acted on a call to allow further analysis.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1962720" y="228600"/>
            <a:ext cx="702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00"/>
                </a:solidFill>
                <a:latin typeface="Arial"/>
              </a:rPr>
              <a:t>Structure * Target System * Algorithms * Implementation * Results * </a:t>
            </a: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Conclusions</a:t>
            </a:r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7149960" y="5607000"/>
            <a:ext cx="1774800" cy="1033560"/>
            <a:chOff x="7149960" y="5607000"/>
            <a:chExt cx="1774800" cy="1033560"/>
          </a:xfrm>
        </p:grpSpPr>
        <p:sp>
          <p:nvSpPr>
            <p:cNvPr id="229" name=""/>
            <p:cNvSpPr/>
            <p:nvPr/>
          </p:nvSpPr>
          <p:spPr>
            <a:xfrm>
              <a:off x="7149960" y="5607000"/>
              <a:ext cx="1774800" cy="10335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grpSp>
          <p:nvGrpSpPr>
            <p:cNvPr id="230" name=""/>
            <p:cNvGrpSpPr/>
            <p:nvPr/>
          </p:nvGrpSpPr>
          <p:grpSpPr>
            <a:xfrm>
              <a:off x="7211880" y="5664240"/>
              <a:ext cx="695160" cy="934920"/>
              <a:chOff x="7211880" y="5664240"/>
              <a:chExt cx="695160" cy="934920"/>
            </a:xfrm>
          </p:grpSpPr>
          <p:sp>
            <p:nvSpPr>
              <p:cNvPr id="231" name=""/>
              <p:cNvSpPr/>
              <p:nvPr/>
            </p:nvSpPr>
            <p:spPr>
              <a:xfrm>
                <a:off x="7211880" y="5664240"/>
                <a:ext cx="695160" cy="934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99cc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7311960" y="5713560"/>
                <a:ext cx="495360" cy="492120"/>
              </a:xfrm>
              <a:prstGeom prst="ellipse">
                <a:avLst/>
              </a:prstGeom>
              <a:gradFill rotWithShape="0">
                <a:gsLst>
                  <a:gs pos="0">
                    <a:srgbClr val="99ccff"/>
                  </a:gs>
                  <a:gs pos="100000">
                    <a:srgbClr val="0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</p:grpSp>
        <p:sp>
          <p:nvSpPr>
            <p:cNvPr id="233" name=""/>
            <p:cNvSpPr/>
            <p:nvPr/>
          </p:nvSpPr>
          <p:spPr>
            <a:xfrm>
              <a:off x="7168320" y="6192720"/>
              <a:ext cx="787320" cy="39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10000"/>
                  </a:solidFill>
                  <a:latin typeface="Arial"/>
                </a:rPr>
                <a:t>CITEL</a:t>
              </a:r>
              <a:endParaRPr b="0" lang="en-US" sz="1200" spc="-1" strike="noStrike">
                <a:solidFill>
                  <a:srgbClr val="ccec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10000"/>
                  </a:solidFill>
                  <a:latin typeface="Arial"/>
                </a:rPr>
                <a:t>Technologies</a:t>
              </a:r>
              <a:endParaRPr b="0" lang="en-US" sz="8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pic>
          <p:nvPicPr>
            <p:cNvPr id="234" name="bigcrest" descr=""/>
            <p:cNvPicPr/>
            <p:nvPr/>
          </p:nvPicPr>
          <p:blipFill>
            <a:blip r:embed="rId1"/>
            <a:stretch/>
          </p:blipFill>
          <p:spPr>
            <a:xfrm>
              <a:off x="8049960" y="5664240"/>
              <a:ext cx="868320" cy="952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2E55F-DCA9-4894-BEB9-5DE0741F36BF}" type="slidenum">
              <a:t>16</a:t>
            </a:fld>
          </a:p>
        </p:txBody>
      </p:sp>
    </p:spTree>
  </p:cSld>
  <p:transition>
    <p:pull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73836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ffff"/>
                </a:solidFill>
                <a:latin typeface="Tahoma"/>
              </a:rPr>
              <a:t>Conclusion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703440" y="1751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The use of RollBack opens up new techniques for the co-operative existence of multiple features.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Information about the internal architecture of Features is not required for the correct operation of the technique.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The technique works with existing feature sets. </a:t>
            </a:r>
            <a:r>
              <a:rPr b="0" i="1" lang="en-GB" sz="2400" spc="-1" strike="noStrike">
                <a:solidFill>
                  <a:srgbClr val="ffff00"/>
                </a:solidFill>
                <a:latin typeface="Tahoma"/>
              </a:rPr>
              <a:t>Legacy Compatible.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The communication and signalling used by the features is arbitrary - it doesn’t need to be IN.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1962720" y="228600"/>
            <a:ext cx="702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00"/>
                </a:solidFill>
                <a:latin typeface="Arial"/>
              </a:rPr>
              <a:t>Structure * Target System * Algorithms * Implementation * Results *</a:t>
            </a:r>
            <a:r>
              <a:rPr b="1" lang="en-GB" sz="14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Conclusions</a:t>
            </a:r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7149960" y="5607000"/>
            <a:ext cx="1774800" cy="1033560"/>
            <a:chOff x="7149960" y="5607000"/>
            <a:chExt cx="1774800" cy="1033560"/>
          </a:xfrm>
        </p:grpSpPr>
        <p:sp>
          <p:nvSpPr>
            <p:cNvPr id="239" name=""/>
            <p:cNvSpPr/>
            <p:nvPr/>
          </p:nvSpPr>
          <p:spPr>
            <a:xfrm>
              <a:off x="7149960" y="5607000"/>
              <a:ext cx="1774800" cy="10335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grpSp>
          <p:nvGrpSpPr>
            <p:cNvPr id="240" name=""/>
            <p:cNvGrpSpPr/>
            <p:nvPr/>
          </p:nvGrpSpPr>
          <p:grpSpPr>
            <a:xfrm>
              <a:off x="7211880" y="5664240"/>
              <a:ext cx="695160" cy="934920"/>
              <a:chOff x="7211880" y="5664240"/>
              <a:chExt cx="695160" cy="934920"/>
            </a:xfrm>
          </p:grpSpPr>
          <p:sp>
            <p:nvSpPr>
              <p:cNvPr id="241" name=""/>
              <p:cNvSpPr/>
              <p:nvPr/>
            </p:nvSpPr>
            <p:spPr>
              <a:xfrm>
                <a:off x="7211880" y="5664240"/>
                <a:ext cx="695160" cy="934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99cc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7311960" y="5713560"/>
                <a:ext cx="495360" cy="492120"/>
              </a:xfrm>
              <a:prstGeom prst="ellipse">
                <a:avLst/>
              </a:prstGeom>
              <a:gradFill rotWithShape="0">
                <a:gsLst>
                  <a:gs pos="0">
                    <a:srgbClr val="99ccff"/>
                  </a:gs>
                  <a:gs pos="100000">
                    <a:srgbClr val="0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</p:grpSp>
        <p:sp>
          <p:nvSpPr>
            <p:cNvPr id="243" name=""/>
            <p:cNvSpPr/>
            <p:nvPr/>
          </p:nvSpPr>
          <p:spPr>
            <a:xfrm>
              <a:off x="7168320" y="6192720"/>
              <a:ext cx="787320" cy="39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10000"/>
                  </a:solidFill>
                  <a:latin typeface="Arial"/>
                </a:rPr>
                <a:t>CITEL</a:t>
              </a:r>
              <a:endParaRPr b="0" lang="en-US" sz="1200" spc="-1" strike="noStrike">
                <a:solidFill>
                  <a:srgbClr val="ccec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10000"/>
                  </a:solidFill>
                  <a:latin typeface="Arial"/>
                </a:rPr>
                <a:t>Technologies</a:t>
              </a:r>
              <a:endParaRPr b="0" lang="en-US" sz="8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pic>
          <p:nvPicPr>
            <p:cNvPr id="244" name="bigcrest" descr=""/>
            <p:cNvPicPr/>
            <p:nvPr/>
          </p:nvPicPr>
          <p:blipFill>
            <a:blip r:embed="rId1"/>
            <a:stretch/>
          </p:blipFill>
          <p:spPr>
            <a:xfrm>
              <a:off x="8049960" y="5664240"/>
              <a:ext cx="868320" cy="952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65631-2F5B-44E7-AECB-AAE48A20BABC}" type="slidenum">
              <a:t>17</a:t>
            </a:fld>
          </a:p>
        </p:txBody>
      </p:sp>
    </p:spTree>
  </p:cSld>
  <p:transition>
    <p:pull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480" y="317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ffff"/>
                </a:solidFill>
                <a:latin typeface="Tahoma"/>
              </a:rPr>
              <a:t>Future Wor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793440" y="1962000"/>
            <a:ext cx="7891560" cy="425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Investigation of n-Feature Scenarios.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Investigation of long-lived Features.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Analysis of performance and scalability concerns.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Implementation of the technique in a real switching environment.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Exploration of hybrid approaches to FI using more formal specification and design-time techniques to supplement the runtime capabilities presented here.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47" name=""/>
          <p:cNvSpPr/>
          <p:nvPr/>
        </p:nvSpPr>
        <p:spPr>
          <a:xfrm>
            <a:off x="1962720" y="228600"/>
            <a:ext cx="702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00"/>
                </a:solidFill>
                <a:latin typeface="Arial"/>
              </a:rPr>
              <a:t>Structure * Target System * Algorithms * Implementation * Results * </a:t>
            </a: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Conclusions</a:t>
            </a:r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7149960" y="5607000"/>
            <a:ext cx="1774800" cy="1033560"/>
            <a:chOff x="7149960" y="5607000"/>
            <a:chExt cx="1774800" cy="1033560"/>
          </a:xfrm>
        </p:grpSpPr>
        <p:sp>
          <p:nvSpPr>
            <p:cNvPr id="249" name=""/>
            <p:cNvSpPr/>
            <p:nvPr/>
          </p:nvSpPr>
          <p:spPr>
            <a:xfrm>
              <a:off x="7149960" y="5607000"/>
              <a:ext cx="1774800" cy="10335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grpSp>
          <p:nvGrpSpPr>
            <p:cNvPr id="250" name=""/>
            <p:cNvGrpSpPr/>
            <p:nvPr/>
          </p:nvGrpSpPr>
          <p:grpSpPr>
            <a:xfrm>
              <a:off x="7211880" y="5664240"/>
              <a:ext cx="695160" cy="934920"/>
              <a:chOff x="7211880" y="5664240"/>
              <a:chExt cx="695160" cy="934920"/>
            </a:xfrm>
          </p:grpSpPr>
          <p:sp>
            <p:nvSpPr>
              <p:cNvPr id="251" name=""/>
              <p:cNvSpPr/>
              <p:nvPr/>
            </p:nvSpPr>
            <p:spPr>
              <a:xfrm>
                <a:off x="7211880" y="5664240"/>
                <a:ext cx="695160" cy="934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99cc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7311960" y="5713560"/>
                <a:ext cx="495360" cy="492120"/>
              </a:xfrm>
              <a:prstGeom prst="ellipse">
                <a:avLst/>
              </a:prstGeom>
              <a:gradFill rotWithShape="0">
                <a:gsLst>
                  <a:gs pos="0">
                    <a:srgbClr val="99ccff"/>
                  </a:gs>
                  <a:gs pos="100000">
                    <a:srgbClr val="0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</p:grpSp>
        <p:sp>
          <p:nvSpPr>
            <p:cNvPr id="253" name=""/>
            <p:cNvSpPr/>
            <p:nvPr/>
          </p:nvSpPr>
          <p:spPr>
            <a:xfrm>
              <a:off x="7168320" y="6192720"/>
              <a:ext cx="787320" cy="39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10000"/>
                  </a:solidFill>
                  <a:latin typeface="Arial"/>
                </a:rPr>
                <a:t>CITEL</a:t>
              </a:r>
              <a:endParaRPr b="0" lang="en-US" sz="1200" spc="-1" strike="noStrike">
                <a:solidFill>
                  <a:srgbClr val="ccec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10000"/>
                  </a:solidFill>
                  <a:latin typeface="Arial"/>
                </a:rPr>
                <a:t>Technologies</a:t>
              </a:r>
              <a:endParaRPr b="0" lang="en-US" sz="8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pic>
          <p:nvPicPr>
            <p:cNvPr id="254" name="bigcrest" descr=""/>
            <p:cNvPicPr/>
            <p:nvPr/>
          </p:nvPicPr>
          <p:blipFill>
            <a:blip r:embed="rId1"/>
            <a:stretch/>
          </p:blipFill>
          <p:spPr>
            <a:xfrm>
              <a:off x="8049960" y="5664240"/>
              <a:ext cx="868320" cy="952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8F138-56E5-4458-8B12-C3B2D8073F47}" type="slidenum">
              <a:t>18</a:t>
            </a:fld>
          </a:p>
        </p:txBody>
      </p:sp>
    </p:spTree>
  </p:cSld>
  <p:transition>
    <p:pull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ffff"/>
                </a:solidFill>
                <a:latin typeface="Tahoma"/>
              </a:rPr>
              <a:t>Structure of Presentati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ahoma"/>
              </a:rPr>
              <a:t>Introduc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ahoma"/>
              </a:rPr>
              <a:t>Target System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ahoma"/>
              </a:rPr>
              <a:t>Algorithm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ahoma"/>
              </a:rPr>
              <a:t>System Implementa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ahoma"/>
              </a:rPr>
              <a:t>Result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ahoma"/>
              </a:rPr>
              <a:t>Conclusion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00" name=""/>
          <p:cNvSpPr/>
          <p:nvPr/>
        </p:nvSpPr>
        <p:spPr>
          <a:xfrm>
            <a:off x="1962720" y="228600"/>
            <a:ext cx="702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Structure</a:t>
            </a:r>
            <a:r>
              <a:rPr b="1" lang="en-GB" sz="14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en-GB" sz="1400" spc="-1" strike="noStrike">
                <a:solidFill>
                  <a:srgbClr val="ffff00"/>
                </a:solidFill>
                <a:latin typeface="Arial"/>
              </a:rPr>
              <a:t>* Target System * Algorithms * Implementation * Results * Conclusions</a:t>
            </a:r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7149960" y="5607000"/>
            <a:ext cx="1774800" cy="1033560"/>
            <a:chOff x="7149960" y="5607000"/>
            <a:chExt cx="1774800" cy="1033560"/>
          </a:xfrm>
        </p:grpSpPr>
        <p:sp>
          <p:nvSpPr>
            <p:cNvPr id="102" name=""/>
            <p:cNvSpPr/>
            <p:nvPr/>
          </p:nvSpPr>
          <p:spPr>
            <a:xfrm>
              <a:off x="7149960" y="5607000"/>
              <a:ext cx="1774800" cy="10335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grpSp>
          <p:nvGrpSpPr>
            <p:cNvPr id="103" name=""/>
            <p:cNvGrpSpPr/>
            <p:nvPr/>
          </p:nvGrpSpPr>
          <p:grpSpPr>
            <a:xfrm>
              <a:off x="7211880" y="5664240"/>
              <a:ext cx="695160" cy="934920"/>
              <a:chOff x="7211880" y="5664240"/>
              <a:chExt cx="695160" cy="934920"/>
            </a:xfrm>
          </p:grpSpPr>
          <p:sp>
            <p:nvSpPr>
              <p:cNvPr id="104" name=""/>
              <p:cNvSpPr/>
              <p:nvPr/>
            </p:nvSpPr>
            <p:spPr>
              <a:xfrm>
                <a:off x="7211880" y="5664240"/>
                <a:ext cx="695160" cy="934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99cc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311960" y="5713560"/>
                <a:ext cx="495360" cy="492120"/>
              </a:xfrm>
              <a:prstGeom prst="ellipse">
                <a:avLst/>
              </a:prstGeom>
              <a:gradFill rotWithShape="0">
                <a:gsLst>
                  <a:gs pos="0">
                    <a:srgbClr val="99ccff"/>
                  </a:gs>
                  <a:gs pos="100000">
                    <a:srgbClr val="0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</p:grpSp>
        <p:sp>
          <p:nvSpPr>
            <p:cNvPr id="106" name=""/>
            <p:cNvSpPr/>
            <p:nvPr/>
          </p:nvSpPr>
          <p:spPr>
            <a:xfrm>
              <a:off x="7168320" y="6192720"/>
              <a:ext cx="787320" cy="39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10000"/>
                  </a:solidFill>
                  <a:latin typeface="Arial"/>
                </a:rPr>
                <a:t>CITEL</a:t>
              </a:r>
              <a:endParaRPr b="0" lang="en-US" sz="1200" spc="-1" strike="noStrike">
                <a:solidFill>
                  <a:srgbClr val="ccec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10000"/>
                  </a:solidFill>
                  <a:latin typeface="Arial"/>
                </a:rPr>
                <a:t>Technologies</a:t>
              </a:r>
              <a:endParaRPr b="0" lang="en-US" sz="8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pic>
          <p:nvPicPr>
            <p:cNvPr id="107" name="bigcrest" descr=""/>
            <p:cNvPicPr/>
            <p:nvPr/>
          </p:nvPicPr>
          <p:blipFill>
            <a:blip r:embed="rId1"/>
            <a:stretch/>
          </p:blipFill>
          <p:spPr>
            <a:xfrm>
              <a:off x="8049960" y="5664240"/>
              <a:ext cx="868320" cy="952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303A5-46D2-4AA0-B50F-46F0BC92EC03}" type="slidenum">
              <a:t>2</a:t>
            </a:fld>
          </a:p>
        </p:txBody>
      </p:sp>
    </p:spTree>
  </p:cSld>
  <p:transition>
    <p:pull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ffff"/>
                </a:solidFill>
                <a:latin typeface="Tahoma"/>
              </a:rPr>
              <a:t>Target Syste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ahoma"/>
              </a:rPr>
              <a:t>A pre-existent switching system that requires new features to be added, potentially by multiple independent agencies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ahoma"/>
              </a:rPr>
              <a:t>A system that is difficult or impossible to predict based on the information that is available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10" name=""/>
          <p:cNvSpPr/>
          <p:nvPr/>
        </p:nvSpPr>
        <p:spPr>
          <a:xfrm>
            <a:off x="1962720" y="228600"/>
            <a:ext cx="7022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00"/>
                </a:solidFill>
                <a:latin typeface="Arial"/>
              </a:rPr>
              <a:t>Structure *</a:t>
            </a:r>
            <a:r>
              <a:rPr b="1" lang="en-GB" sz="14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Target System</a:t>
            </a:r>
            <a:r>
              <a:rPr b="1" lang="en-GB" sz="14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en-GB" sz="1400" spc="-1" strike="noStrike">
                <a:solidFill>
                  <a:srgbClr val="ffff00"/>
                </a:solidFill>
                <a:latin typeface="Arial"/>
              </a:rPr>
              <a:t>* Algorithms * Implementation * Results * Conclusions</a:t>
            </a:r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7149960" y="5607000"/>
            <a:ext cx="1774800" cy="1033560"/>
            <a:chOff x="7149960" y="5607000"/>
            <a:chExt cx="1774800" cy="1033560"/>
          </a:xfrm>
        </p:grpSpPr>
        <p:sp>
          <p:nvSpPr>
            <p:cNvPr id="112" name=""/>
            <p:cNvSpPr/>
            <p:nvPr/>
          </p:nvSpPr>
          <p:spPr>
            <a:xfrm>
              <a:off x="7149960" y="5607000"/>
              <a:ext cx="1774800" cy="10335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grpSp>
          <p:nvGrpSpPr>
            <p:cNvPr id="113" name=""/>
            <p:cNvGrpSpPr/>
            <p:nvPr/>
          </p:nvGrpSpPr>
          <p:grpSpPr>
            <a:xfrm>
              <a:off x="7211880" y="5664240"/>
              <a:ext cx="695160" cy="934920"/>
              <a:chOff x="7211880" y="5664240"/>
              <a:chExt cx="695160" cy="934920"/>
            </a:xfrm>
          </p:grpSpPr>
          <p:sp>
            <p:nvSpPr>
              <p:cNvPr id="114" name=""/>
              <p:cNvSpPr/>
              <p:nvPr/>
            </p:nvSpPr>
            <p:spPr>
              <a:xfrm>
                <a:off x="7211880" y="5664240"/>
                <a:ext cx="695160" cy="934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99cc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7311960" y="5713560"/>
                <a:ext cx="495360" cy="492120"/>
              </a:xfrm>
              <a:prstGeom prst="ellipse">
                <a:avLst/>
              </a:prstGeom>
              <a:gradFill rotWithShape="0">
                <a:gsLst>
                  <a:gs pos="0">
                    <a:srgbClr val="99ccff"/>
                  </a:gs>
                  <a:gs pos="100000">
                    <a:srgbClr val="0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</p:grpSp>
        <p:sp>
          <p:nvSpPr>
            <p:cNvPr id="116" name=""/>
            <p:cNvSpPr/>
            <p:nvPr/>
          </p:nvSpPr>
          <p:spPr>
            <a:xfrm>
              <a:off x="7168320" y="6192720"/>
              <a:ext cx="787320" cy="39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10000"/>
                  </a:solidFill>
                  <a:latin typeface="Arial"/>
                </a:rPr>
                <a:t>CITEL</a:t>
              </a:r>
              <a:endParaRPr b="0" lang="en-US" sz="1200" spc="-1" strike="noStrike">
                <a:solidFill>
                  <a:srgbClr val="ccec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10000"/>
                  </a:solidFill>
                  <a:latin typeface="Arial"/>
                </a:rPr>
                <a:t>Technologies</a:t>
              </a:r>
              <a:endParaRPr b="0" lang="en-US" sz="8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pic>
          <p:nvPicPr>
            <p:cNvPr id="117" name="bigcrest" descr=""/>
            <p:cNvPicPr/>
            <p:nvPr/>
          </p:nvPicPr>
          <p:blipFill>
            <a:blip r:embed="rId1"/>
            <a:stretch/>
          </p:blipFill>
          <p:spPr>
            <a:xfrm>
              <a:off x="8049960" y="5664240"/>
              <a:ext cx="868320" cy="952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CC9FE-B951-47F0-BBE1-970485BE8746}" type="slidenum">
              <a:t>3</a:t>
            </a:fld>
          </a:p>
        </p:txBody>
      </p:sp>
    </p:spTree>
  </p:cSld>
  <p:transition>
    <p:pull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ffff"/>
                </a:solidFill>
                <a:latin typeface="Tahoma"/>
              </a:rPr>
              <a:t>The Overall Syste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9" name=""/>
          <p:cNvSpPr/>
          <p:nvPr/>
        </p:nvSpPr>
        <p:spPr>
          <a:xfrm>
            <a:off x="1962720" y="228600"/>
            <a:ext cx="7022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00"/>
                </a:solidFill>
                <a:latin typeface="Arial"/>
              </a:rPr>
              <a:t>Structure * Target System *</a:t>
            </a:r>
            <a:r>
              <a:rPr b="1" lang="en-GB" sz="14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Algorithms</a:t>
            </a:r>
            <a:r>
              <a:rPr b="1" lang="en-GB" sz="14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en-GB" sz="1400" spc="-1" strike="noStrike">
                <a:solidFill>
                  <a:srgbClr val="ffff00"/>
                </a:solidFill>
                <a:latin typeface="Arial"/>
              </a:rPr>
              <a:t>* Implementation * Results * Conclusions</a:t>
            </a:r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457200" y="1371600"/>
          <a:ext cx="9048600" cy="548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371600"/>
                    <a:ext cx="9048600" cy="54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22" name=""/>
          <p:cNvGrpSpPr/>
          <p:nvPr/>
        </p:nvGrpSpPr>
        <p:grpSpPr>
          <a:xfrm>
            <a:off x="7149960" y="5607000"/>
            <a:ext cx="1774800" cy="1033560"/>
            <a:chOff x="7149960" y="5607000"/>
            <a:chExt cx="1774800" cy="1033560"/>
          </a:xfrm>
        </p:grpSpPr>
        <p:sp>
          <p:nvSpPr>
            <p:cNvPr id="123" name=""/>
            <p:cNvSpPr/>
            <p:nvPr/>
          </p:nvSpPr>
          <p:spPr>
            <a:xfrm>
              <a:off x="7149960" y="5607000"/>
              <a:ext cx="1774800" cy="10335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grpSp>
          <p:nvGrpSpPr>
            <p:cNvPr id="124" name=""/>
            <p:cNvGrpSpPr/>
            <p:nvPr/>
          </p:nvGrpSpPr>
          <p:grpSpPr>
            <a:xfrm>
              <a:off x="7211880" y="5664240"/>
              <a:ext cx="695160" cy="934920"/>
              <a:chOff x="7211880" y="5664240"/>
              <a:chExt cx="695160" cy="934920"/>
            </a:xfrm>
          </p:grpSpPr>
          <p:sp>
            <p:nvSpPr>
              <p:cNvPr id="125" name=""/>
              <p:cNvSpPr/>
              <p:nvPr/>
            </p:nvSpPr>
            <p:spPr>
              <a:xfrm>
                <a:off x="7211880" y="5664240"/>
                <a:ext cx="695160" cy="934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99cc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311960" y="5713560"/>
                <a:ext cx="495360" cy="492120"/>
              </a:xfrm>
              <a:prstGeom prst="ellipse">
                <a:avLst/>
              </a:prstGeom>
              <a:gradFill rotWithShape="0">
                <a:gsLst>
                  <a:gs pos="0">
                    <a:srgbClr val="99ccff"/>
                  </a:gs>
                  <a:gs pos="100000">
                    <a:srgbClr val="0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</p:grpSp>
        <p:sp>
          <p:nvSpPr>
            <p:cNvPr id="127" name=""/>
            <p:cNvSpPr/>
            <p:nvPr/>
          </p:nvSpPr>
          <p:spPr>
            <a:xfrm>
              <a:off x="7168320" y="6192720"/>
              <a:ext cx="787320" cy="39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10000"/>
                  </a:solidFill>
                  <a:latin typeface="Arial"/>
                </a:rPr>
                <a:t>CITEL</a:t>
              </a:r>
              <a:endParaRPr b="0" lang="en-US" sz="1200" spc="-1" strike="noStrike">
                <a:solidFill>
                  <a:srgbClr val="ccec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10000"/>
                  </a:solidFill>
                  <a:latin typeface="Arial"/>
                </a:rPr>
                <a:t>Technologies</a:t>
              </a:r>
              <a:endParaRPr b="0" lang="en-US" sz="8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pic>
          <p:nvPicPr>
            <p:cNvPr id="128" name="bigcrest" descr=""/>
            <p:cNvPicPr/>
            <p:nvPr/>
          </p:nvPicPr>
          <p:blipFill>
            <a:blip r:embed="rId3"/>
            <a:stretch/>
          </p:blipFill>
          <p:spPr>
            <a:xfrm>
              <a:off x="8049960" y="5664240"/>
              <a:ext cx="868320" cy="952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73541-21C1-4E2C-8F0A-03A8DDE917A9}" type="slidenum">
              <a:t>4</a:t>
            </a:fld>
          </a:p>
        </p:txBody>
      </p:sp>
    </p:spTree>
  </p:cSld>
  <p:transition>
    <p:pull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ffff"/>
                </a:solidFill>
                <a:latin typeface="Tahoma"/>
              </a:rPr>
              <a:t>A Typical Featur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3581280" y="1828800"/>
          <a:ext cx="2455920" cy="426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81280" y="1828800"/>
                    <a:ext cx="2455920" cy="426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32" name=""/>
          <p:cNvGrpSpPr/>
          <p:nvPr/>
        </p:nvGrpSpPr>
        <p:grpSpPr>
          <a:xfrm>
            <a:off x="7149960" y="5607000"/>
            <a:ext cx="1774800" cy="1033560"/>
            <a:chOff x="7149960" y="5607000"/>
            <a:chExt cx="1774800" cy="1033560"/>
          </a:xfrm>
        </p:grpSpPr>
        <p:sp>
          <p:nvSpPr>
            <p:cNvPr id="133" name=""/>
            <p:cNvSpPr/>
            <p:nvPr/>
          </p:nvSpPr>
          <p:spPr>
            <a:xfrm>
              <a:off x="7149960" y="5607000"/>
              <a:ext cx="1774800" cy="10335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grpSp>
          <p:nvGrpSpPr>
            <p:cNvPr id="134" name=""/>
            <p:cNvGrpSpPr/>
            <p:nvPr/>
          </p:nvGrpSpPr>
          <p:grpSpPr>
            <a:xfrm>
              <a:off x="7211880" y="5664240"/>
              <a:ext cx="695160" cy="934920"/>
              <a:chOff x="7211880" y="5664240"/>
              <a:chExt cx="695160" cy="934920"/>
            </a:xfrm>
          </p:grpSpPr>
          <p:sp>
            <p:nvSpPr>
              <p:cNvPr id="135" name=""/>
              <p:cNvSpPr/>
              <p:nvPr/>
            </p:nvSpPr>
            <p:spPr>
              <a:xfrm>
                <a:off x="7211880" y="5664240"/>
                <a:ext cx="695160" cy="934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99cc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7311960" y="5713560"/>
                <a:ext cx="495360" cy="492120"/>
              </a:xfrm>
              <a:prstGeom prst="ellipse">
                <a:avLst/>
              </a:prstGeom>
              <a:gradFill rotWithShape="0">
                <a:gsLst>
                  <a:gs pos="0">
                    <a:srgbClr val="99ccff"/>
                  </a:gs>
                  <a:gs pos="100000">
                    <a:srgbClr val="0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</p:grpSp>
        <p:sp>
          <p:nvSpPr>
            <p:cNvPr id="137" name=""/>
            <p:cNvSpPr/>
            <p:nvPr/>
          </p:nvSpPr>
          <p:spPr>
            <a:xfrm>
              <a:off x="7168320" y="6192720"/>
              <a:ext cx="787320" cy="39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10000"/>
                  </a:solidFill>
                  <a:latin typeface="Arial"/>
                </a:rPr>
                <a:t>CITEL</a:t>
              </a:r>
              <a:endParaRPr b="0" lang="en-US" sz="1200" spc="-1" strike="noStrike">
                <a:solidFill>
                  <a:srgbClr val="ccec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10000"/>
                  </a:solidFill>
                  <a:latin typeface="Arial"/>
                </a:rPr>
                <a:t>Technologies</a:t>
              </a:r>
              <a:endParaRPr b="0" lang="en-US" sz="8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pic>
          <p:nvPicPr>
            <p:cNvPr id="138" name="bigcrest" descr=""/>
            <p:cNvPicPr/>
            <p:nvPr/>
          </p:nvPicPr>
          <p:blipFill>
            <a:blip r:embed="rId3"/>
            <a:stretch/>
          </p:blipFill>
          <p:spPr>
            <a:xfrm>
              <a:off x="8049960" y="5664240"/>
              <a:ext cx="868320" cy="952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9" name=""/>
          <p:cNvSpPr/>
          <p:nvPr/>
        </p:nvSpPr>
        <p:spPr>
          <a:xfrm>
            <a:off x="1962720" y="228600"/>
            <a:ext cx="7022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00"/>
                </a:solidFill>
                <a:latin typeface="Arial"/>
              </a:rPr>
              <a:t>Structure * Target System * </a:t>
            </a: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Algorithms</a:t>
            </a:r>
            <a:r>
              <a:rPr b="1" lang="en-GB" sz="14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en-GB" sz="1400" spc="-1" strike="noStrike">
                <a:solidFill>
                  <a:srgbClr val="ffff00"/>
                </a:solidFill>
                <a:latin typeface="Arial"/>
              </a:rPr>
              <a:t>* Implementation * Results * Conclusions</a:t>
            </a:r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87B50-D647-4293-BBAA-8D817CD12AD6}" type="slidenum">
              <a:t>5</a:t>
            </a:fld>
          </a:p>
        </p:txBody>
      </p:sp>
    </p:spTree>
  </p:cSld>
  <p:transition>
    <p:pull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ffff"/>
                </a:solidFill>
                <a:latin typeface="Tahoma"/>
              </a:rPr>
              <a:t>The Feature Controll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ahoma"/>
              </a:rPr>
              <a:t>Behaves like the switching system from the perspective of the feature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ahoma"/>
              </a:rPr>
              <a:t>Is capable of rolling back the feature to some previous defined state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ahoma"/>
              </a:rPr>
              <a:t>Performs other arbitrary management functions on behalf of the system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ahoma"/>
              </a:rPr>
              <a:t>Can be ‘retrofitted’ to legacy</a:t>
            </a:r>
            <a:br>
              <a:rPr sz="3200"/>
            </a:br>
            <a:r>
              <a:rPr b="0" lang="en-GB" sz="3200" spc="-1" strike="noStrike">
                <a:solidFill>
                  <a:srgbClr val="ffff00"/>
                </a:solidFill>
                <a:latin typeface="Tahoma"/>
              </a:rPr>
              <a:t>Features and Clumps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7149960" y="5607000"/>
            <a:ext cx="1774800" cy="1033560"/>
            <a:chOff x="7149960" y="5607000"/>
            <a:chExt cx="1774800" cy="1033560"/>
          </a:xfrm>
        </p:grpSpPr>
        <p:sp>
          <p:nvSpPr>
            <p:cNvPr id="143" name=""/>
            <p:cNvSpPr/>
            <p:nvPr/>
          </p:nvSpPr>
          <p:spPr>
            <a:xfrm>
              <a:off x="7149960" y="5607000"/>
              <a:ext cx="1774800" cy="10335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grpSp>
          <p:nvGrpSpPr>
            <p:cNvPr id="144" name=""/>
            <p:cNvGrpSpPr/>
            <p:nvPr/>
          </p:nvGrpSpPr>
          <p:grpSpPr>
            <a:xfrm>
              <a:off x="7211880" y="5664240"/>
              <a:ext cx="695160" cy="934920"/>
              <a:chOff x="7211880" y="5664240"/>
              <a:chExt cx="695160" cy="934920"/>
            </a:xfrm>
          </p:grpSpPr>
          <p:sp>
            <p:nvSpPr>
              <p:cNvPr id="145" name=""/>
              <p:cNvSpPr/>
              <p:nvPr/>
            </p:nvSpPr>
            <p:spPr>
              <a:xfrm>
                <a:off x="7211880" y="5664240"/>
                <a:ext cx="695160" cy="934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99cc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7311960" y="5713560"/>
                <a:ext cx="495360" cy="492120"/>
              </a:xfrm>
              <a:prstGeom prst="ellipse">
                <a:avLst/>
              </a:prstGeom>
              <a:gradFill rotWithShape="0">
                <a:gsLst>
                  <a:gs pos="0">
                    <a:srgbClr val="99ccff"/>
                  </a:gs>
                  <a:gs pos="100000">
                    <a:srgbClr val="0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</p:grpSp>
        <p:sp>
          <p:nvSpPr>
            <p:cNvPr id="147" name=""/>
            <p:cNvSpPr/>
            <p:nvPr/>
          </p:nvSpPr>
          <p:spPr>
            <a:xfrm>
              <a:off x="7168320" y="6192720"/>
              <a:ext cx="787320" cy="39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10000"/>
                  </a:solidFill>
                  <a:latin typeface="Arial"/>
                </a:rPr>
                <a:t>CITEL</a:t>
              </a:r>
              <a:endParaRPr b="0" lang="en-US" sz="1200" spc="-1" strike="noStrike">
                <a:solidFill>
                  <a:srgbClr val="ccec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10000"/>
                  </a:solidFill>
                  <a:latin typeface="Arial"/>
                </a:rPr>
                <a:t>Technologies</a:t>
              </a:r>
              <a:endParaRPr b="0" lang="en-US" sz="8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pic>
          <p:nvPicPr>
            <p:cNvPr id="148" name="bigcrest" descr=""/>
            <p:cNvPicPr/>
            <p:nvPr/>
          </p:nvPicPr>
          <p:blipFill>
            <a:blip r:embed="rId1"/>
            <a:stretch/>
          </p:blipFill>
          <p:spPr>
            <a:xfrm>
              <a:off x="8049960" y="5664240"/>
              <a:ext cx="868320" cy="952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9" name=""/>
          <p:cNvSpPr/>
          <p:nvPr/>
        </p:nvSpPr>
        <p:spPr>
          <a:xfrm>
            <a:off x="1962720" y="228600"/>
            <a:ext cx="7022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00"/>
                </a:solidFill>
                <a:latin typeface="Arial"/>
              </a:rPr>
              <a:t>Structure * Target System * </a:t>
            </a: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Algorithms</a:t>
            </a:r>
            <a:r>
              <a:rPr b="1" lang="en-GB" sz="14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en-GB" sz="1400" spc="-1" strike="noStrike">
                <a:solidFill>
                  <a:srgbClr val="ffff00"/>
                </a:solidFill>
                <a:latin typeface="Arial"/>
              </a:rPr>
              <a:t>* Implementation * Results * Conclusions</a:t>
            </a:r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E69AC-307D-4638-AB9E-797C5A313AF9}" type="slidenum">
              <a:t>6</a:t>
            </a:fld>
          </a:p>
        </p:txBody>
      </p:sp>
    </p:spTree>
  </p:cSld>
  <p:transition>
    <p:pull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741240" y="1198440"/>
            <a:ext cx="3546720" cy="5432400"/>
          </a:xfrm>
          <a:prstGeom prst="rect">
            <a:avLst/>
          </a:prstGeom>
          <a:solidFill>
            <a:srgbClr val="ccffff"/>
          </a:soli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ffff"/>
                </a:solidFill>
                <a:latin typeface="Tahoma"/>
              </a:rPr>
              <a:t>Feature Operati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2" name=""/>
          <p:cNvSpPr/>
          <p:nvPr/>
        </p:nvSpPr>
        <p:spPr>
          <a:xfrm>
            <a:off x="1962720" y="228600"/>
            <a:ext cx="7022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00"/>
                </a:solidFill>
                <a:latin typeface="Arial"/>
              </a:rPr>
              <a:t>Structure * Target System * </a:t>
            </a: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Algorithms</a:t>
            </a:r>
            <a:r>
              <a:rPr b="1" lang="en-GB" sz="14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en-GB" sz="1400" spc="-1" strike="noStrike">
                <a:solidFill>
                  <a:srgbClr val="ffff00"/>
                </a:solidFill>
                <a:latin typeface="Arial"/>
              </a:rPr>
              <a:t>* Implementation * Results * Conclusions</a:t>
            </a:r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941400" y="1805040"/>
          <a:ext cx="3181320" cy="462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41400" y="1805040"/>
                    <a:ext cx="3181320" cy="462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" name=""/>
          <p:cNvSpPr/>
          <p:nvPr/>
        </p:nvSpPr>
        <p:spPr>
          <a:xfrm>
            <a:off x="1449360" y="1255680"/>
            <a:ext cx="207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mit Case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5C212-B926-46C2-8457-08088538C27E}" type="slidenum">
              <a:t>7</a:t>
            </a:fld>
          </a:p>
        </p:txBody>
      </p:sp>
    </p:spTree>
  </p:cSld>
  <p:transition>
    <p:pull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741240" y="1198440"/>
            <a:ext cx="3546720" cy="5432400"/>
          </a:xfrm>
          <a:prstGeom prst="rect">
            <a:avLst/>
          </a:prstGeom>
          <a:solidFill>
            <a:srgbClr val="ccffff"/>
          </a:soli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ffff"/>
                </a:solidFill>
                <a:latin typeface="Tahoma"/>
              </a:rPr>
              <a:t>Feature Operati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8" name=""/>
          <p:cNvSpPr/>
          <p:nvPr/>
        </p:nvSpPr>
        <p:spPr>
          <a:xfrm>
            <a:off x="1962720" y="228600"/>
            <a:ext cx="7022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00"/>
                </a:solidFill>
                <a:latin typeface="Arial"/>
              </a:rPr>
              <a:t>Structure * Target System * </a:t>
            </a: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Algorithms</a:t>
            </a:r>
            <a:r>
              <a:rPr b="1" lang="en-GB" sz="14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en-GB" sz="1400" spc="-1" strike="noStrike">
                <a:solidFill>
                  <a:srgbClr val="ffff00"/>
                </a:solidFill>
                <a:latin typeface="Arial"/>
              </a:rPr>
              <a:t>* Implementation * Results * Conclusions</a:t>
            </a:r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941400" y="1805040"/>
          <a:ext cx="3181320" cy="462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41400" y="1805040"/>
                    <a:ext cx="3181320" cy="462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1" name=""/>
          <p:cNvSpPr/>
          <p:nvPr/>
        </p:nvSpPr>
        <p:spPr>
          <a:xfrm>
            <a:off x="4859280" y="1201680"/>
            <a:ext cx="3546360" cy="5432400"/>
          </a:xfrm>
          <a:prstGeom prst="rect">
            <a:avLst/>
          </a:prstGeom>
          <a:solidFill>
            <a:srgbClr val="ccffff"/>
          </a:soli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5048280" y="1833480"/>
          <a:ext cx="3171960" cy="4548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48280" y="1833480"/>
                    <a:ext cx="3171960" cy="454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" name=""/>
          <p:cNvSpPr/>
          <p:nvPr/>
        </p:nvSpPr>
        <p:spPr>
          <a:xfrm>
            <a:off x="1449360" y="1255680"/>
            <a:ext cx="207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mit Case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708880" y="1249200"/>
            <a:ext cx="174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bort Case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FB6D1-3E18-4D80-AF9B-55255216C39D}" type="slidenum">
              <a:t>8</a:t>
            </a:fld>
          </a:p>
        </p:txBody>
      </p:sp>
    </p:spTree>
  </p:cSld>
  <p:transition>
    <p:pull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ffff"/>
                </a:solidFill>
                <a:latin typeface="Tahoma"/>
              </a:rPr>
              <a:t>Feature Manag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ahoma"/>
              </a:rPr>
              <a:t>Controls the rollback of the features and caches their responses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ahoma"/>
              </a:rPr>
              <a:t>Uses the responses to detect the interaction between features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ahoma"/>
              </a:rPr>
              <a:t>Applies appropriate resolutions if one can be found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ahoma"/>
              </a:rPr>
              <a:t>Alerts the system operator if no suitable resolution is available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68" name=""/>
          <p:cNvSpPr/>
          <p:nvPr/>
        </p:nvSpPr>
        <p:spPr>
          <a:xfrm>
            <a:off x="1962720" y="228600"/>
            <a:ext cx="7022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00"/>
                </a:solidFill>
                <a:latin typeface="Arial"/>
              </a:rPr>
              <a:t>Structure * Target System * </a:t>
            </a: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Algorithms</a:t>
            </a:r>
            <a:r>
              <a:rPr b="1" lang="en-GB" sz="14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en-GB" sz="1400" spc="-1" strike="noStrike">
                <a:solidFill>
                  <a:srgbClr val="ffff00"/>
                </a:solidFill>
                <a:latin typeface="Arial"/>
              </a:rPr>
              <a:t>* Implementation * Results * Conclusions</a:t>
            </a:r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7149960" y="5607000"/>
            <a:ext cx="1774800" cy="1033560"/>
            <a:chOff x="7149960" y="5607000"/>
            <a:chExt cx="1774800" cy="1033560"/>
          </a:xfrm>
        </p:grpSpPr>
        <p:sp>
          <p:nvSpPr>
            <p:cNvPr id="170" name=""/>
            <p:cNvSpPr/>
            <p:nvPr/>
          </p:nvSpPr>
          <p:spPr>
            <a:xfrm>
              <a:off x="7149960" y="5607000"/>
              <a:ext cx="1774800" cy="10335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grpSp>
          <p:nvGrpSpPr>
            <p:cNvPr id="171" name=""/>
            <p:cNvGrpSpPr/>
            <p:nvPr/>
          </p:nvGrpSpPr>
          <p:grpSpPr>
            <a:xfrm>
              <a:off x="7211880" y="5664240"/>
              <a:ext cx="695160" cy="934920"/>
              <a:chOff x="7211880" y="5664240"/>
              <a:chExt cx="695160" cy="934920"/>
            </a:xfrm>
          </p:grpSpPr>
          <p:sp>
            <p:nvSpPr>
              <p:cNvPr id="172" name=""/>
              <p:cNvSpPr/>
              <p:nvPr/>
            </p:nvSpPr>
            <p:spPr>
              <a:xfrm>
                <a:off x="7211880" y="5664240"/>
                <a:ext cx="695160" cy="934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99cc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7311960" y="5713560"/>
                <a:ext cx="495360" cy="492120"/>
              </a:xfrm>
              <a:prstGeom prst="ellipse">
                <a:avLst/>
              </a:prstGeom>
              <a:gradFill rotWithShape="0">
                <a:gsLst>
                  <a:gs pos="0">
                    <a:srgbClr val="99ccff"/>
                  </a:gs>
                  <a:gs pos="100000">
                    <a:srgbClr val="0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</p:grpSp>
        <p:sp>
          <p:nvSpPr>
            <p:cNvPr id="174" name=""/>
            <p:cNvSpPr/>
            <p:nvPr/>
          </p:nvSpPr>
          <p:spPr>
            <a:xfrm>
              <a:off x="7168320" y="6192720"/>
              <a:ext cx="787320" cy="39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10000"/>
                  </a:solidFill>
                  <a:latin typeface="Arial"/>
                </a:rPr>
                <a:t>CITEL</a:t>
              </a:r>
              <a:endParaRPr b="0" lang="en-US" sz="1200" spc="-1" strike="noStrike">
                <a:solidFill>
                  <a:srgbClr val="ccec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10000"/>
                  </a:solidFill>
                  <a:latin typeface="Arial"/>
                </a:rPr>
                <a:t>Technologies</a:t>
              </a:r>
              <a:endParaRPr b="0" lang="en-US" sz="8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pic>
          <p:nvPicPr>
            <p:cNvPr id="175" name="bigcrest" descr=""/>
            <p:cNvPicPr/>
            <p:nvPr/>
          </p:nvPicPr>
          <p:blipFill>
            <a:blip r:embed="rId1"/>
            <a:stretch/>
          </p:blipFill>
          <p:spPr>
            <a:xfrm>
              <a:off x="8049960" y="5664240"/>
              <a:ext cx="868320" cy="952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FC226-90F3-4009-B7DE-8564C68AC929}" type="slidenum">
              <a:t>9</a:t>
            </a:fld>
          </a:p>
        </p:txBody>
      </p:sp>
    </p:spTree>
  </p:cSld>
  <p:transition>
    <p:pull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27T17:07:43Z</dcterms:created>
  <dc:creator>Dave Marples</dc:creator>
  <dc:description/>
  <dc:language>en-US</dc:language>
  <cp:lastModifiedBy>Comms Division, EEE</cp:lastModifiedBy>
  <cp:lastPrinted>1998-09-27T19:51:50Z</cp:lastPrinted>
  <dcterms:modified xsi:type="dcterms:W3CDTF">1999-09-03T10:45:40Z</dcterms:modified>
  <cp:revision>8</cp:revision>
  <dc:subject/>
  <dc:title>The Use of Rollback to Prevent Incorrect Operation of Features in Intelligent Network Based Systems </dc:title>
</cp:coreProperties>
</file>