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a2bccb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657440" y="14400"/>
            <a:ext cx="7480080" cy="6843600"/>
          </a:xfrm>
          <a:custGeom>
            <a:avLst/>
            <a:gdLst/>
            <a:ahLst/>
            <a:rect l="l" t="t" r="r" b="b"/>
            <a:pathLst>
              <a:path w="4712" h="4311">
                <a:moveTo>
                  <a:pt x="1463" y="0"/>
                </a:moveTo>
                <a:lnTo>
                  <a:pt x="0" y="1467"/>
                </a:lnTo>
                <a:lnTo>
                  <a:pt x="2845" y="4311"/>
                </a:lnTo>
                <a:lnTo>
                  <a:pt x="4712" y="2433"/>
                </a:lnTo>
                <a:lnTo>
                  <a:pt x="4712" y="467"/>
                </a:lnTo>
                <a:lnTo>
                  <a:pt x="4245" y="0"/>
                </a:lnTo>
                <a:lnTo>
                  <a:pt x="1463" y="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ecfee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5937120" y="6453360"/>
            <a:ext cx="319428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FORCES : Lancaster’99    Slide </a:t>
            </a:r>
            <a:fld id="{50090500-C79C-453F-99C0-80A7110BA2C3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22120" y="6477120"/>
            <a:ext cx="3886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e.magill@eee.strath.ac.u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Uni%20Logo%20Background5" descr=""/>
          <p:cNvPicPr/>
          <p:nvPr/>
        </p:nvPicPr>
        <p:blipFill>
          <a:blip r:embed="rId2"/>
          <a:stretch/>
        </p:blipFill>
        <p:spPr>
          <a:xfrm>
            <a:off x="7461360" y="0"/>
            <a:ext cx="1676160" cy="152892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1822320" y="914400"/>
            <a:ext cx="5562720" cy="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ecff"/>
            </a:gs>
            <a:gs pos="100000">
              <a:srgbClr val="a2bccb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57440" y="14400"/>
            <a:ext cx="7480080" cy="6843600"/>
          </a:xfrm>
          <a:custGeom>
            <a:avLst/>
            <a:gdLst/>
            <a:ahLst/>
            <a:rect l="l" t="t" r="r" b="b"/>
            <a:pathLst>
              <a:path w="4712" h="4311">
                <a:moveTo>
                  <a:pt x="1463" y="0"/>
                </a:moveTo>
                <a:lnTo>
                  <a:pt x="0" y="1467"/>
                </a:lnTo>
                <a:lnTo>
                  <a:pt x="2845" y="4311"/>
                </a:lnTo>
                <a:lnTo>
                  <a:pt x="4712" y="2433"/>
                </a:lnTo>
                <a:lnTo>
                  <a:pt x="4712" y="467"/>
                </a:lnTo>
                <a:lnTo>
                  <a:pt x="4245" y="0"/>
                </a:lnTo>
                <a:lnTo>
                  <a:pt x="1463" y="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ecfee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Uni%20Logo%20Background5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2063880" y="0"/>
            <a:ext cx="7080120" cy="64580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131480" y="660240"/>
            <a:ext cx="730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Feature Interaction Work @ Strathcly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2514600"/>
            <a:ext cx="8686800" cy="40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SEBPC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Systems Engineering for Business Process 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Hybrid Techniques For Detecting and Resolving Feature Interaction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in Telecommunication Servi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ACTS - TOSCA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Tina Open Service Creation Archite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http://www.comms.eee.strath.ac.uk/~fi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a2bccb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5800" y="1676520"/>
            <a:ext cx="8077320" cy="38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ff"/>
                </a:solidFill>
                <a:uFillTx/>
                <a:latin typeface="Times New Roman"/>
              </a:rPr>
              <a:t>Ai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o extend our transaction based work to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evelop a hybrid approach to detect and resolve            feature interactions.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o apply and evaluate the new technique to legacy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oftware embedded in a real switching environm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895480" y="7086600"/>
            <a:ext cx="358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501200" y="228600"/>
            <a:ext cx="594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Hybrid Techniques Overvie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a2bccb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838080" y="1752480"/>
            <a:ext cx="7696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7086600"/>
            <a:ext cx="358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67200" y="228600"/>
            <a:ext cx="461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Proposed environ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457200" y="1905120"/>
          <a:ext cx="981000" cy="125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905120"/>
                    <a:ext cx="981000" cy="125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6477120" y="1981080"/>
            <a:ext cx="1218960" cy="4597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R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1600200"/>
            <a:ext cx="762120" cy="60948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724280" y="1600200"/>
            <a:ext cx="762120" cy="60948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2895480" y="3657600"/>
            <a:ext cx="609840" cy="914400"/>
          </a:xfrm>
          <a:prstGeom prst="line">
            <a:avLst/>
          </a:prstGeom>
          <a:ln w="38160">
            <a:solidFill>
              <a:srgbClr val="00cc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9880" y="2209680"/>
            <a:ext cx="0" cy="838440"/>
          </a:xfrm>
          <a:prstGeom prst="line">
            <a:avLst/>
          </a:prstGeom>
          <a:ln w="28440">
            <a:solidFill>
              <a:srgbClr val="00cc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105520" y="2209680"/>
            <a:ext cx="0" cy="838440"/>
          </a:xfrm>
          <a:prstGeom prst="line">
            <a:avLst/>
          </a:prstGeom>
          <a:ln w="28440">
            <a:solidFill>
              <a:srgbClr val="00cc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5790960" y="2590920"/>
            <a:ext cx="685800" cy="533160"/>
          </a:xfrm>
          <a:prstGeom prst="line">
            <a:avLst/>
          </a:prstGeom>
          <a:ln w="28440">
            <a:solidFill>
              <a:srgbClr val="00cc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800600" y="1676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F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05320" y="16765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F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743200" y="2971800"/>
            <a:ext cx="3505320" cy="762120"/>
          </a:xfrm>
          <a:prstGeom prst="ellipse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048120" y="312408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Feature Mana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048120" y="4191120"/>
            <a:ext cx="2819160" cy="1218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429000" y="487692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Swit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77120" y="4648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Termin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6629400" y="3124080"/>
          <a:ext cx="1003320" cy="762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629400" y="3124080"/>
                    <a:ext cx="100332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" name=""/>
          <p:cNvGraphicFramePr/>
          <p:nvPr/>
        </p:nvGraphicFramePr>
        <p:xfrm>
          <a:off x="6705720" y="3886200"/>
          <a:ext cx="1003320" cy="762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705720" y="3886200"/>
                    <a:ext cx="100332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" name=""/>
          <p:cNvGraphicFramePr/>
          <p:nvPr/>
        </p:nvGraphicFramePr>
        <p:xfrm>
          <a:off x="3733920" y="4343400"/>
          <a:ext cx="1371600" cy="619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733920" y="4343400"/>
                    <a:ext cx="1371600" cy="61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" name=""/>
          <p:cNvSpPr/>
          <p:nvPr/>
        </p:nvSpPr>
        <p:spPr>
          <a:xfrm flipH="1">
            <a:off x="5867280" y="3733920"/>
            <a:ext cx="990720" cy="5331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5867280" y="4419720"/>
            <a:ext cx="99072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19720" y="373392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114800" y="2133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. . 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85800" y="3962520"/>
            <a:ext cx="358128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62120" y="1447920"/>
            <a:ext cx="37335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286000" y="4572000"/>
            <a:ext cx="1219320" cy="45972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B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a2bccb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533520" y="990720"/>
            <a:ext cx="7696080" cy="271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Used features:      CFU, TCS, OCS, ACB, HL &amp; 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Worst case i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580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Filter to remove known pairwise operations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es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897280" y="7086600"/>
            <a:ext cx="3579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352520" y="0"/>
            <a:ext cx="62276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Three-way Feature Interac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1906560" y="3049560"/>
            <a:ext cx="6245280" cy="2435400"/>
            <a:chOff x="1906560" y="3049560"/>
            <a:chExt cx="6245280" cy="2435400"/>
          </a:xfrm>
        </p:grpSpPr>
        <p:sp>
          <p:nvSpPr>
            <p:cNvPr id="84" name=""/>
            <p:cNvSpPr/>
            <p:nvPr/>
          </p:nvSpPr>
          <p:spPr>
            <a:xfrm>
              <a:off x="1906560" y="3049560"/>
              <a:ext cx="2282760" cy="2435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POT-A (O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CF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H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HL &amp; OC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CF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TL &amp; OC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040280" y="3049560"/>
              <a:ext cx="2206440" cy="2435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POT-B (T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CF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CF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CF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ACB &amp; OC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CF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249960" y="3049560"/>
              <a:ext cx="1901880" cy="2435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POT-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CF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TC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9T14:25:24Z</dcterms:created>
  <dc:creator>Bob Gardner</dc:creator>
  <dc:description/>
  <dc:language>en-US</dc:language>
  <cp:lastModifiedBy>Comms Division, EEE</cp:lastModifiedBy>
  <cp:lastPrinted>1996-01-15T06:19:28Z</cp:lastPrinted>
  <dcterms:modified xsi:type="dcterms:W3CDTF">1999-09-06T10:33:06Z</dcterms:modified>
  <cp:revision>60</cp:revision>
  <dc:subject/>
  <dc:title>No Slide Title</dc:title>
</cp:coreProperties>
</file>