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13.wmf" ContentType="image/x-wmf"/>
  <Override PartName="/ppt/media/image9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766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b61"/>
              </a:solidFill>
              <a:latin typeface="Palatino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b61"/>
              </a:solidFill>
              <a:latin typeface="Palatino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b61"/>
              </a:solidFill>
              <a:latin typeface="Palatino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b61"/>
              </a:solidFill>
              <a:latin typeface="Palatino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b61"/>
              </a:solidFill>
              <a:latin typeface="Palatino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b61"/>
              </a:solidFill>
              <a:latin typeface="Palatino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b61"/>
              </a:solidFill>
              <a:latin typeface="Palatino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b61"/>
              </a:solidFill>
              <a:latin typeface="Palatino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b61"/>
              </a:solidFill>
              <a:latin typeface="Palatino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b61"/>
              </a:solidFill>
              <a:latin typeface="Palatino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428840"/>
            <a:ext cx="9132840" cy="152280"/>
            <a:chOff x="0" y="1428840"/>
            <a:chExt cx="9132840" cy="152280"/>
          </a:xfrm>
        </p:grpSpPr>
        <p:sp>
          <p:nvSpPr>
            <p:cNvPr id="1" name=""/>
            <p:cNvSpPr/>
            <p:nvPr/>
          </p:nvSpPr>
          <p:spPr>
            <a:xfrm>
              <a:off x="0" y="1428840"/>
              <a:ext cx="9132840" cy="7452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4296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b61"/>
                </a:solidFill>
                <a:latin typeface="Palatino"/>
              </a:rPr>
              <a:t>Click to edit the title text format</a:t>
            </a:r>
            <a:endParaRPr b="0" lang="en-US" sz="4400" spc="-1" strike="noStrike">
              <a:solidFill>
                <a:srgbClr val="006b61"/>
              </a:solidFill>
              <a:latin typeface="Palatino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0c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00ff"/>
              </a:buClr>
              <a:buSzPct val="62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c0c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2240" y="2298240"/>
            <a:ext cx="8229600" cy="1166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b61"/>
                </a:solidFill>
                <a:latin typeface="Palatino"/>
              </a:rPr>
              <a:t>The Role of Reflection in Next Generation Middleware</a:t>
            </a:r>
            <a:endParaRPr b="0" lang="en-US" sz="4000" spc="-1" strike="noStrike">
              <a:solidFill>
                <a:srgbClr val="006b61"/>
              </a:solidFill>
              <a:latin typeface="Palatino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89080" y="438768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Gordon S. Bla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E-mail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: gordon@comp.lancs.ac.u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l_lanca2" descr=""/>
          <p:cNvPicPr/>
          <p:nvPr/>
        </p:nvPicPr>
        <p:blipFill>
          <a:blip r:embed="rId1"/>
          <a:stretch/>
        </p:blipFill>
        <p:spPr>
          <a:xfrm>
            <a:off x="8159760" y="5389560"/>
            <a:ext cx="619200" cy="1247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b61"/>
                </a:solidFill>
                <a:latin typeface="Palatino"/>
              </a:rPr>
              <a:t>Summary of Overall Architecture</a:t>
            </a:r>
            <a:endParaRPr b="0" lang="en-US" sz="4400" spc="-1" strike="noStrike">
              <a:solidFill>
                <a:srgbClr val="006b61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733920" y="3505320"/>
            <a:ext cx="13716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4metaspaces" descr=""/>
          <p:cNvPicPr/>
          <p:nvPr/>
        </p:nvPicPr>
        <p:blipFill>
          <a:blip r:embed="rId1"/>
          <a:stretch/>
        </p:blipFill>
        <p:spPr>
          <a:xfrm>
            <a:off x="1916280" y="1706400"/>
            <a:ext cx="5219640" cy="493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b61"/>
                </a:solidFill>
                <a:latin typeface="Palatino"/>
              </a:rPr>
              <a:t>Introducing QoS Management</a:t>
            </a:r>
            <a:endParaRPr b="0" lang="en-US" sz="4400" spc="-1" strike="noStrike">
              <a:solidFill>
                <a:srgbClr val="006b61"/>
              </a:solidFill>
              <a:latin typeface="Palatino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03200" y="171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verall appro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ject QoS management components into meta-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teraction via event notification ser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tyles of management 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oni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troll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ategy selec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ategy activa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5900760" y="4481640"/>
          <a:ext cx="2362320" cy="173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00760" y="4481640"/>
                    <a:ext cx="2362320" cy="17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b61"/>
                </a:solidFill>
                <a:latin typeface="Palatino"/>
              </a:rPr>
              <a:t>Specifying Policies: The Use of Timed Automata</a:t>
            </a:r>
            <a:endParaRPr b="0" lang="en-US" sz="4400" spc="-1" strike="noStrike">
              <a:solidFill>
                <a:srgbClr val="006b61"/>
              </a:solidFill>
              <a:latin typeface="Palatino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817560" y="1897200"/>
            <a:ext cx="7629480" cy="42066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1552680" y="5732640"/>
            <a:ext cx="6297480" cy="31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283040" y="5872320"/>
            <a:ext cx="674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. and then there are meta-policie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b61"/>
                </a:solidFill>
                <a:latin typeface="Palatino"/>
              </a:rPr>
              <a:t>Verification</a:t>
            </a:r>
            <a:endParaRPr b="0" lang="en-US" sz="4400" spc="-1" strike="noStrike">
              <a:solidFill>
                <a:srgbClr val="006b61"/>
              </a:solidFill>
              <a:latin typeface="Palatino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257480" y="1719360"/>
            <a:ext cx="6589440" cy="48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b61"/>
                </a:solidFill>
                <a:latin typeface="Palatino"/>
              </a:rPr>
              <a:t>Implementation Status</a:t>
            </a:r>
            <a:endParaRPr b="0" lang="en-US" sz="4400" spc="-1" strike="noStrike">
              <a:solidFill>
                <a:srgbClr val="006b61"/>
              </a:solidFill>
              <a:latin typeface="Palatino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66720" y="1922400"/>
            <a:ext cx="70293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itial prototype comple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structed using Python 1.5 (extended with a library of reflective featur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corporates FC2 interpreters (cf timed automat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imple QoS management scenario implemen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udio buffer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7350120" y="2925720"/>
          <a:ext cx="1434960" cy="173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50120" y="2925720"/>
                    <a:ext cx="1434960" cy="173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b61"/>
                </a:solidFill>
                <a:latin typeface="Palatino"/>
              </a:rPr>
              <a:t>Ongoing Work</a:t>
            </a:r>
            <a:endParaRPr b="0" lang="en-US" sz="4400" spc="-1" strike="noStrike">
              <a:solidFill>
                <a:srgbClr val="006b61"/>
              </a:solidFill>
              <a:latin typeface="Palatino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74680" y="1763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ffici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c0c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-implementation using lightweight reflective componen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c0c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se of component frame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teg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c0c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vestigation of the role of software architecture in constraining change (with INRI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ener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c0c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tensions of architecture to include group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6978600" y="5648400"/>
          <a:ext cx="1719360" cy="82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78600" y="5648400"/>
                    <a:ext cx="1719360" cy="82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b61"/>
                </a:solidFill>
                <a:latin typeface="Palatino"/>
              </a:rPr>
              <a:t>Concluding Remarks</a:t>
            </a:r>
            <a:endParaRPr b="0" lang="en-US" sz="4400" spc="-1" strike="noStrike">
              <a:solidFill>
                <a:srgbClr val="006b61"/>
              </a:solidFill>
              <a:latin typeface="Palatino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re is a strong need for more open and adaptable middleware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ur approach provides a principled means of achieving such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.f. “black box” approach of CORB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.f. viewpoints of RM-OD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owards a CORBA MO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6477120" y="5029200"/>
          <a:ext cx="2243160" cy="149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77120" y="5029200"/>
                    <a:ext cx="2243160" cy="149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b61"/>
                </a:solidFill>
                <a:latin typeface="Palatino"/>
              </a:rPr>
              <a:t>Changing Marketplace</a:t>
            </a:r>
            <a:endParaRPr b="0" lang="en-US" sz="4400" spc="-1" strike="noStrike">
              <a:solidFill>
                <a:srgbClr val="006b61"/>
              </a:solidFill>
              <a:latin typeface="Palatino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98520" y="1743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ew Demands on Middleware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601"/>
              </a:spcBef>
              <a:buClr>
                <a:srgbClr val="00c0c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merging technical challenges such as multimedia, mobility, real-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601"/>
              </a:spcBef>
              <a:buClr>
                <a:srgbClr val="00c0c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creasing need to tackle complexity by offering a greater separation of concerns (cf transparenc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601"/>
              </a:spcBef>
              <a:buClr>
                <a:srgbClr val="00c0c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unctional and non-functional requirements tend to change over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trong Requirement for New Appro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601"/>
              </a:spcBef>
              <a:buClr>
                <a:srgbClr val="00c0c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uild-time configur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601"/>
              </a:spcBef>
              <a:buClr>
                <a:srgbClr val="00c0c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un-time re-configur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601"/>
              </a:spcBef>
              <a:buClr>
                <a:srgbClr val="00c0c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ore general support for ev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6899400" y="4984920"/>
          <a:ext cx="1900080" cy="1398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99400" y="4984920"/>
                    <a:ext cx="1900080" cy="139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b61"/>
                </a:solidFill>
                <a:latin typeface="Palatino"/>
              </a:rPr>
              <a:t>Problems with Existing Solutions</a:t>
            </a:r>
            <a:endParaRPr b="0" lang="en-US" sz="4400" spc="-1" strike="noStrike">
              <a:solidFill>
                <a:srgbClr val="006b61"/>
              </a:solidFill>
              <a:latin typeface="Palatino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85480" y="1768320"/>
            <a:ext cx="82659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MG Sol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00c0c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oth real-time CORBA and Minimal CORBA provide fixed solutions for given application doma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00c0c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terceptors provide a limited ad hoc approach to adap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ther Sol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00c0c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JB offers only limited capabilities in terms of configur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00c0c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pen languages have severe restrictions (e.g. LAAS experien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00c0c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pen source solutions involve considerable development effort and result in proprietary sol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972560" y="3294000"/>
            <a:ext cx="792000" cy="16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b61"/>
                </a:solidFill>
                <a:latin typeface="Palatino"/>
              </a:rPr>
              <a:t>Solution based on Marriage of Two Technologies</a:t>
            </a:r>
            <a:endParaRPr b="0" lang="en-US" sz="4400" spc="-1" strike="noStrike">
              <a:solidFill>
                <a:srgbClr val="006b61"/>
              </a:solidFill>
              <a:latin typeface="Palatino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79440" y="1704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fl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c0c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uild on experiences of reflection community in areas such as programming language design, operating systems, distributed systems, windowing software, e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c0c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pply to middleware platforms (most appropriate pla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c0c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cognise important of emerging component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c0c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pply component-oriented programming at base and meta lev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7994520" y="3873600"/>
            <a:ext cx="820800" cy="24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b61"/>
                </a:solidFill>
                <a:latin typeface="Palatino"/>
              </a:rPr>
              <a:t>Open ORB: General Principles</a:t>
            </a:r>
            <a:endParaRPr b="0" lang="en-US" sz="4400" spc="-1" strike="noStrike">
              <a:solidFill>
                <a:srgbClr val="006b61"/>
              </a:solidFill>
              <a:latin typeface="Palatino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64960" y="20048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figurable component-based archit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upport for multimedia (cf Sumo and RM-OD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er component (interface) meta-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cedural appro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rthogonal meta-space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6935760" y="2889360"/>
          <a:ext cx="2008080" cy="16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35760" y="2889360"/>
                    <a:ext cx="2008080" cy="16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6962760" y="5054760"/>
          <a:ext cx="1616040" cy="1341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962760" y="5054760"/>
                    <a:ext cx="1616040" cy="134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b61"/>
                </a:solidFill>
                <a:latin typeface="Palatino"/>
              </a:rPr>
              <a:t>Open ORB: The Design of Meta-Space</a:t>
            </a:r>
            <a:endParaRPr b="0" lang="en-US" sz="4400" spc="-1" strike="noStrike">
              <a:solidFill>
                <a:srgbClr val="006b61"/>
              </a:solidFill>
              <a:latin typeface="Palatino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74840" y="1882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524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tructural refl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ncapsulation meta-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74"/>
              </a:spcBef>
              <a:buClr>
                <a:srgbClr val="000000"/>
              </a:buClr>
              <a:buFont typeface="Helvetic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at is behind the interface (cf introspection in Java)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mposition meta-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74"/>
              </a:spcBef>
              <a:buClr>
                <a:srgbClr val="000000"/>
              </a:buClr>
              <a:buFont typeface="Helvetic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at other components are used in the construc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ehavioural refl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nvironmental meta-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74"/>
              </a:spcBef>
              <a:buClr>
                <a:srgbClr val="000000"/>
              </a:buClr>
              <a:buFont typeface="Helvetic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at activity is there on an interfac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6311880" y="4199040"/>
            <a:ext cx="247968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b61"/>
                </a:solidFill>
                <a:latin typeface="Palatino"/>
              </a:rPr>
              <a:t>Example: An Open Binding</a:t>
            </a:r>
            <a:endParaRPr b="0" lang="en-US" sz="4400" spc="-1" strike="noStrike">
              <a:solidFill>
                <a:srgbClr val="006b61"/>
              </a:solidFill>
              <a:latin typeface="Palatino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750960" y="2160720"/>
          <a:ext cx="7601040" cy="3930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0960" y="2160720"/>
                    <a:ext cx="7601040" cy="393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b61"/>
                </a:solidFill>
                <a:latin typeface="Palatino"/>
              </a:rPr>
              <a:t>The Resources Meta-Model</a:t>
            </a:r>
            <a:endParaRPr b="0" lang="en-US" sz="4400" spc="-1" strike="noStrike">
              <a:solidFill>
                <a:srgbClr val="006b61"/>
              </a:solidFill>
              <a:latin typeface="Palatino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14280" y="1795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 provide a complete and consistent CCSR of resources and associated resource management at various levels of abstr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 support introspection of resources, resource usage, e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 support adaptation of resource allocations, management policies, e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7251840" y="4722840"/>
            <a:ext cx="1542960" cy="15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b61"/>
                </a:solidFill>
                <a:latin typeface="Palatino"/>
              </a:rPr>
              <a:t>General Approach</a:t>
            </a:r>
            <a:endParaRPr b="0" lang="en-US" sz="4400" spc="-1" strike="noStrike">
              <a:solidFill>
                <a:srgbClr val="006b61"/>
              </a:solidFill>
              <a:latin typeface="Palatino"/>
            </a:endParaRPr>
          </a:p>
        </p:txBody>
      </p:sp>
      <p:sp>
        <p:nvSpPr>
          <p:cNvPr id="70" name=""/>
          <p:cNvSpPr/>
          <p:nvPr/>
        </p:nvSpPr>
        <p:spPr>
          <a:xfrm>
            <a:off x="857160" y="1981080"/>
            <a:ext cx="7769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976400" y="3747960"/>
            <a:ext cx="3524040" cy="938160"/>
            <a:chOff x="1976400" y="3747960"/>
            <a:chExt cx="3524040" cy="938160"/>
          </a:xfrm>
        </p:grpSpPr>
        <p:sp>
          <p:nvSpPr>
            <p:cNvPr id="72" name=""/>
            <p:cNvSpPr/>
            <p:nvPr/>
          </p:nvSpPr>
          <p:spPr>
            <a:xfrm>
              <a:off x="1976400" y="3747960"/>
              <a:ext cx="3522600" cy="936360"/>
            </a:xfrm>
            <a:custGeom>
              <a:avLst/>
              <a:gdLst/>
              <a:ahLst/>
              <a:rect l="l" t="t" r="r" b="b"/>
              <a:pathLst>
                <a:path w="2219" h="590">
                  <a:moveTo>
                    <a:pt x="80" y="3"/>
                  </a:moveTo>
                  <a:lnTo>
                    <a:pt x="62" y="9"/>
                  </a:lnTo>
                  <a:lnTo>
                    <a:pt x="61" y="9"/>
                  </a:lnTo>
                  <a:lnTo>
                    <a:pt x="45" y="18"/>
                  </a:lnTo>
                  <a:lnTo>
                    <a:pt x="30" y="30"/>
                  </a:lnTo>
                  <a:lnTo>
                    <a:pt x="29" y="31"/>
                  </a:lnTo>
                  <a:lnTo>
                    <a:pt x="17" y="46"/>
                  </a:lnTo>
                  <a:lnTo>
                    <a:pt x="8" y="62"/>
                  </a:lnTo>
                  <a:lnTo>
                    <a:pt x="8" y="63"/>
                  </a:lnTo>
                  <a:lnTo>
                    <a:pt x="2" y="81"/>
                  </a:lnTo>
                  <a:lnTo>
                    <a:pt x="0" y="101"/>
                  </a:lnTo>
                  <a:lnTo>
                    <a:pt x="0" y="490"/>
                  </a:lnTo>
                  <a:lnTo>
                    <a:pt x="2" y="509"/>
                  </a:lnTo>
                  <a:lnTo>
                    <a:pt x="2" y="510"/>
                  </a:lnTo>
                  <a:lnTo>
                    <a:pt x="8" y="527"/>
                  </a:lnTo>
                  <a:lnTo>
                    <a:pt x="8" y="529"/>
                  </a:lnTo>
                  <a:lnTo>
                    <a:pt x="17" y="546"/>
                  </a:lnTo>
                  <a:lnTo>
                    <a:pt x="29" y="559"/>
                  </a:lnTo>
                  <a:lnTo>
                    <a:pt x="30" y="560"/>
                  </a:lnTo>
                  <a:lnTo>
                    <a:pt x="45" y="573"/>
                  </a:lnTo>
                  <a:lnTo>
                    <a:pt x="61" y="581"/>
                  </a:lnTo>
                  <a:lnTo>
                    <a:pt x="62" y="582"/>
                  </a:lnTo>
                  <a:lnTo>
                    <a:pt x="80" y="589"/>
                  </a:lnTo>
                  <a:lnTo>
                    <a:pt x="99" y="590"/>
                  </a:lnTo>
                  <a:lnTo>
                    <a:pt x="2120" y="590"/>
                  </a:lnTo>
                  <a:lnTo>
                    <a:pt x="2139" y="589"/>
                  </a:lnTo>
                  <a:lnTo>
                    <a:pt x="2140" y="589"/>
                  </a:lnTo>
                  <a:lnTo>
                    <a:pt x="2157" y="582"/>
                  </a:lnTo>
                  <a:lnTo>
                    <a:pt x="2158" y="581"/>
                  </a:lnTo>
                  <a:lnTo>
                    <a:pt x="2175" y="573"/>
                  </a:lnTo>
                  <a:lnTo>
                    <a:pt x="2189" y="560"/>
                  </a:lnTo>
                  <a:lnTo>
                    <a:pt x="2190" y="559"/>
                  </a:lnTo>
                  <a:lnTo>
                    <a:pt x="2202" y="546"/>
                  </a:lnTo>
                  <a:lnTo>
                    <a:pt x="2211" y="529"/>
                  </a:lnTo>
                  <a:lnTo>
                    <a:pt x="2212" y="527"/>
                  </a:lnTo>
                  <a:lnTo>
                    <a:pt x="2218" y="510"/>
                  </a:lnTo>
                  <a:lnTo>
                    <a:pt x="2218" y="509"/>
                  </a:lnTo>
                  <a:lnTo>
                    <a:pt x="2219" y="490"/>
                  </a:lnTo>
                  <a:lnTo>
                    <a:pt x="2219" y="101"/>
                  </a:lnTo>
                  <a:lnTo>
                    <a:pt x="2218" y="81"/>
                  </a:lnTo>
                  <a:lnTo>
                    <a:pt x="2212" y="63"/>
                  </a:lnTo>
                  <a:lnTo>
                    <a:pt x="2211" y="62"/>
                  </a:lnTo>
                  <a:lnTo>
                    <a:pt x="2202" y="46"/>
                  </a:lnTo>
                  <a:lnTo>
                    <a:pt x="2190" y="31"/>
                  </a:lnTo>
                  <a:lnTo>
                    <a:pt x="2189" y="30"/>
                  </a:lnTo>
                  <a:lnTo>
                    <a:pt x="2175" y="18"/>
                  </a:lnTo>
                  <a:lnTo>
                    <a:pt x="2158" y="9"/>
                  </a:lnTo>
                  <a:lnTo>
                    <a:pt x="2157" y="9"/>
                  </a:lnTo>
                  <a:lnTo>
                    <a:pt x="2140" y="3"/>
                  </a:lnTo>
                  <a:lnTo>
                    <a:pt x="2139" y="3"/>
                  </a:lnTo>
                  <a:lnTo>
                    <a:pt x="2120" y="0"/>
                  </a:lnTo>
                  <a:lnTo>
                    <a:pt x="99" y="0"/>
                  </a:lnTo>
                  <a:lnTo>
                    <a:pt x="80" y="3"/>
                  </a:lnTo>
                  <a:lnTo>
                    <a:pt x="101" y="8"/>
                  </a:lnTo>
                  <a:lnTo>
                    <a:pt x="2121" y="8"/>
                  </a:lnTo>
                  <a:lnTo>
                    <a:pt x="2139" y="10"/>
                  </a:lnTo>
                  <a:lnTo>
                    <a:pt x="2139" y="10"/>
                  </a:lnTo>
                  <a:lnTo>
                    <a:pt x="2156" y="15"/>
                  </a:lnTo>
                  <a:lnTo>
                    <a:pt x="2172" y="24"/>
                  </a:lnTo>
                  <a:lnTo>
                    <a:pt x="2185" y="36"/>
                  </a:lnTo>
                  <a:lnTo>
                    <a:pt x="2196" y="49"/>
                  </a:lnTo>
                  <a:lnTo>
                    <a:pt x="2205" y="64"/>
                  </a:lnTo>
                  <a:lnTo>
                    <a:pt x="2211" y="82"/>
                  </a:lnTo>
                  <a:lnTo>
                    <a:pt x="2212" y="102"/>
                  </a:lnTo>
                  <a:lnTo>
                    <a:pt x="2212" y="491"/>
                  </a:lnTo>
                  <a:lnTo>
                    <a:pt x="2211" y="509"/>
                  </a:lnTo>
                  <a:lnTo>
                    <a:pt x="2211" y="509"/>
                  </a:lnTo>
                  <a:lnTo>
                    <a:pt x="2205" y="526"/>
                  </a:lnTo>
                  <a:lnTo>
                    <a:pt x="2196" y="542"/>
                  </a:lnTo>
                  <a:lnTo>
                    <a:pt x="2185" y="556"/>
                  </a:lnTo>
                  <a:lnTo>
                    <a:pt x="2172" y="567"/>
                  </a:lnTo>
                  <a:lnTo>
                    <a:pt x="2156" y="575"/>
                  </a:lnTo>
                  <a:lnTo>
                    <a:pt x="2139" y="581"/>
                  </a:lnTo>
                  <a:lnTo>
                    <a:pt x="2139" y="581"/>
                  </a:lnTo>
                  <a:lnTo>
                    <a:pt x="2121" y="582"/>
                  </a:lnTo>
                  <a:lnTo>
                    <a:pt x="101" y="582"/>
                  </a:lnTo>
                  <a:lnTo>
                    <a:pt x="81" y="581"/>
                  </a:lnTo>
                  <a:lnTo>
                    <a:pt x="63" y="575"/>
                  </a:lnTo>
                  <a:lnTo>
                    <a:pt x="48" y="567"/>
                  </a:lnTo>
                  <a:lnTo>
                    <a:pt x="35" y="556"/>
                  </a:lnTo>
                  <a:lnTo>
                    <a:pt x="23" y="542"/>
                  </a:lnTo>
                  <a:lnTo>
                    <a:pt x="14" y="526"/>
                  </a:lnTo>
                  <a:lnTo>
                    <a:pt x="9" y="509"/>
                  </a:lnTo>
                  <a:lnTo>
                    <a:pt x="9" y="509"/>
                  </a:lnTo>
                  <a:lnTo>
                    <a:pt x="7" y="491"/>
                  </a:lnTo>
                  <a:lnTo>
                    <a:pt x="7" y="102"/>
                  </a:lnTo>
                  <a:lnTo>
                    <a:pt x="9" y="82"/>
                  </a:lnTo>
                  <a:lnTo>
                    <a:pt x="14" y="64"/>
                  </a:lnTo>
                  <a:lnTo>
                    <a:pt x="23" y="49"/>
                  </a:lnTo>
                  <a:lnTo>
                    <a:pt x="35" y="36"/>
                  </a:lnTo>
                  <a:lnTo>
                    <a:pt x="48" y="24"/>
                  </a:lnTo>
                  <a:lnTo>
                    <a:pt x="63" y="15"/>
                  </a:lnTo>
                  <a:lnTo>
                    <a:pt x="81" y="10"/>
                  </a:lnTo>
                  <a:lnTo>
                    <a:pt x="101" y="8"/>
                  </a:lnTo>
                  <a:lnTo>
                    <a:pt x="80" y="3"/>
                  </a:lnTo>
                  <a:close/>
                </a:path>
              </a:pathLst>
            </a:custGeom>
            <a:solidFill>
              <a:srgbClr val="006b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976400" y="3747960"/>
              <a:ext cx="3524040" cy="938160"/>
            </a:xfrm>
            <a:prstGeom prst="rect">
              <a:avLst/>
            </a:prstGeom>
            <a:solidFill>
              <a:srgbClr val="006b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" name=""/>
          <p:cNvSpPr/>
          <p:nvPr/>
        </p:nvSpPr>
        <p:spPr>
          <a:xfrm>
            <a:off x="6070320" y="2170080"/>
            <a:ext cx="12780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000000"/>
                </a:solidFill>
                <a:latin typeface="Times New Roman"/>
              </a:rPr>
              <a:t>high level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072840" y="2543040"/>
            <a:ext cx="23508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abstract resource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162840" y="5113440"/>
            <a:ext cx="11361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000000"/>
                </a:solidFill>
                <a:latin typeface="Times New Roman"/>
              </a:rPr>
              <a:t>low level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165000" y="5484960"/>
            <a:ext cx="23508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abstract resource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109160" y="3021120"/>
            <a:ext cx="12124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rovided b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015360" y="3402000"/>
            <a:ext cx="878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rovi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478600" y="4773600"/>
            <a:ext cx="15339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anages(high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385880" y="5078520"/>
            <a:ext cx="1242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anaged b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67080" y="3935520"/>
            <a:ext cx="24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esource mana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2941560" y="30970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484360" y="30970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4313160" y="46969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084560" y="469728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103480" y="2335320"/>
            <a:ext cx="1219320" cy="761760"/>
          </a:xfrm>
          <a:prstGeom prst="hexagon">
            <a:avLst>
              <a:gd name="adj" fmla="val 40017"/>
              <a:gd name="vf" fmla="val 115470"/>
            </a:avLst>
          </a:prstGeom>
          <a:solidFill>
            <a:srgbClr val="006b6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237200" y="2335320"/>
            <a:ext cx="1218960" cy="761760"/>
          </a:xfrm>
          <a:prstGeom prst="hexagon">
            <a:avLst>
              <a:gd name="adj" fmla="val 40005"/>
              <a:gd name="vf" fmla="val 115470"/>
            </a:avLst>
          </a:prstGeom>
          <a:solidFill>
            <a:srgbClr val="006b6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179800" y="5383080"/>
            <a:ext cx="685800" cy="381240"/>
          </a:xfrm>
          <a:prstGeom prst="hexagon">
            <a:avLst>
              <a:gd name="adj" fmla="val 44972"/>
              <a:gd name="vf" fmla="val 115470"/>
            </a:avLst>
          </a:prstGeom>
          <a:solidFill>
            <a:srgbClr val="006b6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017880" y="5383080"/>
            <a:ext cx="685800" cy="381240"/>
          </a:xfrm>
          <a:prstGeom prst="hexagon">
            <a:avLst>
              <a:gd name="adj" fmla="val 44972"/>
              <a:gd name="vf" fmla="val 115470"/>
            </a:avLst>
          </a:prstGeom>
          <a:solidFill>
            <a:srgbClr val="006b6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55960" y="5383080"/>
            <a:ext cx="685800" cy="381240"/>
          </a:xfrm>
          <a:prstGeom prst="hexagon">
            <a:avLst>
              <a:gd name="adj" fmla="val 44972"/>
              <a:gd name="vf" fmla="val 115470"/>
            </a:avLst>
          </a:prstGeom>
          <a:solidFill>
            <a:srgbClr val="006b6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694400" y="5383080"/>
            <a:ext cx="685800" cy="381240"/>
          </a:xfrm>
          <a:prstGeom prst="hexagon">
            <a:avLst>
              <a:gd name="adj" fmla="val 44972"/>
              <a:gd name="vf" fmla="val 115470"/>
            </a:avLst>
          </a:prstGeom>
          <a:solidFill>
            <a:srgbClr val="006b6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02T17:55:20Z</dcterms:created>
  <dc:creator>Gordon S. Blair</dc:creator>
  <dc:description/>
  <dc:language>en-US</dc:language>
  <cp:lastModifiedBy>Gordon Blair</cp:lastModifiedBy>
  <cp:lastPrinted>1998-08-21T14:27:17Z</cp:lastPrinted>
  <dcterms:modified xsi:type="dcterms:W3CDTF">2000-02-24T16:22:42Z</dcterms:modified>
  <cp:revision>62</cp:revision>
  <dc:subject/>
  <dc:title>Tromso Presentation</dc:title>
</cp:coreProperties>
</file>