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667500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672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09880" y="0"/>
            <a:ext cx="2819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4040" y="76212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92962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09880" y="9296280"/>
            <a:ext cx="2819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17A4-D539-45E1-ADD2-CDAEA32734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1440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68240" y="1412640"/>
            <a:ext cx="698652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68240" y="3907800"/>
            <a:ext cx="698652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68240" y="1412640"/>
            <a:ext cx="340920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48440" y="1412640"/>
            <a:ext cx="340920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68240" y="3907800"/>
            <a:ext cx="340920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48440" y="3907800"/>
            <a:ext cx="340920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68240" y="1412640"/>
            <a:ext cx="224928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30200" y="1412640"/>
            <a:ext cx="224928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2520" y="1412640"/>
            <a:ext cx="224928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68240" y="3907800"/>
            <a:ext cx="224928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030200" y="3907800"/>
            <a:ext cx="224928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92520" y="3907800"/>
            <a:ext cx="224928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668240" y="1412640"/>
            <a:ext cx="6986520" cy="4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68240" y="1412640"/>
            <a:ext cx="6986520" cy="477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68240" y="1412640"/>
            <a:ext cx="3409200" cy="477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248440" y="1412640"/>
            <a:ext cx="3409200" cy="477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650960" y="314280"/>
            <a:ext cx="695016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68240" y="1412640"/>
            <a:ext cx="340920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48440" y="1412640"/>
            <a:ext cx="3409200" cy="477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668240" y="3907800"/>
            <a:ext cx="340920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68240" y="1412640"/>
            <a:ext cx="6986520" cy="4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68240" y="1412640"/>
            <a:ext cx="3409200" cy="477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48440" y="1412640"/>
            <a:ext cx="340920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248440" y="3907800"/>
            <a:ext cx="340920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68240" y="1412640"/>
            <a:ext cx="340920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48440" y="1412640"/>
            <a:ext cx="340920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668240" y="3907800"/>
            <a:ext cx="698652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68240" y="1412640"/>
            <a:ext cx="698652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668240" y="3907800"/>
            <a:ext cx="698652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68240" y="1412640"/>
            <a:ext cx="340920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48440" y="1412640"/>
            <a:ext cx="340920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668240" y="3907800"/>
            <a:ext cx="340920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248440" y="3907800"/>
            <a:ext cx="340920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668240" y="1412640"/>
            <a:ext cx="224928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30200" y="1412640"/>
            <a:ext cx="224928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92520" y="1412640"/>
            <a:ext cx="224928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668240" y="3907800"/>
            <a:ext cx="224928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030200" y="3907800"/>
            <a:ext cx="224928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92520" y="3907800"/>
            <a:ext cx="224928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68240" y="1412640"/>
            <a:ext cx="6986520" cy="477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68240" y="1412640"/>
            <a:ext cx="3409200" cy="477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48440" y="1412640"/>
            <a:ext cx="3409200" cy="477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50960" y="314280"/>
            <a:ext cx="695016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68240" y="1412640"/>
            <a:ext cx="340920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48440" y="1412640"/>
            <a:ext cx="3409200" cy="477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68240" y="3907800"/>
            <a:ext cx="340920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68240" y="1412640"/>
            <a:ext cx="3409200" cy="477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8440" y="1412640"/>
            <a:ext cx="340920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48440" y="3907800"/>
            <a:ext cx="340920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68240" y="1412640"/>
            <a:ext cx="340920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48440" y="1412640"/>
            <a:ext cx="340920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68240" y="3907800"/>
            <a:ext cx="698652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68240" y="1412640"/>
            <a:ext cx="6986520" cy="477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4040" indent="-284040">
              <a:lnSpc>
                <a:spcPct val="85000"/>
              </a:lnSpc>
              <a:spcBef>
                <a:spcPts val="901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334800">
              <a:lnSpc>
                <a:spcPct val="85000"/>
              </a:lnSpc>
              <a:spcBef>
                <a:spcPts val="901"/>
              </a:spcBef>
              <a:buClr>
                <a:srgbClr val="33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335160">
              <a:lnSpc>
                <a:spcPct val="85000"/>
              </a:lnSpc>
              <a:spcBef>
                <a:spcPts val="901"/>
              </a:spcBef>
              <a:buClr>
                <a:srgbClr val="3399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23880" indent="-217440">
              <a:lnSpc>
                <a:spcPct val="85000"/>
              </a:lnSpc>
              <a:spcBef>
                <a:spcPts val="901"/>
              </a:spcBef>
              <a:buClr>
                <a:srgbClr val="6e00c8"/>
              </a:buClr>
              <a:buSzPct val="14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901"/>
              </a:spcBef>
              <a:buClr>
                <a:srgbClr val="64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901"/>
              </a:spcBef>
              <a:buClr>
                <a:srgbClr val="64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LOGOCRME" descr=""/>
          <p:cNvPicPr/>
          <p:nvPr/>
        </p:nvPicPr>
        <p:blipFill>
          <a:blip r:embed="rId2"/>
          <a:stretch/>
        </p:blipFill>
        <p:spPr>
          <a:xfrm>
            <a:off x="6759720" y="6200640"/>
            <a:ext cx="2377800" cy="6177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479600" y="6524640"/>
            <a:ext cx="3981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646464"/>
                </a:solidFill>
                <a:latin typeface="Times New Roman"/>
              </a:rPr>
              <a:t>© 1999 </a:t>
            </a:r>
            <a:r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Marconi Communications Limited. All Rights Reserved. </a:t>
            </a:r>
            <a:endParaRPr b="0" lang="en-US" sz="10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724280" y="6524640"/>
            <a:ext cx="3083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Genetic Programming  </a:t>
            </a:r>
            <a:fld id="{ADA8440D-1B7B-4FA6-AC1F-4DF883C44BC6}" type="slidenum"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646464"/>
              </a:solidFill>
              <a:latin typeface="Times New Roman"/>
            </a:endParaRPr>
          </a:p>
        </p:txBody>
      </p:sp>
      <p:pic>
        <p:nvPicPr>
          <p:cNvPr id="5" name="BANNR" descr=""/>
          <p:cNvPicPr/>
          <p:nvPr/>
        </p:nvPicPr>
        <p:blipFill>
          <a:blip r:embed="rId3"/>
          <a:stretch/>
        </p:blipFill>
        <p:spPr>
          <a:xfrm>
            <a:off x="0" y="0"/>
            <a:ext cx="13827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7920" y="5243040"/>
            <a:ext cx="6245280" cy="161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1" marL="347760" indent="0"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6280" algn="ctr">
              <a:lnSpc>
                <a:spcPct val="85000"/>
              </a:lnSpc>
              <a:spcBef>
                <a:spcPts val="751"/>
              </a:spcBef>
              <a:buClr>
                <a:srgbClr val="3399ff"/>
              </a:buClr>
              <a:buSzPct val="60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751"/>
              </a:spcBef>
              <a:buClr>
                <a:srgbClr val="6e00c8"/>
              </a:buClr>
              <a:buSzPct val="140000"/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64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64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33720" y="2286000"/>
            <a:ext cx="6245280" cy="161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pic>
        <p:nvPicPr>
          <p:cNvPr id="88" name="LOGOCRME" descr=""/>
          <p:cNvPicPr/>
          <p:nvPr/>
        </p:nvPicPr>
        <p:blipFill>
          <a:blip r:embed="rId1"/>
          <a:stretch/>
        </p:blipFill>
        <p:spPr>
          <a:xfrm>
            <a:off x="6759720" y="6200640"/>
            <a:ext cx="2377800" cy="6177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479600" y="6524640"/>
            <a:ext cx="3981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646464"/>
                </a:solidFill>
                <a:latin typeface="Times New Roman"/>
              </a:rPr>
              <a:t>© 1999 </a:t>
            </a:r>
            <a:r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Marconi Communications Limited. All Rights Reserved.</a:t>
            </a:r>
            <a:r>
              <a:rPr b="0" lang="en-GB" sz="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646464"/>
              </a:solidFill>
              <a:latin typeface="Times New Roman"/>
            </a:endParaRPr>
          </a:p>
        </p:txBody>
      </p:sp>
      <p:pic>
        <p:nvPicPr>
          <p:cNvPr id="90" name="Marconibanner" descr=""/>
          <p:cNvPicPr/>
          <p:nvPr/>
        </p:nvPicPr>
        <p:blipFill>
          <a:blip r:embed="rId2"/>
          <a:stretch/>
        </p:blipFill>
        <p:spPr>
          <a:xfrm>
            <a:off x="0" y="0"/>
            <a:ext cx="138276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8000" y="3657240"/>
            <a:ext cx="6245280" cy="161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99ff"/>
                </a:solidFill>
                <a:latin typeface="Tahoma"/>
              </a:rPr>
              <a:t>Evolving service logic using natural selection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3399ff"/>
                </a:solidFill>
                <a:latin typeface="Tahoma"/>
              </a:rPr>
              <a:t>Peter Martin</a:t>
            </a:r>
            <a:br>
              <a:rPr sz="3200"/>
            </a:br>
            <a:endParaRPr b="1" lang="en-US" sz="32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1479600" y="1066680"/>
            <a:ext cx="7283520" cy="161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cc"/>
                </a:solidFill>
                <a:latin typeface="Tahoma"/>
              </a:rPr>
              <a:t>Service Creation using Genetic Programming</a:t>
            </a:r>
            <a:endParaRPr b="0" lang="en-US" sz="4400" spc="-1" strike="noStrike">
              <a:solidFill>
                <a:srgbClr val="64646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trips dir="ru"/>
      </p:transition>
    </mc:Choice>
    <mc:Fallback>
      <p:transition spd="slow">
        <p:strips dir="ru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ff"/>
                </a:solidFill>
                <a:latin typeface="Tahoma"/>
              </a:rPr>
              <a:t>Evolving Generations</a:t>
            </a: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1743120" y="4724280"/>
            <a:ext cx="1676520" cy="99072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imes New Roman"/>
              </a:rPr>
              <a:t>Evolve Next</a:t>
            </a:r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imes New Roman"/>
              </a:rPr>
              <a:t>Generation</a:t>
            </a:r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419640" y="5257800"/>
            <a:ext cx="609480" cy="76320"/>
          </a:xfrm>
          <a:prstGeom prst="leftArrow">
            <a:avLst>
              <a:gd name="adj1" fmla="val 50000"/>
              <a:gd name="adj2" fmla="val 199646"/>
            </a:avLst>
          </a:prstGeom>
          <a:solidFill>
            <a:srgbClr val="c20000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029120" y="4724280"/>
            <a:ext cx="2133720" cy="1143000"/>
          </a:xfrm>
          <a:prstGeom prst="flowChartDecision">
            <a:avLst/>
          </a:prstGeom>
          <a:solidFill>
            <a:srgbClr val="ffff99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imes New Roman"/>
              </a:rPr>
              <a:t>End of Run</a:t>
            </a:r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162840" y="5257800"/>
            <a:ext cx="685800" cy="76320"/>
          </a:xfrm>
          <a:prstGeom prst="rightArrow">
            <a:avLst>
              <a:gd name="adj1" fmla="val 50000"/>
              <a:gd name="adj2" fmla="val 224646"/>
            </a:avLst>
          </a:prstGeom>
          <a:solidFill>
            <a:srgbClr val="c20000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48640" y="5029200"/>
            <a:ext cx="1752480" cy="45720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95800" y="434340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c20000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315120" y="4724280"/>
            <a:ext cx="533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724200" y="4724280"/>
            <a:ext cx="381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16208400">
            <a:off x="2122200" y="4189320"/>
            <a:ext cx="992160" cy="74520"/>
          </a:xfrm>
          <a:prstGeom prst="rect">
            <a:avLst/>
          </a:prstGeom>
          <a:solidFill>
            <a:srgbClr val="c20000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81200" y="3657600"/>
            <a:ext cx="1219320" cy="74520"/>
          </a:xfrm>
          <a:prstGeom prst="rect">
            <a:avLst/>
          </a:prstGeom>
          <a:solidFill>
            <a:srgbClr val="c20000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0520" y="3621240"/>
            <a:ext cx="609480" cy="152280"/>
          </a:xfrm>
          <a:prstGeom prst="rightArrow">
            <a:avLst>
              <a:gd name="adj1" fmla="val 50000"/>
              <a:gd name="adj2" fmla="val 100059"/>
            </a:avLst>
          </a:prstGeom>
          <a:solidFill>
            <a:srgbClr val="c20000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10000" y="3352680"/>
            <a:ext cx="1371600" cy="99072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imes New Roman"/>
              </a:rPr>
              <a:t>Test for</a:t>
            </a:r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imes New Roman"/>
              </a:rPr>
              <a:t>Fitness</a:t>
            </a:r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095800" y="297180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c20000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10000" y="2057400"/>
            <a:ext cx="1371600" cy="91440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imes New Roman"/>
              </a:rPr>
              <a:t>Create </a:t>
            </a:r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imes New Roman"/>
              </a:rPr>
              <a:t>Population</a:t>
            </a:r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19840" y="1752480"/>
            <a:ext cx="75960" cy="304920"/>
          </a:xfrm>
          <a:prstGeom prst="downArrow">
            <a:avLst>
              <a:gd name="adj1" fmla="val 50000"/>
              <a:gd name="adj2" fmla="val 100355"/>
            </a:avLst>
          </a:prstGeom>
          <a:solidFill>
            <a:srgbClr val="c20000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34040" y="1295280"/>
            <a:ext cx="1447560" cy="45720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9f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5862600" y="2895480"/>
            <a:ext cx="1986120" cy="1295640"/>
            <a:chOff x="5862600" y="2895480"/>
            <a:chExt cx="1986120" cy="1295640"/>
          </a:xfrm>
        </p:grpSpPr>
        <p:sp>
          <p:nvSpPr>
            <p:cNvPr id="277" name=""/>
            <p:cNvSpPr/>
            <p:nvPr/>
          </p:nvSpPr>
          <p:spPr>
            <a:xfrm>
              <a:off x="6248520" y="2895480"/>
              <a:ext cx="1600200" cy="1295640"/>
            </a:xfrm>
            <a:prstGeom prst="rect">
              <a:avLst/>
            </a:prstGeom>
            <a:gradFill rotWithShape="0">
              <a:gsLst>
                <a:gs pos="0">
                  <a:srgbClr val="d14242"/>
                </a:gs>
                <a:gs pos="100000">
                  <a:srgbClr val="c20000"/>
                </a:gs>
              </a:gsLst>
              <a:lin ang="13500000"/>
            </a:gradFill>
            <a:ln w="12600">
              <a:solidFill>
                <a:srgbClr val="64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Service </a:t>
              </a:r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Control </a:t>
              </a:r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Point</a:t>
              </a:r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62600" y="3433680"/>
              <a:ext cx="385920" cy="0"/>
            </a:xfrm>
            <a:prstGeom prst="line">
              <a:avLst/>
            </a:prstGeom>
            <a:ln w="38160">
              <a:solidFill>
                <a:srgbClr val="64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 flipV="1">
            <a:off x="4114800" y="3673080"/>
            <a:ext cx="1246320" cy="1203480"/>
          </a:xfrm>
          <a:prstGeom prst="line">
            <a:avLst/>
          </a:prstGeom>
          <a:ln w="381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2133720"/>
            <a:ext cx="1246320" cy="1168200"/>
          </a:xfrm>
          <a:prstGeom prst="line">
            <a:avLst/>
          </a:prstGeom>
          <a:ln w="381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ff"/>
                </a:solidFill>
                <a:latin typeface="Tahoma"/>
              </a:rPr>
              <a:t>An Example - Intelligent Networks</a:t>
            </a: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282" name=""/>
          <p:cNvSpPr/>
          <p:nvPr/>
        </p:nvSpPr>
        <p:spPr>
          <a:xfrm>
            <a:off x="2743200" y="1828800"/>
            <a:ext cx="1371600" cy="1219320"/>
          </a:xfrm>
          <a:prstGeom prst="rect">
            <a:avLst/>
          </a:prstGeom>
          <a:gradFill rotWithShape="0">
            <a:gsLst>
              <a:gs pos="0">
                <a:srgbClr val="d14242"/>
              </a:gs>
              <a:gs pos="100000">
                <a:srgbClr val="c20000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743200" y="4191120"/>
            <a:ext cx="1371600" cy="1218960"/>
          </a:xfrm>
          <a:prstGeom prst="rect">
            <a:avLst/>
          </a:prstGeom>
          <a:gradFill rotWithShape="0">
            <a:gsLst>
              <a:gs pos="0">
                <a:srgbClr val="d14242"/>
              </a:gs>
              <a:gs pos="100000">
                <a:srgbClr val="c20000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650960" y="1432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</a:t>
            </a:r>
            <a:endParaRPr b="0" lang="en-US" sz="2800" spc="-1" strike="noStrike">
              <a:solidFill>
                <a:srgbClr val="646464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572000" y="3048120"/>
            <a:ext cx="1442880" cy="863280"/>
            <a:chOff x="4572000" y="3048120"/>
            <a:chExt cx="1442880" cy="863280"/>
          </a:xfrm>
        </p:grpSpPr>
        <p:sp>
          <p:nvSpPr>
            <p:cNvPr id="286" name=""/>
            <p:cNvSpPr/>
            <p:nvPr/>
          </p:nvSpPr>
          <p:spPr>
            <a:xfrm>
              <a:off x="4572000" y="3302280"/>
              <a:ext cx="500040" cy="3556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a7a7a7"/>
                </a:gs>
              </a:gsLst>
              <a:lin ang="5400000"/>
            </a:gradFill>
            <a:ln w="12600">
              <a:solidFill>
                <a:srgbClr val="64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4729320" y="3048120"/>
              <a:ext cx="1128240" cy="385560"/>
              <a:chOff x="4729320" y="3048120"/>
              <a:chExt cx="1128240" cy="385560"/>
            </a:xfrm>
          </p:grpSpPr>
          <p:sp>
            <p:nvSpPr>
              <p:cNvPr id="288" name=""/>
              <p:cNvSpPr/>
              <p:nvPr/>
            </p:nvSpPr>
            <p:spPr>
              <a:xfrm>
                <a:off x="4729320" y="3077280"/>
                <a:ext cx="497160" cy="3564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a7a7a7"/>
                  </a:gs>
                </a:gsLst>
                <a:lin ang="5400000"/>
              </a:gradFill>
              <a:ln w="12600">
                <a:solidFill>
                  <a:srgbClr val="6464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042520" y="3048120"/>
                <a:ext cx="501480" cy="3549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a7a7a7"/>
                  </a:gs>
                </a:gsLst>
                <a:lin ang="5400000"/>
              </a:gradFill>
              <a:ln w="12600">
                <a:solidFill>
                  <a:srgbClr val="6464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360760" y="3077280"/>
                <a:ext cx="496800" cy="3564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a7a7a7"/>
                  </a:gs>
                </a:gsLst>
                <a:lin ang="5400000"/>
              </a:gradFill>
              <a:ln w="12600">
                <a:solidFill>
                  <a:srgbClr val="6464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5514840" y="3302280"/>
              <a:ext cx="500040" cy="3556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a7a7a7"/>
                </a:gs>
              </a:gsLst>
              <a:lin ang="5400000"/>
            </a:gradFill>
            <a:ln w="12600">
              <a:solidFill>
                <a:srgbClr val="64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4691160" y="3529440"/>
              <a:ext cx="1124640" cy="381960"/>
              <a:chOff x="4691160" y="3529440"/>
              <a:chExt cx="1124640" cy="381960"/>
            </a:xfrm>
          </p:grpSpPr>
          <p:sp>
            <p:nvSpPr>
              <p:cNvPr id="293" name=""/>
              <p:cNvSpPr/>
              <p:nvPr/>
            </p:nvSpPr>
            <p:spPr>
              <a:xfrm>
                <a:off x="4691160" y="3529440"/>
                <a:ext cx="495360" cy="35712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a7a7a7"/>
                  </a:gs>
                </a:gsLst>
                <a:lin ang="5400000"/>
              </a:gradFill>
              <a:ln w="12600">
                <a:solidFill>
                  <a:srgbClr val="6464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004000" y="3557160"/>
                <a:ext cx="495000" cy="35424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a7a7a7"/>
                  </a:gs>
                </a:gsLst>
                <a:lin ang="5400000"/>
              </a:gradFill>
              <a:ln w="12600">
                <a:solidFill>
                  <a:srgbClr val="6464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322240" y="3529440"/>
                <a:ext cx="493560" cy="35712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a7a7a7"/>
                  </a:gs>
                </a:gsLst>
                <a:lin ang="5400000"/>
              </a:gradFill>
              <a:ln w="12600">
                <a:solidFill>
                  <a:srgbClr val="6464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4724280" y="3129120"/>
              <a:ext cx="1138320" cy="731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a7a7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851360" y="327672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1650960" y="51814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</a:t>
            </a:r>
            <a:endParaRPr b="0" lang="en-US" sz="28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50960" y="39117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</a:t>
            </a:r>
            <a:endParaRPr b="0" lang="en-US" sz="28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50960" y="28796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</a:t>
            </a:r>
            <a:endParaRPr b="0" lang="en-US" sz="28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184480" y="1828800"/>
            <a:ext cx="558720" cy="304920"/>
          </a:xfrm>
          <a:prstGeom prst="line">
            <a:avLst/>
          </a:prstGeom>
          <a:ln w="381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2184480" y="2743200"/>
            <a:ext cx="558720" cy="334800"/>
          </a:xfrm>
          <a:prstGeom prst="line">
            <a:avLst/>
          </a:prstGeom>
          <a:ln w="381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184480" y="4191120"/>
            <a:ext cx="558720" cy="239760"/>
          </a:xfrm>
          <a:prstGeom prst="line">
            <a:avLst/>
          </a:prstGeom>
          <a:ln w="381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2184480" y="5181120"/>
            <a:ext cx="558720" cy="228600"/>
          </a:xfrm>
          <a:prstGeom prst="line">
            <a:avLst/>
          </a:prstGeom>
          <a:ln w="381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ff"/>
                </a:solidFill>
                <a:latin typeface="Tahoma"/>
              </a:rPr>
              <a:t>An Example - Service Creation</a:t>
            </a: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668240" y="1412640"/>
            <a:ext cx="6986520" cy="477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40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5000"/>
              </a:lnSpc>
              <a:spcBef>
                <a:spcPts val="901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umber Trans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5000"/>
              </a:lnSpc>
              <a:spcBef>
                <a:spcPts val="901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nslate number depending on time of d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5000"/>
              </a:lnSpc>
              <a:spcBef>
                <a:spcPts val="901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itness derived from Message Sequ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ff"/>
                </a:solidFill>
                <a:latin typeface="Tahoma"/>
              </a:rPr>
              <a:t>Call Sequence for a Service</a:t>
            </a: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432160" y="1676520"/>
            <a:ext cx="8604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56360" y="1727280"/>
            <a:ext cx="531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15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78480" y="1676520"/>
            <a:ext cx="111888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605840" y="1628640"/>
            <a:ext cx="79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0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605840" y="1847880"/>
            <a:ext cx="608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ogic</a:t>
            </a:r>
            <a:endParaRPr b="0" lang="en-US" sz="2000" spc="-1" strike="noStrike">
              <a:solidFill>
                <a:srgbClr val="646464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2948040" y="2104920"/>
            <a:ext cx="1716120" cy="328680"/>
            <a:chOff x="2948040" y="2104920"/>
            <a:chExt cx="1716120" cy="328680"/>
          </a:xfrm>
        </p:grpSpPr>
        <p:sp>
          <p:nvSpPr>
            <p:cNvPr id="314" name=""/>
            <p:cNvSpPr/>
            <p:nvPr/>
          </p:nvSpPr>
          <p:spPr>
            <a:xfrm>
              <a:off x="2948040" y="2104920"/>
              <a:ext cx="1374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2948040" y="2152800"/>
              <a:ext cx="1716120" cy="280800"/>
              <a:chOff x="2948040" y="2152800"/>
              <a:chExt cx="1716120" cy="280800"/>
            </a:xfrm>
          </p:grpSpPr>
          <p:grpSp>
            <p:nvGrpSpPr>
              <p:cNvPr id="316" name=""/>
              <p:cNvGrpSpPr/>
              <p:nvPr/>
            </p:nvGrpSpPr>
            <p:grpSpPr>
              <a:xfrm>
                <a:off x="2948040" y="2293920"/>
                <a:ext cx="1716120" cy="139680"/>
                <a:chOff x="2948040" y="2293920"/>
                <a:chExt cx="1716120" cy="13968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2948040" y="2351160"/>
                  <a:ext cx="1582560" cy="2700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646464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4527720" y="2293920"/>
                  <a:ext cx="136440" cy="139680"/>
                </a:xfrm>
                <a:custGeom>
                  <a:avLst/>
                  <a:gdLst/>
                  <a:ahLst/>
                  <a:rect l="l" t="t" r="r" b="b"/>
                  <a:pathLst>
                    <a:path w="173" h="175">
                      <a:moveTo>
                        <a:pt x="0" y="175"/>
                      </a:moveTo>
                      <a:lnTo>
                        <a:pt x="173" y="86"/>
                      </a:lnTo>
                      <a:lnTo>
                        <a:pt x="0" y="0"/>
                      </a:lnTo>
                      <a:lnTo>
                        <a:pt x="0" y="175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46464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9" name=""/>
              <p:cNvSpPr/>
              <p:nvPr/>
            </p:nvSpPr>
            <p:spPr>
              <a:xfrm>
                <a:off x="3111120" y="2152800"/>
                <a:ext cx="870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Times New Roman"/>
                  </a:rPr>
                  <a:t>IDP (CalledDN)</a:t>
                </a:r>
                <a:endParaRPr b="0" lang="en-US" sz="10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0" name=""/>
          <p:cNvGrpSpPr/>
          <p:nvPr/>
        </p:nvGrpSpPr>
        <p:grpSpPr>
          <a:xfrm>
            <a:off x="5094360" y="2449440"/>
            <a:ext cx="2089080" cy="327240"/>
            <a:chOff x="5094360" y="2449440"/>
            <a:chExt cx="2089080" cy="327240"/>
          </a:xfrm>
        </p:grpSpPr>
        <p:sp>
          <p:nvSpPr>
            <p:cNvPr id="321" name=""/>
            <p:cNvSpPr/>
            <p:nvPr/>
          </p:nvSpPr>
          <p:spPr>
            <a:xfrm>
              <a:off x="5094360" y="2449440"/>
              <a:ext cx="20890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5094360" y="2496960"/>
              <a:ext cx="1724040" cy="279720"/>
              <a:chOff x="5094360" y="2496960"/>
              <a:chExt cx="1724040" cy="279720"/>
            </a:xfrm>
          </p:grpSpPr>
          <p:grpSp>
            <p:nvGrpSpPr>
              <p:cNvPr id="323" name=""/>
              <p:cNvGrpSpPr/>
              <p:nvPr/>
            </p:nvGrpSpPr>
            <p:grpSpPr>
              <a:xfrm>
                <a:off x="5094360" y="2638440"/>
                <a:ext cx="1717560" cy="138240"/>
                <a:chOff x="5094360" y="2638440"/>
                <a:chExt cx="1717560" cy="13824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5094360" y="2693880"/>
                  <a:ext cx="1582560" cy="2700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646464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673680" y="2638440"/>
                  <a:ext cx="138240" cy="138240"/>
                </a:xfrm>
                <a:custGeom>
                  <a:avLst/>
                  <a:gdLst/>
                  <a:ahLst/>
                  <a:rect l="l" t="t" r="r" b="b"/>
                  <a:pathLst>
                    <a:path w="173" h="174">
                      <a:moveTo>
                        <a:pt x="0" y="174"/>
                      </a:moveTo>
                      <a:lnTo>
                        <a:pt x="173" y="86"/>
                      </a:lnTo>
                      <a:lnTo>
                        <a:pt x="0" y="0"/>
                      </a:lnTo>
                      <a:lnTo>
                        <a:pt x="0" y="17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46464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6" name=""/>
              <p:cNvSpPr/>
              <p:nvPr/>
            </p:nvSpPr>
            <p:spPr>
              <a:xfrm>
                <a:off x="5180040" y="2496960"/>
                <a:ext cx="20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Times New Roman"/>
                  </a:rPr>
                  <a:t>DB </a:t>
                </a:r>
                <a:endParaRPr b="0" lang="en-US" sz="10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451480" y="2496960"/>
                <a:ext cx="479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Times New Roman"/>
                  </a:rPr>
                  <a:t>Request(</a:t>
                </a:r>
                <a:endParaRPr b="0" lang="en-US" sz="10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968800" y="2496960"/>
                <a:ext cx="849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Times New Roman"/>
                  </a:rPr>
                  <a:t>CalledDN &lt;&lt; 1)</a:t>
                </a:r>
                <a:endParaRPr b="0" lang="en-US" sz="10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9" name=""/>
          <p:cNvGrpSpPr/>
          <p:nvPr/>
        </p:nvGrpSpPr>
        <p:grpSpPr>
          <a:xfrm>
            <a:off x="5094360" y="2792520"/>
            <a:ext cx="1717560" cy="326880"/>
            <a:chOff x="5094360" y="2792520"/>
            <a:chExt cx="1717560" cy="326880"/>
          </a:xfrm>
        </p:grpSpPr>
        <p:grpSp>
          <p:nvGrpSpPr>
            <p:cNvPr id="330" name=""/>
            <p:cNvGrpSpPr/>
            <p:nvPr/>
          </p:nvGrpSpPr>
          <p:grpSpPr>
            <a:xfrm>
              <a:off x="5094360" y="2979720"/>
              <a:ext cx="1717560" cy="139680"/>
              <a:chOff x="5094360" y="2979720"/>
              <a:chExt cx="1717560" cy="139680"/>
            </a:xfrm>
          </p:grpSpPr>
          <p:sp>
            <p:nvSpPr>
              <p:cNvPr id="331" name=""/>
              <p:cNvSpPr/>
              <p:nvPr/>
            </p:nvSpPr>
            <p:spPr>
              <a:xfrm>
                <a:off x="5229360" y="3036960"/>
                <a:ext cx="1582560" cy="270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094360" y="2979720"/>
                <a:ext cx="137880" cy="139680"/>
              </a:xfrm>
              <a:custGeom>
                <a:avLst/>
                <a:gdLst/>
                <a:ahLst/>
                <a:rect l="l" t="t" r="r" b="b"/>
                <a:pathLst>
                  <a:path w="173" h="175">
                    <a:moveTo>
                      <a:pt x="173" y="0"/>
                    </a:moveTo>
                    <a:lnTo>
                      <a:pt x="0" y="89"/>
                    </a:lnTo>
                    <a:lnTo>
                      <a:pt x="173" y="175"/>
                    </a:lnTo>
                    <a:lnTo>
                      <a:pt x="173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5094360" y="2792520"/>
              <a:ext cx="137484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80760" y="2840040"/>
              <a:ext cx="442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Times New Roman"/>
                </a:rPr>
                <a:t>DBResp</a:t>
              </a:r>
              <a:endParaRPr b="0" lang="en-US" sz="10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692320" y="2840040"/>
              <a:ext cx="416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Times New Roman"/>
                </a:rPr>
                <a:t>(TAD1)</a:t>
              </a:r>
              <a:endParaRPr b="0" lang="en-US" sz="10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5094360" y="3651120"/>
            <a:ext cx="1717560" cy="327240"/>
            <a:chOff x="5094360" y="3651120"/>
            <a:chExt cx="1717560" cy="327240"/>
          </a:xfrm>
        </p:grpSpPr>
        <p:grpSp>
          <p:nvGrpSpPr>
            <p:cNvPr id="337" name=""/>
            <p:cNvGrpSpPr/>
            <p:nvPr/>
          </p:nvGrpSpPr>
          <p:grpSpPr>
            <a:xfrm>
              <a:off x="5094360" y="3838680"/>
              <a:ext cx="1717560" cy="139680"/>
              <a:chOff x="5094360" y="3838680"/>
              <a:chExt cx="1717560" cy="139680"/>
            </a:xfrm>
          </p:grpSpPr>
          <p:sp>
            <p:nvSpPr>
              <p:cNvPr id="338" name=""/>
              <p:cNvSpPr/>
              <p:nvPr/>
            </p:nvSpPr>
            <p:spPr>
              <a:xfrm>
                <a:off x="5229360" y="3895560"/>
                <a:ext cx="1582560" cy="270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094360" y="3838680"/>
                <a:ext cx="137880" cy="139680"/>
              </a:xfrm>
              <a:custGeom>
                <a:avLst/>
                <a:gdLst/>
                <a:ahLst/>
                <a:rect l="l" t="t" r="r" b="b"/>
                <a:pathLst>
                  <a:path w="173" h="175">
                    <a:moveTo>
                      <a:pt x="173" y="0"/>
                    </a:moveTo>
                    <a:lnTo>
                      <a:pt x="0" y="89"/>
                    </a:lnTo>
                    <a:lnTo>
                      <a:pt x="173" y="175"/>
                    </a:lnTo>
                    <a:lnTo>
                      <a:pt x="173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5094360" y="3651120"/>
              <a:ext cx="137484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180760" y="3699000"/>
              <a:ext cx="442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Times New Roman"/>
                </a:rPr>
                <a:t>DBResp</a:t>
              </a:r>
              <a:endParaRPr b="0" lang="en-US" sz="10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692320" y="3699000"/>
              <a:ext cx="416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Times New Roman"/>
                </a:rPr>
                <a:t>(TAD2)</a:t>
              </a:r>
              <a:endParaRPr b="0" lang="en-US" sz="10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2948040" y="4079880"/>
            <a:ext cx="2139840" cy="326880"/>
            <a:chOff x="2948040" y="4079880"/>
            <a:chExt cx="2139840" cy="326880"/>
          </a:xfrm>
        </p:grpSpPr>
        <p:grpSp>
          <p:nvGrpSpPr>
            <p:cNvPr id="344" name=""/>
            <p:cNvGrpSpPr/>
            <p:nvPr/>
          </p:nvGrpSpPr>
          <p:grpSpPr>
            <a:xfrm>
              <a:off x="2948040" y="4268880"/>
              <a:ext cx="1716120" cy="137880"/>
              <a:chOff x="2948040" y="4268880"/>
              <a:chExt cx="1716120" cy="137880"/>
            </a:xfrm>
          </p:grpSpPr>
          <p:sp>
            <p:nvSpPr>
              <p:cNvPr id="345" name=""/>
              <p:cNvSpPr/>
              <p:nvPr/>
            </p:nvSpPr>
            <p:spPr>
              <a:xfrm>
                <a:off x="3081240" y="4325760"/>
                <a:ext cx="1582920" cy="270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948040" y="4268880"/>
                <a:ext cx="136440" cy="137880"/>
              </a:xfrm>
              <a:custGeom>
                <a:avLst/>
                <a:gdLst/>
                <a:ahLst/>
                <a:rect l="l" t="t" r="r" b="b"/>
                <a:pathLst>
                  <a:path w="173" h="175">
                    <a:moveTo>
                      <a:pt x="173" y="0"/>
                    </a:moveTo>
                    <a:lnTo>
                      <a:pt x="0" y="88"/>
                    </a:lnTo>
                    <a:lnTo>
                      <a:pt x="173" y="175"/>
                    </a:lnTo>
                    <a:lnTo>
                      <a:pt x="173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3033720" y="4079880"/>
              <a:ext cx="205416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210840" y="4127400"/>
              <a:ext cx="1139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Times New Roman"/>
                </a:rPr>
                <a:t>Connect(TAD2 &lt;&lt; 1)</a:t>
              </a:r>
              <a:endParaRPr b="0" lang="en-US" sz="10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5094360" y="3222720"/>
            <a:ext cx="2157480" cy="326880"/>
            <a:chOff x="5094360" y="3222720"/>
            <a:chExt cx="2157480" cy="326880"/>
          </a:xfrm>
        </p:grpSpPr>
        <p:sp>
          <p:nvSpPr>
            <p:cNvPr id="350" name=""/>
            <p:cNvSpPr/>
            <p:nvPr/>
          </p:nvSpPr>
          <p:spPr>
            <a:xfrm>
              <a:off x="5094360" y="3222720"/>
              <a:ext cx="21574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5094360" y="3268800"/>
              <a:ext cx="1717560" cy="280800"/>
              <a:chOff x="5094360" y="3268800"/>
              <a:chExt cx="1717560" cy="280800"/>
            </a:xfrm>
          </p:grpSpPr>
          <p:grpSp>
            <p:nvGrpSpPr>
              <p:cNvPr id="352" name=""/>
              <p:cNvGrpSpPr/>
              <p:nvPr/>
            </p:nvGrpSpPr>
            <p:grpSpPr>
              <a:xfrm>
                <a:off x="5094360" y="3411360"/>
                <a:ext cx="1717560" cy="138240"/>
                <a:chOff x="5094360" y="3411360"/>
                <a:chExt cx="1717560" cy="13824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5094360" y="3467160"/>
                  <a:ext cx="1582560" cy="2700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646464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673680" y="3411360"/>
                  <a:ext cx="138240" cy="138240"/>
                </a:xfrm>
                <a:custGeom>
                  <a:avLst/>
                  <a:gdLst/>
                  <a:ahLst/>
                  <a:rect l="l" t="t" r="r" b="b"/>
                  <a:pathLst>
                    <a:path w="173" h="175">
                      <a:moveTo>
                        <a:pt x="0" y="175"/>
                      </a:moveTo>
                      <a:lnTo>
                        <a:pt x="173" y="87"/>
                      </a:lnTo>
                      <a:lnTo>
                        <a:pt x="0" y="0"/>
                      </a:lnTo>
                      <a:lnTo>
                        <a:pt x="0" y="175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46464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5" name=""/>
              <p:cNvSpPr/>
              <p:nvPr/>
            </p:nvSpPr>
            <p:spPr>
              <a:xfrm>
                <a:off x="5180040" y="3268800"/>
                <a:ext cx="20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Times New Roman"/>
                  </a:rPr>
                  <a:t>DB </a:t>
                </a:r>
                <a:endParaRPr b="0" lang="en-US" sz="10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487120" y="3268800"/>
                <a:ext cx="1123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Times New Roman"/>
                  </a:rPr>
                  <a:t>Request(TAD1 &lt;&lt; 1)</a:t>
                </a:r>
                <a:endParaRPr b="0" lang="en-US" sz="10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7" name=""/>
          <p:cNvGrpSpPr/>
          <p:nvPr/>
        </p:nvGrpSpPr>
        <p:grpSpPr>
          <a:xfrm>
            <a:off x="2948040" y="4595760"/>
            <a:ext cx="1716120" cy="325440"/>
            <a:chOff x="2948040" y="4595760"/>
            <a:chExt cx="1716120" cy="325440"/>
          </a:xfrm>
        </p:grpSpPr>
        <p:sp>
          <p:nvSpPr>
            <p:cNvPr id="358" name=""/>
            <p:cNvSpPr/>
            <p:nvPr/>
          </p:nvSpPr>
          <p:spPr>
            <a:xfrm>
              <a:off x="3033720" y="4595760"/>
              <a:ext cx="137484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2948040" y="4643280"/>
              <a:ext cx="1716120" cy="277920"/>
              <a:chOff x="2948040" y="4643280"/>
              <a:chExt cx="1716120" cy="277920"/>
            </a:xfrm>
          </p:grpSpPr>
          <p:grpSp>
            <p:nvGrpSpPr>
              <p:cNvPr id="360" name=""/>
              <p:cNvGrpSpPr/>
              <p:nvPr/>
            </p:nvGrpSpPr>
            <p:grpSpPr>
              <a:xfrm>
                <a:off x="2948040" y="4782960"/>
                <a:ext cx="1716120" cy="138240"/>
                <a:chOff x="2948040" y="4782960"/>
                <a:chExt cx="1716120" cy="13824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3081240" y="4840200"/>
                  <a:ext cx="1582920" cy="2700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646464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948040" y="4782960"/>
                  <a:ext cx="136440" cy="138240"/>
                </a:xfrm>
                <a:custGeom>
                  <a:avLst/>
                  <a:gdLst/>
                  <a:ahLst/>
                  <a:rect l="l" t="t" r="r" b="b"/>
                  <a:pathLst>
                    <a:path w="173" h="175">
                      <a:moveTo>
                        <a:pt x="173" y="0"/>
                      </a:moveTo>
                      <a:lnTo>
                        <a:pt x="0" y="88"/>
                      </a:lnTo>
                      <a:lnTo>
                        <a:pt x="173" y="175"/>
                      </a:lnTo>
                      <a:lnTo>
                        <a:pt x="173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46464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3" name=""/>
              <p:cNvSpPr/>
              <p:nvPr/>
            </p:nvSpPr>
            <p:spPr>
              <a:xfrm>
                <a:off x="3162600" y="4643280"/>
                <a:ext cx="224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Times New Roman"/>
                  </a:rPr>
                  <a:t>End</a:t>
                </a:r>
                <a:endParaRPr b="0" lang="en-US" sz="10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4" name=""/>
          <p:cNvSpPr/>
          <p:nvPr/>
        </p:nvSpPr>
        <p:spPr>
          <a:xfrm>
            <a:off x="6811920" y="1676520"/>
            <a:ext cx="11178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96520" y="1727280"/>
            <a:ext cx="764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5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603520" y="2019240"/>
            <a:ext cx="344520" cy="3006720"/>
          </a:xfrm>
          <a:prstGeom prst="rect">
            <a:avLst/>
          </a:prstGeom>
          <a:solidFill>
            <a:srgbClr val="cc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664160" y="2192400"/>
            <a:ext cx="431640" cy="2833560"/>
          </a:xfrm>
          <a:prstGeom prst="rect">
            <a:avLst/>
          </a:prstGeom>
          <a:solidFill>
            <a:srgbClr val="cc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11920" y="2104920"/>
            <a:ext cx="430200" cy="2921040"/>
          </a:xfrm>
          <a:prstGeom prst="rect">
            <a:avLst/>
          </a:prstGeom>
          <a:solidFill>
            <a:srgbClr val="cc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ff"/>
                </a:solidFill>
                <a:latin typeface="Tahoma"/>
              </a:rPr>
              <a:t>The Function Set for Services</a:t>
            </a: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668240" y="1412640"/>
            <a:ext cx="6986520" cy="477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4040" indent="-284040">
              <a:lnSpc>
                <a:spcPct val="135000"/>
              </a:lnSpc>
              <a:spcBef>
                <a:spcPts val="901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ilding block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334800">
              <a:lnSpc>
                <a:spcPct val="135000"/>
              </a:lnSpc>
              <a:spcBef>
                <a:spcPts val="751"/>
              </a:spcBef>
              <a:buClr>
                <a:srgbClr val="33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334800">
              <a:lnSpc>
                <a:spcPct val="135000"/>
              </a:lnSpc>
              <a:spcBef>
                <a:spcPts val="751"/>
              </a:spcBef>
              <a:buClr>
                <a:srgbClr val="33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atabase look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334800">
              <a:lnSpc>
                <a:spcPct val="135000"/>
              </a:lnSpc>
              <a:spcBef>
                <a:spcPts val="751"/>
              </a:spcBef>
              <a:buClr>
                <a:srgbClr val="33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OU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334800">
              <a:lnSpc>
                <a:spcPct val="135000"/>
              </a:lnSpc>
              <a:spcBef>
                <a:spcPts val="751"/>
              </a:spcBef>
              <a:buClr>
                <a:srgbClr val="33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ring manip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334800">
              <a:lnSpc>
                <a:spcPct val="135000"/>
              </a:lnSpc>
              <a:spcBef>
                <a:spcPts val="751"/>
              </a:spcBef>
              <a:buClr>
                <a:srgbClr val="33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13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ff"/>
                </a:solidFill>
                <a:latin typeface="Tahoma"/>
              </a:rPr>
              <a:t>Data Types for Services</a:t>
            </a: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668240" y="1412640"/>
            <a:ext cx="6986520" cy="477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4040" indent="-284040">
              <a:lnSpc>
                <a:spcPct val="135000"/>
              </a:lnSpc>
              <a:spcBef>
                <a:spcPts val="901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lephony services require many data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334800">
              <a:lnSpc>
                <a:spcPct val="135000"/>
              </a:lnSpc>
              <a:spcBef>
                <a:spcPts val="751"/>
              </a:spcBef>
              <a:buClr>
                <a:srgbClr val="33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lephone numb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334800">
              <a:lnSpc>
                <a:spcPct val="135000"/>
              </a:lnSpc>
              <a:spcBef>
                <a:spcPts val="751"/>
              </a:spcBef>
              <a:buClr>
                <a:srgbClr val="33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eg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334800">
              <a:lnSpc>
                <a:spcPct val="135000"/>
              </a:lnSpc>
              <a:spcBef>
                <a:spcPts val="751"/>
              </a:spcBef>
              <a:buClr>
                <a:srgbClr val="33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35000"/>
              </a:lnSpc>
              <a:spcBef>
                <a:spcPts val="901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lymorphic data repres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334800">
              <a:lnSpc>
                <a:spcPct val="135000"/>
              </a:lnSpc>
              <a:spcBef>
                <a:spcPts val="751"/>
              </a:spcBef>
              <a:buClr>
                <a:srgbClr val="33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y variable is composed of sub-vari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334800">
              <a:lnSpc>
                <a:spcPct val="135000"/>
              </a:lnSpc>
              <a:spcBef>
                <a:spcPts val="751"/>
              </a:spcBef>
              <a:buClr>
                <a:srgbClr val="33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ach variable has one of each type of sub-vari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35000"/>
              </a:lnSpc>
              <a:spcBef>
                <a:spcPts val="901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ll programs are legal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3143160" y="1434960"/>
          <a:ext cx="4437000" cy="424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3160" y="1434960"/>
                    <a:ext cx="4437000" cy="42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ff"/>
                </a:solidFill>
                <a:latin typeface="Tahoma"/>
              </a:rPr>
              <a:t>Example Service Logic</a:t>
            </a: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ff"/>
                </a:solidFill>
                <a:latin typeface="Tahoma"/>
              </a:rPr>
              <a:t>The Outcome</a:t>
            </a: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668240" y="1412640"/>
            <a:ext cx="6986520" cy="477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4040" indent="-284040">
              <a:lnSpc>
                <a:spcPct val="145000"/>
              </a:lnSpc>
              <a:spcBef>
                <a:spcPts val="901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rvice Logic creation successfu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45000"/>
              </a:lnSpc>
              <a:spcBef>
                <a:spcPts val="901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reat variety of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45000"/>
              </a:lnSpc>
              <a:spcBef>
                <a:spcPts val="901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itness represents tes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45000"/>
              </a:lnSpc>
              <a:spcBef>
                <a:spcPts val="901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itness is the specif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45000"/>
              </a:lnSpc>
              <a:spcBef>
                <a:spcPts val="901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ftware Engineering Management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334800">
              <a:lnSpc>
                <a:spcPct val="65000"/>
              </a:lnSpc>
              <a:spcBef>
                <a:spcPts val="751"/>
              </a:spcBef>
              <a:buClr>
                <a:srgbClr val="33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pecification vs. Co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45000"/>
              </a:lnSpc>
              <a:spcBef>
                <a:spcPts val="901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ther Issue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334800">
              <a:lnSpc>
                <a:spcPct val="65000"/>
              </a:lnSpc>
              <a:spcBef>
                <a:spcPts val="751"/>
              </a:spcBef>
              <a:buClr>
                <a:srgbClr val="33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y hidden surprise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14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ff"/>
                </a:solidFill>
                <a:latin typeface="Tahoma"/>
              </a:rPr>
              <a:t>Conclusions</a:t>
            </a: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668240" y="1412640"/>
            <a:ext cx="6986520" cy="477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40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5000"/>
              </a:lnSpc>
              <a:spcBef>
                <a:spcPts val="901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P shown to be a powerful techniq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5000"/>
              </a:lnSpc>
              <a:spcBef>
                <a:spcPts val="901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vel programs evolv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5000"/>
              </a:lnSpc>
              <a:spcBef>
                <a:spcPts val="901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ep towards automatic program gen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5000"/>
              </a:lnSpc>
              <a:spcBef>
                <a:spcPts val="1049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hifts focus from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ff"/>
                </a:solidFill>
                <a:latin typeface="Tahoma"/>
              </a:rPr>
              <a:t>Genetic Programming</a:t>
            </a:r>
            <a:r>
              <a:rPr b="1" lang="en-GB" sz="2800" spc="-1" strike="noStrike">
                <a:solidFill>
                  <a:srgbClr val="3399ff"/>
                </a:solidFill>
                <a:latin typeface="Tahoma"/>
              </a:rPr>
              <a:t>	</a:t>
            </a: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68240" y="1320840"/>
            <a:ext cx="6986520" cy="421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4040" indent="-284040">
              <a:lnSpc>
                <a:spcPct val="165000"/>
              </a:lnSpc>
              <a:spcBef>
                <a:spcPts val="901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volving computer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65000"/>
              </a:lnSpc>
              <a:spcBef>
                <a:spcPts val="901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atural sel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65000"/>
              </a:lnSpc>
              <a:spcBef>
                <a:spcPts val="901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itness improves surviv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65000"/>
              </a:lnSpc>
              <a:spcBef>
                <a:spcPts val="901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enetic inherit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ff"/>
                </a:solidFill>
                <a:latin typeface="Tahoma"/>
              </a:rPr>
              <a:t>Steps in Using GP</a:t>
            </a: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029120" y="4343400"/>
            <a:ext cx="2133720" cy="1523880"/>
            <a:chOff x="4029120" y="4343400"/>
            <a:chExt cx="2133720" cy="1523880"/>
          </a:xfrm>
        </p:grpSpPr>
        <p:sp>
          <p:nvSpPr>
            <p:cNvPr id="97" name=""/>
            <p:cNvSpPr/>
            <p:nvPr/>
          </p:nvSpPr>
          <p:spPr>
            <a:xfrm>
              <a:off x="4029120" y="4724280"/>
              <a:ext cx="2133720" cy="1143000"/>
            </a:xfrm>
            <a:prstGeom prst="flowChartDecision">
              <a:avLst/>
            </a:prstGeom>
            <a:solidFill>
              <a:srgbClr val="ffff99"/>
            </a:solidFill>
            <a:ln w="9360">
              <a:solidFill>
                <a:srgbClr val="64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End of </a:t>
              </a:r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Run ?</a:t>
              </a:r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95800" y="4343400"/>
              <a:ext cx="76320" cy="380880"/>
            </a:xfrm>
            <a:prstGeom prst="downArrow">
              <a:avLst>
                <a:gd name="adj1" fmla="val 50000"/>
                <a:gd name="adj2" fmla="val 124764"/>
              </a:avLst>
            </a:prstGeom>
            <a:solidFill>
              <a:srgbClr val="c20000"/>
            </a:solidFill>
            <a:ln w="9360">
              <a:solidFill>
                <a:srgbClr val="64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743120" y="4724280"/>
            <a:ext cx="2362320" cy="990720"/>
            <a:chOff x="1743120" y="4724280"/>
            <a:chExt cx="2362320" cy="990720"/>
          </a:xfrm>
        </p:grpSpPr>
        <p:sp>
          <p:nvSpPr>
            <p:cNvPr id="100" name=""/>
            <p:cNvSpPr/>
            <p:nvPr/>
          </p:nvSpPr>
          <p:spPr>
            <a:xfrm>
              <a:off x="1743120" y="4724280"/>
              <a:ext cx="1676520" cy="990720"/>
            </a:xfrm>
            <a:prstGeom prst="flowChartProcess">
              <a:avLst/>
            </a:prstGeom>
            <a:solidFill>
              <a:srgbClr val="ffff99"/>
            </a:solidFill>
            <a:ln w="9360">
              <a:solidFill>
                <a:srgbClr val="64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Evolve Next</a:t>
              </a:r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Generation</a:t>
              </a:r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19640" y="5257800"/>
              <a:ext cx="609480" cy="76320"/>
            </a:xfrm>
            <a:prstGeom prst="leftArrow">
              <a:avLst>
                <a:gd name="adj1" fmla="val 50000"/>
                <a:gd name="adj2" fmla="val 199646"/>
              </a:avLst>
            </a:prstGeom>
            <a:solidFill>
              <a:srgbClr val="c20000"/>
            </a:solidFill>
            <a:ln w="9360">
              <a:solidFill>
                <a:srgbClr val="64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24200" y="4724280"/>
              <a:ext cx="38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646464"/>
                  </a:solidFill>
                  <a:latin typeface="Times New Roman"/>
                </a:rPr>
                <a:t>No</a:t>
              </a:r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580120" y="3621240"/>
            <a:ext cx="1829880" cy="1101960"/>
            <a:chOff x="2580120" y="3621240"/>
            <a:chExt cx="1829880" cy="1101960"/>
          </a:xfrm>
        </p:grpSpPr>
        <p:sp>
          <p:nvSpPr>
            <p:cNvPr id="104" name=""/>
            <p:cNvSpPr/>
            <p:nvPr/>
          </p:nvSpPr>
          <p:spPr>
            <a:xfrm rot="16208400">
              <a:off x="2122200" y="4189320"/>
              <a:ext cx="992160" cy="74520"/>
            </a:xfrm>
            <a:prstGeom prst="rect">
              <a:avLst/>
            </a:prstGeom>
            <a:solidFill>
              <a:srgbClr val="c20000"/>
            </a:solidFill>
            <a:ln w="9360">
              <a:solidFill>
                <a:srgbClr val="64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81200" y="3657600"/>
              <a:ext cx="1219320" cy="74520"/>
            </a:xfrm>
            <a:prstGeom prst="rect">
              <a:avLst/>
            </a:prstGeom>
            <a:solidFill>
              <a:srgbClr val="c20000"/>
            </a:solidFill>
            <a:ln w="9360">
              <a:solidFill>
                <a:srgbClr val="64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800520" y="3621240"/>
              <a:ext cx="609480" cy="152280"/>
            </a:xfrm>
            <a:prstGeom prst="rightArrow">
              <a:avLst>
                <a:gd name="adj1" fmla="val 50000"/>
                <a:gd name="adj2" fmla="val 100059"/>
              </a:avLst>
            </a:prstGeom>
            <a:solidFill>
              <a:srgbClr val="c20000"/>
            </a:solidFill>
            <a:ln w="9360">
              <a:solidFill>
                <a:srgbClr val="64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4410000" y="2971800"/>
            <a:ext cx="1371600" cy="1371600"/>
            <a:chOff x="4410000" y="2971800"/>
            <a:chExt cx="1371600" cy="1371600"/>
          </a:xfrm>
        </p:grpSpPr>
        <p:sp>
          <p:nvSpPr>
            <p:cNvPr id="108" name=""/>
            <p:cNvSpPr/>
            <p:nvPr/>
          </p:nvSpPr>
          <p:spPr>
            <a:xfrm>
              <a:off x="4410000" y="3352680"/>
              <a:ext cx="1371600" cy="990720"/>
            </a:xfrm>
            <a:prstGeom prst="flowChartProcess">
              <a:avLst/>
            </a:prstGeom>
            <a:solidFill>
              <a:srgbClr val="ffff99"/>
            </a:solidFill>
            <a:ln w="9360">
              <a:solidFill>
                <a:srgbClr val="64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Test for</a:t>
              </a:r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Fitness</a:t>
              </a:r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095800" y="2971800"/>
              <a:ext cx="76320" cy="380880"/>
            </a:xfrm>
            <a:prstGeom prst="downArrow">
              <a:avLst>
                <a:gd name="adj1" fmla="val 50000"/>
                <a:gd name="adj2" fmla="val 124764"/>
              </a:avLst>
            </a:prstGeom>
            <a:solidFill>
              <a:srgbClr val="c20000"/>
            </a:solidFill>
            <a:ln w="9360">
              <a:solidFill>
                <a:srgbClr val="64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334040" y="1295280"/>
            <a:ext cx="1447560" cy="1676520"/>
            <a:chOff x="4334040" y="1295280"/>
            <a:chExt cx="1447560" cy="1676520"/>
          </a:xfrm>
        </p:grpSpPr>
        <p:sp>
          <p:nvSpPr>
            <p:cNvPr id="111" name=""/>
            <p:cNvSpPr/>
            <p:nvPr/>
          </p:nvSpPr>
          <p:spPr>
            <a:xfrm>
              <a:off x="4410000" y="2057400"/>
              <a:ext cx="1371600" cy="914400"/>
            </a:xfrm>
            <a:prstGeom prst="flowChartProcess">
              <a:avLst/>
            </a:prstGeom>
            <a:solidFill>
              <a:srgbClr val="ffff99"/>
            </a:solidFill>
            <a:ln w="9360">
              <a:solidFill>
                <a:srgbClr val="64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Create </a:t>
              </a:r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Population</a:t>
              </a:r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19840" y="1752480"/>
              <a:ext cx="75960" cy="304920"/>
            </a:xfrm>
            <a:prstGeom prst="downArrow">
              <a:avLst>
                <a:gd name="adj1" fmla="val 50000"/>
                <a:gd name="adj2" fmla="val 100355"/>
              </a:avLst>
            </a:prstGeom>
            <a:solidFill>
              <a:srgbClr val="c20000"/>
            </a:solidFill>
            <a:ln w="9360">
              <a:solidFill>
                <a:srgbClr val="64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34040" y="1295280"/>
              <a:ext cx="1447560" cy="457200"/>
            </a:xfrm>
            <a:prstGeom prst="flowChartTerminator">
              <a:avLst/>
            </a:prstGeom>
            <a:solidFill>
              <a:srgbClr val="ffff99"/>
            </a:solidFill>
            <a:ln w="9360">
              <a:solidFill>
                <a:srgbClr val="64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905120" y="1371600"/>
            <a:ext cx="6750000" cy="481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4040" indent="-284040">
              <a:lnSpc>
                <a:spcPct val="105000"/>
              </a:lnSpc>
              <a:spcBef>
                <a:spcPts val="901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lect suitable functions and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5000"/>
              </a:lnSpc>
              <a:spcBef>
                <a:spcPts val="1049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unctional considerations -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fficienc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334800">
              <a:lnSpc>
                <a:spcPct val="105000"/>
              </a:lnSpc>
              <a:spcBef>
                <a:spcPts val="751"/>
              </a:spcBef>
              <a:buClr>
                <a:srgbClr val="33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blem Specific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5000"/>
              </a:lnSpc>
              <a:spcBef>
                <a:spcPts val="1049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yntactical considerations -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os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334800">
              <a:lnSpc>
                <a:spcPct val="105000"/>
              </a:lnSpc>
              <a:spcBef>
                <a:spcPts val="751"/>
              </a:spcBef>
              <a:buClr>
                <a:srgbClr val="33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ll programs must be legal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334800">
              <a:lnSpc>
                <a:spcPct val="105000"/>
              </a:lnSpc>
              <a:spcBef>
                <a:spcPts val="751"/>
              </a:spcBef>
              <a:buClr>
                <a:srgbClr val="33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ample:- Division by zero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5000"/>
              </a:lnSpc>
              <a:spcBef>
                <a:spcPts val="901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ndomly create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334800">
              <a:lnSpc>
                <a:spcPct val="105000"/>
              </a:lnSpc>
              <a:spcBef>
                <a:spcPts val="751"/>
              </a:spcBef>
              <a:buClr>
                <a:srgbClr val="33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pulation size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334800">
              <a:lnSpc>
                <a:spcPct val="105000"/>
              </a:lnSpc>
              <a:spcBef>
                <a:spcPts val="751"/>
              </a:spcBef>
              <a:buClr>
                <a:srgbClr val="33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gram size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ff"/>
                </a:solidFill>
                <a:latin typeface="Tahoma"/>
              </a:rPr>
              <a:t>Creating a population</a:t>
            </a: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9f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ff"/>
                </a:solidFill>
                <a:latin typeface="Tahoma"/>
              </a:rPr>
              <a:t>Testing for Fitness</a:t>
            </a: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743120" y="4724280"/>
            <a:ext cx="1676520" cy="99072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imes New Roman"/>
              </a:rPr>
              <a:t>Evolve Next</a:t>
            </a:r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imes New Roman"/>
              </a:rPr>
              <a:t>Generation</a:t>
            </a:r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19640" y="5257800"/>
            <a:ext cx="609480" cy="76320"/>
          </a:xfrm>
          <a:prstGeom prst="leftArrow">
            <a:avLst>
              <a:gd name="adj1" fmla="val 50000"/>
              <a:gd name="adj2" fmla="val 199646"/>
            </a:avLst>
          </a:prstGeom>
          <a:solidFill>
            <a:srgbClr val="c20000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29120" y="4724280"/>
            <a:ext cx="2133720" cy="1143000"/>
          </a:xfrm>
          <a:prstGeom prst="flowChartDecision">
            <a:avLst/>
          </a:prstGeom>
          <a:solidFill>
            <a:srgbClr val="ffff99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imes New Roman"/>
              </a:rPr>
              <a:t>End of Run</a:t>
            </a:r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95800" y="434340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c20000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24200" y="4724280"/>
            <a:ext cx="381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6208400">
            <a:off x="2122200" y="4189320"/>
            <a:ext cx="992160" cy="74520"/>
          </a:xfrm>
          <a:prstGeom prst="rect">
            <a:avLst/>
          </a:prstGeom>
          <a:solidFill>
            <a:srgbClr val="c20000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81200" y="3657600"/>
            <a:ext cx="1219320" cy="74520"/>
          </a:xfrm>
          <a:prstGeom prst="rect">
            <a:avLst/>
          </a:prstGeom>
          <a:solidFill>
            <a:srgbClr val="c20000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0520" y="3621240"/>
            <a:ext cx="609480" cy="152280"/>
          </a:xfrm>
          <a:prstGeom prst="rightArrow">
            <a:avLst>
              <a:gd name="adj1" fmla="val 50000"/>
              <a:gd name="adj2" fmla="val 100059"/>
            </a:avLst>
          </a:prstGeom>
          <a:solidFill>
            <a:srgbClr val="c20000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10000" y="3352680"/>
            <a:ext cx="1371600" cy="99072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est for</a:t>
            </a:r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itness</a:t>
            </a:r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95800" y="297180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c20000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10000" y="2057400"/>
            <a:ext cx="1371600" cy="91440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imes New Roman"/>
              </a:rPr>
              <a:t>Create </a:t>
            </a:r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imes New Roman"/>
              </a:rPr>
              <a:t>Population</a:t>
            </a:r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19840" y="1752480"/>
            <a:ext cx="75960" cy="304920"/>
          </a:xfrm>
          <a:prstGeom prst="downArrow">
            <a:avLst>
              <a:gd name="adj1" fmla="val 50000"/>
              <a:gd name="adj2" fmla="val 100355"/>
            </a:avLst>
          </a:prstGeom>
          <a:solidFill>
            <a:srgbClr val="c20000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34040" y="1295280"/>
            <a:ext cx="1447560" cy="45720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668240" y="1412640"/>
            <a:ext cx="6986520" cy="477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4040" indent="-284040">
              <a:lnSpc>
                <a:spcPct val="165000"/>
              </a:lnSpc>
              <a:spcBef>
                <a:spcPts val="901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Fitness fun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65000"/>
              </a:lnSpc>
              <a:spcBef>
                <a:spcPts val="901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ecution or Interpre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65000"/>
              </a:lnSpc>
              <a:spcBef>
                <a:spcPts val="901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itness is problem specif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65000"/>
              </a:lnSpc>
              <a:spcBef>
                <a:spcPts val="901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ach individual is given a sco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ff"/>
                </a:solidFill>
                <a:latin typeface="Tahoma"/>
              </a:rPr>
              <a:t>Testing for Fitness</a:t>
            </a: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9f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ff"/>
                </a:solidFill>
                <a:latin typeface="Tahoma"/>
              </a:rPr>
              <a:t>Evolving Generations</a:t>
            </a: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1743120" y="4724280"/>
            <a:ext cx="1676520" cy="99072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volve Next</a:t>
            </a:r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eneration</a:t>
            </a:r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19640" y="5257800"/>
            <a:ext cx="609480" cy="76320"/>
          </a:xfrm>
          <a:prstGeom prst="leftArrow">
            <a:avLst>
              <a:gd name="adj1" fmla="val 50000"/>
              <a:gd name="adj2" fmla="val 199646"/>
            </a:avLst>
          </a:prstGeom>
          <a:solidFill>
            <a:srgbClr val="c20000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029120" y="4724280"/>
            <a:ext cx="2133720" cy="1143000"/>
          </a:xfrm>
          <a:prstGeom prst="flowChartDecision">
            <a:avLst/>
          </a:prstGeom>
          <a:solidFill>
            <a:srgbClr val="ffff99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nd of Run</a:t>
            </a:r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95800" y="434340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c20000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24200" y="4724280"/>
            <a:ext cx="381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6208400">
            <a:off x="2122200" y="4189320"/>
            <a:ext cx="992160" cy="74520"/>
          </a:xfrm>
          <a:prstGeom prst="rect">
            <a:avLst/>
          </a:prstGeom>
          <a:solidFill>
            <a:srgbClr val="c20000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81200" y="3657600"/>
            <a:ext cx="1219320" cy="74520"/>
          </a:xfrm>
          <a:prstGeom prst="rect">
            <a:avLst/>
          </a:prstGeom>
          <a:solidFill>
            <a:srgbClr val="c20000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0520" y="3621240"/>
            <a:ext cx="609480" cy="152280"/>
          </a:xfrm>
          <a:prstGeom prst="rightArrow">
            <a:avLst>
              <a:gd name="adj1" fmla="val 50000"/>
              <a:gd name="adj2" fmla="val 100059"/>
            </a:avLst>
          </a:prstGeom>
          <a:solidFill>
            <a:srgbClr val="c20000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10000" y="3352680"/>
            <a:ext cx="1371600" cy="99072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imes New Roman"/>
              </a:rPr>
              <a:t>Test for</a:t>
            </a:r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imes New Roman"/>
              </a:rPr>
              <a:t>Fitness</a:t>
            </a:r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95800" y="297180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c20000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10000" y="2057400"/>
            <a:ext cx="1371600" cy="91440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imes New Roman"/>
              </a:rPr>
              <a:t>Create </a:t>
            </a:r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imes New Roman"/>
              </a:rPr>
              <a:t>Population</a:t>
            </a:r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19840" y="1752480"/>
            <a:ext cx="75960" cy="304920"/>
          </a:xfrm>
          <a:prstGeom prst="downArrow">
            <a:avLst>
              <a:gd name="adj1" fmla="val 50000"/>
              <a:gd name="adj2" fmla="val 100355"/>
            </a:avLst>
          </a:prstGeom>
          <a:solidFill>
            <a:srgbClr val="c20000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34040" y="1295280"/>
            <a:ext cx="1447560" cy="45720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668240" y="1412640"/>
            <a:ext cx="6986520" cy="477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4040" indent="-284040">
              <a:lnSpc>
                <a:spcPct val="125000"/>
              </a:lnSpc>
              <a:spcBef>
                <a:spcPts val="901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lect fittest individu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334800">
              <a:lnSpc>
                <a:spcPct val="65000"/>
              </a:lnSpc>
              <a:spcBef>
                <a:spcPts val="751"/>
              </a:spcBef>
              <a:buClr>
                <a:srgbClr val="33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tness proportion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335160">
              <a:lnSpc>
                <a:spcPct val="65000"/>
              </a:lnSpc>
              <a:spcBef>
                <a:spcPts val="751"/>
              </a:spcBef>
              <a:buClr>
                <a:srgbClr val="3399ff"/>
              </a:buClr>
              <a:buSzPct val="60000"/>
              <a:buFont typeface="Monotype Sorts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334800">
              <a:lnSpc>
                <a:spcPct val="65000"/>
              </a:lnSpc>
              <a:spcBef>
                <a:spcPts val="751"/>
              </a:spcBef>
              <a:buClr>
                <a:srgbClr val="33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urnament sel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25000"/>
              </a:lnSpc>
              <a:spcBef>
                <a:spcPts val="901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 the fittest to create next gen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25000"/>
              </a:lnSpc>
              <a:spcBef>
                <a:spcPts val="901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production opera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334800">
              <a:lnSpc>
                <a:spcPct val="125000"/>
              </a:lnSpc>
              <a:spcBef>
                <a:spcPts val="751"/>
              </a:spcBef>
              <a:buClr>
                <a:srgbClr val="33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u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334800">
              <a:lnSpc>
                <a:spcPct val="125000"/>
              </a:lnSpc>
              <a:spcBef>
                <a:spcPts val="751"/>
              </a:spcBef>
              <a:buClr>
                <a:srgbClr val="33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exual reproduction (cop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334800">
              <a:lnSpc>
                <a:spcPct val="125000"/>
              </a:lnSpc>
              <a:spcBef>
                <a:spcPts val="751"/>
              </a:spcBef>
              <a:buClr>
                <a:srgbClr val="33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xual Reproduction (crossover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ff"/>
                </a:solidFill>
                <a:latin typeface="Tahoma"/>
              </a:rPr>
              <a:t>Evolving Generations</a:t>
            </a: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ff"/>
                </a:solidFill>
                <a:latin typeface="Tahoma"/>
              </a:rPr>
              <a:t>Crossover</a:t>
            </a: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6060960" y="5751360"/>
            <a:ext cx="10065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934280" y="1967040"/>
            <a:ext cx="2747160" cy="4174920"/>
            <a:chOff x="1934280" y="1967040"/>
            <a:chExt cx="2747160" cy="4174920"/>
          </a:xfrm>
        </p:grpSpPr>
        <p:sp>
          <p:nvSpPr>
            <p:cNvPr id="151" name=""/>
            <p:cNvSpPr/>
            <p:nvPr/>
          </p:nvSpPr>
          <p:spPr>
            <a:xfrm>
              <a:off x="3613320" y="2235240"/>
              <a:ext cx="439560" cy="263520"/>
            </a:xfrm>
            <a:prstGeom prst="ellipse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680640" y="22795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</a:rPr>
                <a:t>F1</a:t>
              </a:r>
              <a:endParaRPr b="0" lang="en-US" sz="9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4880" y="2719440"/>
              <a:ext cx="450720" cy="272880"/>
            </a:xfrm>
            <a:prstGeom prst="ellipse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15440" y="27655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</a:rPr>
                <a:t>F2</a:t>
              </a:r>
              <a:endParaRPr b="0" lang="en-US" sz="9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87880" y="2664000"/>
              <a:ext cx="447480" cy="274320"/>
            </a:xfrm>
            <a:prstGeom prst="ellipse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58440" y="2711520"/>
              <a:ext cx="13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9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14440" y="3276720"/>
              <a:ext cx="449280" cy="272880"/>
            </a:xfrm>
            <a:prstGeom prst="ellipse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85360" y="3322800"/>
              <a:ext cx="13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9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728880" y="3247920"/>
              <a:ext cx="451080" cy="273240"/>
            </a:xfrm>
            <a:prstGeom prst="ellipse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99800" y="3294000"/>
              <a:ext cx="120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Times New Roman"/>
                </a:rPr>
                <a:t>T3</a:t>
              </a:r>
              <a:endParaRPr b="0" lang="en-US" sz="8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3400560" y="2502000"/>
              <a:ext cx="317520" cy="244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2679480" y="2970360"/>
              <a:ext cx="422280" cy="342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59280" y="2496960"/>
              <a:ext cx="303120" cy="212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09920" y="2970360"/>
              <a:ext cx="419040" cy="311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908440" y="4056120"/>
              <a:ext cx="457200" cy="272880"/>
            </a:xfrm>
            <a:prstGeom prst="ellipse">
              <a:avLst/>
            </a:prstGeom>
            <a:solidFill>
              <a:srgbClr val="33cc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979000" y="40971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</a:rPr>
                <a:t>F2</a:t>
              </a:r>
              <a:endParaRPr b="0" lang="en-US" sz="9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979720" y="520056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977920" y="5313240"/>
              <a:ext cx="118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Times New Roman"/>
                </a:rPr>
                <a:t>re </a:t>
              </a:r>
              <a:endParaRPr b="0" lang="en-US" sz="8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1520" y="5313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8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14440" y="4556160"/>
              <a:ext cx="449280" cy="272880"/>
            </a:xfrm>
            <a:prstGeom prst="ellipse">
              <a:avLst/>
            </a:prstGeom>
            <a:solidFill>
              <a:srgbClr val="33cc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385360" y="4602240"/>
              <a:ext cx="13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</a:rPr>
                <a:t>T4</a:t>
              </a:r>
              <a:endParaRPr b="0" lang="en-US" sz="9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273480" y="4305240"/>
              <a:ext cx="355680" cy="277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633760" y="4305240"/>
              <a:ext cx="365040" cy="277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2384280"/>
              <a:ext cx="458640" cy="279720"/>
            </a:xfrm>
            <a:custGeom>
              <a:avLst/>
              <a:gdLst/>
              <a:ahLst/>
              <a:rect l="l" t="t" r="r" b="b"/>
              <a:pathLst>
                <a:path w="289" h="351">
                  <a:moveTo>
                    <a:pt x="113" y="0"/>
                  </a:moveTo>
                  <a:lnTo>
                    <a:pt x="0" y="63"/>
                  </a:lnTo>
                  <a:lnTo>
                    <a:pt x="102" y="137"/>
                  </a:lnTo>
                  <a:lnTo>
                    <a:pt x="67" y="158"/>
                  </a:lnTo>
                  <a:lnTo>
                    <a:pt x="162" y="226"/>
                  </a:lnTo>
                  <a:lnTo>
                    <a:pt x="133" y="242"/>
                  </a:lnTo>
                  <a:lnTo>
                    <a:pt x="289" y="351"/>
                  </a:lnTo>
                  <a:lnTo>
                    <a:pt x="196" y="209"/>
                  </a:lnTo>
                  <a:lnTo>
                    <a:pt x="221" y="196"/>
                  </a:lnTo>
                  <a:lnTo>
                    <a:pt x="148" y="111"/>
                  </a:lnTo>
                  <a:lnTo>
                    <a:pt x="171" y="99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ff66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46360" y="4221000"/>
              <a:ext cx="459000" cy="277920"/>
            </a:xfrm>
            <a:custGeom>
              <a:avLst/>
              <a:gdLst/>
              <a:ahLst/>
              <a:rect l="l" t="t" r="r" b="b"/>
              <a:pathLst>
                <a:path w="289" h="350">
                  <a:moveTo>
                    <a:pt x="176" y="0"/>
                  </a:moveTo>
                  <a:lnTo>
                    <a:pt x="289" y="63"/>
                  </a:lnTo>
                  <a:lnTo>
                    <a:pt x="187" y="136"/>
                  </a:lnTo>
                  <a:lnTo>
                    <a:pt x="222" y="158"/>
                  </a:lnTo>
                  <a:lnTo>
                    <a:pt x="125" y="226"/>
                  </a:lnTo>
                  <a:lnTo>
                    <a:pt x="155" y="242"/>
                  </a:lnTo>
                  <a:lnTo>
                    <a:pt x="0" y="350"/>
                  </a:lnTo>
                  <a:lnTo>
                    <a:pt x="91" y="209"/>
                  </a:lnTo>
                  <a:lnTo>
                    <a:pt x="68" y="195"/>
                  </a:lnTo>
                  <a:lnTo>
                    <a:pt x="141" y="110"/>
                  </a:lnTo>
                  <a:lnTo>
                    <a:pt x="117" y="99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ff66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46360" y="4556160"/>
              <a:ext cx="451080" cy="272880"/>
            </a:xfrm>
            <a:prstGeom prst="ellipse">
              <a:avLst/>
            </a:prstGeom>
            <a:solidFill>
              <a:srgbClr val="33cc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17280" y="4602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</a:rPr>
                <a:t>F3</a:t>
              </a:r>
              <a:endParaRPr b="0" lang="en-US" sz="9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16280" y="5111640"/>
              <a:ext cx="449280" cy="274680"/>
            </a:xfrm>
            <a:prstGeom prst="ellipse">
              <a:avLst/>
            </a:prstGeom>
            <a:solidFill>
              <a:srgbClr val="33cc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86840" y="5159520"/>
              <a:ext cx="13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</a:rPr>
                <a:t>T5</a:t>
              </a:r>
              <a:endParaRPr b="0" lang="en-US" sz="9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233960" y="5083200"/>
              <a:ext cx="447480" cy="274680"/>
            </a:xfrm>
            <a:prstGeom prst="ellipse">
              <a:avLst/>
            </a:prstGeom>
            <a:solidFill>
              <a:srgbClr val="33cc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303080" y="5130720"/>
              <a:ext cx="13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</a:rPr>
                <a:t>T6</a:t>
              </a:r>
              <a:endParaRPr b="0" lang="en-US" sz="9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3181320" y="4807080"/>
              <a:ext cx="425520" cy="342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913200" y="4807080"/>
              <a:ext cx="419040" cy="311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36800" y="1967040"/>
              <a:ext cx="127152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934280" y="1971720"/>
              <a:ext cx="761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Times New Roman"/>
                </a:rPr>
                <a:t>Individual A</a:t>
              </a:r>
              <a:endParaRPr b="0" lang="en-US" sz="11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82760" y="5621400"/>
              <a:ext cx="1236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279880" y="5626080"/>
              <a:ext cx="753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Times New Roman"/>
                </a:rPr>
                <a:t>Individual B</a:t>
              </a:r>
              <a:endParaRPr b="0" lang="en-US" sz="11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19560" y="5807160"/>
              <a:ext cx="10062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35120" y="5848200"/>
              <a:ext cx="33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Parents</a:t>
              </a:r>
              <a:endParaRPr b="0" lang="en-US" sz="9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41760" y="3916440"/>
              <a:ext cx="10080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641040" y="3916440"/>
              <a:ext cx="465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Crossover</a:t>
              </a:r>
              <a:endParaRPr b="0" lang="en-US" sz="9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640320" y="4054320"/>
              <a:ext cx="238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point</a:t>
              </a:r>
              <a:endParaRPr b="0" lang="en-US" sz="9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68640" y="2247840"/>
              <a:ext cx="128088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66120" y="2251080"/>
              <a:ext cx="732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Crossover point</a:t>
              </a:r>
              <a:endParaRPr b="0" lang="en-US" sz="9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44880" y="3470400"/>
              <a:ext cx="596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60440" y="351000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9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298320" y="356076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6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41800" y="2357280"/>
              <a:ext cx="3207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41440" y="236232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9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279680" y="241308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6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592440" y="5418000"/>
              <a:ext cx="4604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08000" y="545292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9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36520" y="550404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6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451240" y="4249800"/>
              <a:ext cx="3222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450880" y="42530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9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79400" y="430524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6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4460760" y="2036880"/>
            <a:ext cx="3035520" cy="3891960"/>
            <a:chOff x="4460760" y="2036880"/>
            <a:chExt cx="3035520" cy="3891960"/>
          </a:xfrm>
        </p:grpSpPr>
        <p:sp>
          <p:nvSpPr>
            <p:cNvPr id="208" name=""/>
            <p:cNvSpPr/>
            <p:nvPr/>
          </p:nvSpPr>
          <p:spPr>
            <a:xfrm>
              <a:off x="6400080" y="5791320"/>
              <a:ext cx="447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Offspring</a:t>
              </a:r>
              <a:endParaRPr b="0" lang="en-US" sz="9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4460760" y="2036880"/>
              <a:ext cx="3035520" cy="2601720"/>
              <a:chOff x="4460760" y="2036880"/>
              <a:chExt cx="3035520" cy="2601720"/>
            </a:xfrm>
          </p:grpSpPr>
          <p:grpSp>
            <p:nvGrpSpPr>
              <p:cNvPr id="210" name=""/>
              <p:cNvGrpSpPr/>
              <p:nvPr/>
            </p:nvGrpSpPr>
            <p:grpSpPr>
              <a:xfrm>
                <a:off x="4460760" y="3776760"/>
                <a:ext cx="1096920" cy="861840"/>
                <a:chOff x="4460760" y="3776760"/>
                <a:chExt cx="1096920" cy="861840"/>
              </a:xfrm>
            </p:grpSpPr>
            <p:sp>
              <p:nvSpPr>
                <p:cNvPr id="211" name=""/>
                <p:cNvSpPr/>
                <p:nvPr/>
              </p:nvSpPr>
              <p:spPr>
                <a:xfrm flipV="1">
                  <a:off x="4460760" y="3833640"/>
                  <a:ext cx="1024200" cy="80496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46464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432400" y="3776760"/>
                  <a:ext cx="125280" cy="83880"/>
                </a:xfrm>
                <a:custGeom>
                  <a:avLst/>
                  <a:gdLst/>
                  <a:ahLst/>
                  <a:rect l="l" t="t" r="r" b="b"/>
                  <a:pathLst>
                    <a:path w="79" h="106">
                      <a:moveTo>
                        <a:pt x="62" y="106"/>
                      </a:moveTo>
                      <a:lnTo>
                        <a:pt x="79" y="0"/>
                      </a:lnTo>
                      <a:lnTo>
                        <a:pt x="0" y="46"/>
                      </a:lnTo>
                      <a:lnTo>
                        <a:pt x="62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646464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5168880" y="2036880"/>
                <a:ext cx="2327400" cy="1712880"/>
                <a:chOff x="5168880" y="2036880"/>
                <a:chExt cx="2327400" cy="171288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5969160" y="2774880"/>
                  <a:ext cx="449280" cy="274680"/>
                </a:xfrm>
                <a:prstGeom prst="ellipse">
                  <a:avLst/>
                </a:prstGeom>
                <a:solidFill>
                  <a:srgbClr val="33cccc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46464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135480" y="2822400"/>
                  <a:ext cx="1288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900" spc="-1" strike="noStrike">
                      <a:solidFill>
                        <a:srgbClr val="000000"/>
                      </a:solidFill>
                      <a:latin typeface="Times New Roman"/>
                    </a:rPr>
                    <a:t>F3</a:t>
                  </a:r>
                  <a:endParaRPr b="0" lang="en-US" sz="900" spc="-1" strike="noStrike">
                    <a:solidFill>
                      <a:srgbClr val="646464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237280" y="3332160"/>
                  <a:ext cx="450720" cy="272880"/>
                </a:xfrm>
                <a:prstGeom prst="ellipse">
                  <a:avLst/>
                </a:prstGeom>
                <a:solidFill>
                  <a:srgbClr val="33cccc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46464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406120" y="3378240"/>
                  <a:ext cx="1350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900" spc="-1" strike="noStrike">
                      <a:solidFill>
                        <a:srgbClr val="000000"/>
                      </a:solidFill>
                      <a:latin typeface="Times New Roman"/>
                    </a:rPr>
                    <a:t>T5</a:t>
                  </a:r>
                  <a:endParaRPr b="0" lang="en-US" sz="900" spc="-1" strike="noStrike">
                    <a:solidFill>
                      <a:srgbClr val="646464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653160" y="3303720"/>
                  <a:ext cx="451080" cy="274680"/>
                </a:xfrm>
                <a:prstGeom prst="ellipse">
                  <a:avLst/>
                </a:prstGeom>
                <a:solidFill>
                  <a:srgbClr val="33cccc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46464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6797520" y="3349800"/>
                  <a:ext cx="1209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</a:rPr>
                    <a:t>T6</a:t>
                  </a:r>
                  <a:endParaRPr b="0" lang="en-US" sz="800" spc="-1" strike="noStrike">
                    <a:solidFill>
                      <a:srgbClr val="646464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5603400" y="3025800"/>
                  <a:ext cx="422280" cy="3427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46464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334200" y="3025800"/>
                  <a:ext cx="419040" cy="3110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46464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470640" y="2274840"/>
                  <a:ext cx="441360" cy="262080"/>
                </a:xfrm>
                <a:prstGeom prst="ellipse">
                  <a:avLst/>
                </a:pr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46464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635520" y="2319480"/>
                  <a:ext cx="1288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900" spc="-1" strike="noStrike">
                      <a:solidFill>
                        <a:srgbClr val="000000"/>
                      </a:solidFill>
                      <a:latin typeface="Times New Roman"/>
                    </a:rPr>
                    <a:t>F1</a:t>
                  </a:r>
                  <a:endParaRPr b="0" lang="en-US" sz="900" spc="-1" strike="noStrike">
                    <a:solidFill>
                      <a:srgbClr val="646464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045200" y="2705040"/>
                  <a:ext cx="451080" cy="274680"/>
                </a:xfrm>
                <a:prstGeom prst="ellipse">
                  <a:avLst/>
                </a:pr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46464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214400" y="2751120"/>
                  <a:ext cx="1350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900" spc="-1" strike="noStrike">
                      <a:solidFill>
                        <a:srgbClr val="000000"/>
                      </a:solidFill>
                      <a:latin typeface="Times New Roman"/>
                    </a:rPr>
                    <a:t>T1</a:t>
                  </a:r>
                  <a:endParaRPr b="0" lang="en-US" sz="900" spc="-1" strike="noStrike">
                    <a:solidFill>
                      <a:srgbClr val="646464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6259320" y="2541600"/>
                  <a:ext cx="317160" cy="24588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46464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816600" y="2536920"/>
                  <a:ext cx="304920" cy="21276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46464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168880" y="2036880"/>
                  <a:ext cx="1282680" cy="22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46464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457240" y="2041560"/>
                  <a:ext cx="7610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100" spc="-1" strike="noStrike">
                      <a:solidFill>
                        <a:srgbClr val="000000"/>
                      </a:solidFill>
                      <a:latin typeface="Times New Roman"/>
                    </a:rPr>
                    <a:t>Individual C</a:t>
                  </a:r>
                  <a:endParaRPr b="0" lang="en-US" sz="1100" spc="-1" strike="noStrike">
                    <a:solidFill>
                      <a:srgbClr val="646464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016760" y="2413080"/>
                  <a:ext cx="322200" cy="16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46464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094160" y="2416320"/>
                  <a:ext cx="831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9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900" spc="-1" strike="noStrike">
                    <a:solidFill>
                      <a:srgbClr val="646464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202880" y="2468520"/>
                  <a:ext cx="3888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600" spc="-1" strike="noStrike">
                    <a:solidFill>
                      <a:srgbClr val="646464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5923080" y="3554280"/>
                  <a:ext cx="458640" cy="19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46464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6115320" y="3589200"/>
                  <a:ext cx="770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9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900" spc="-1" strike="noStrike">
                    <a:solidFill>
                      <a:srgbClr val="646464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216840" y="3639960"/>
                  <a:ext cx="3888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600" spc="-1" strike="noStrike">
                    <a:solidFill>
                      <a:srgbClr val="646464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6" name=""/>
          <p:cNvGrpSpPr/>
          <p:nvPr/>
        </p:nvGrpSpPr>
        <p:grpSpPr>
          <a:xfrm>
            <a:off x="4233960" y="3497400"/>
            <a:ext cx="3335400" cy="2269440"/>
            <a:chOff x="4233960" y="3497400"/>
            <a:chExt cx="3335400" cy="2269440"/>
          </a:xfrm>
        </p:grpSpPr>
        <p:sp>
          <p:nvSpPr>
            <p:cNvPr id="237" name=""/>
            <p:cNvSpPr/>
            <p:nvPr/>
          </p:nvSpPr>
          <p:spPr>
            <a:xfrm>
              <a:off x="4233960" y="3497400"/>
              <a:ext cx="2523960" cy="1001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4973760" y="4056120"/>
              <a:ext cx="2595600" cy="1710720"/>
              <a:chOff x="4973760" y="4056120"/>
              <a:chExt cx="2595600" cy="1710720"/>
            </a:xfrm>
          </p:grpSpPr>
          <p:sp>
            <p:nvSpPr>
              <p:cNvPr id="239" name=""/>
              <p:cNvSpPr/>
              <p:nvPr/>
            </p:nvSpPr>
            <p:spPr>
              <a:xfrm>
                <a:off x="6264360" y="5594400"/>
                <a:ext cx="1305000" cy="1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705720" y="4457520"/>
                <a:ext cx="139680" cy="71640"/>
              </a:xfrm>
              <a:custGeom>
                <a:avLst/>
                <a:gdLst/>
                <a:ahLst/>
                <a:rect l="l" t="t" r="r" b="b"/>
                <a:pathLst>
                  <a:path w="88" h="90">
                    <a:moveTo>
                      <a:pt x="0" y="81"/>
                    </a:moveTo>
                    <a:lnTo>
                      <a:pt x="88" y="90"/>
                    </a:lnTo>
                    <a:lnTo>
                      <a:pt x="42" y="0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253560" y="4529160"/>
                <a:ext cx="449280" cy="272880"/>
              </a:xfrm>
              <a:prstGeom prst="ellipse">
                <a:avLst/>
              </a:prstGeom>
              <a:solidFill>
                <a:srgbClr val="ffff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322320" y="4575240"/>
                <a:ext cx="12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Times New Roman"/>
                  </a:rPr>
                  <a:t>F2</a:t>
                </a:r>
                <a:endParaRPr b="0" lang="en-US" sz="9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523120" y="5084640"/>
                <a:ext cx="447840" cy="274680"/>
              </a:xfrm>
              <a:prstGeom prst="ellipse">
                <a:avLst/>
              </a:prstGeom>
              <a:solidFill>
                <a:srgbClr val="ffff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590800" y="5132520"/>
                <a:ext cx="1350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Times New Roman"/>
                  </a:rPr>
                  <a:t>T2</a:t>
                </a:r>
                <a:endParaRPr b="0" lang="en-US" sz="9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939360" y="5056200"/>
                <a:ext cx="447480" cy="274680"/>
              </a:xfrm>
              <a:prstGeom prst="ellipse">
                <a:avLst/>
              </a:prstGeom>
              <a:solidFill>
                <a:srgbClr val="ffff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008480" y="5103720"/>
                <a:ext cx="1350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Times New Roman"/>
                  </a:rPr>
                  <a:t>T3</a:t>
                </a:r>
                <a:endParaRPr b="0" lang="en-US" sz="9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5888160" y="4780080"/>
                <a:ext cx="424080" cy="3427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618600" y="4780080"/>
                <a:ext cx="417600" cy="3110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567760" y="4056120"/>
                <a:ext cx="458640" cy="272880"/>
              </a:xfrm>
              <a:prstGeom prst="ellipse">
                <a:avLst/>
              </a:prstGeom>
              <a:solidFill>
                <a:srgbClr val="33cc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639760" y="4098960"/>
                <a:ext cx="12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Times New Roman"/>
                  </a:rPr>
                  <a:t>F2</a:t>
                </a:r>
                <a:endParaRPr b="0" lang="en-US" sz="9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973760" y="4556160"/>
                <a:ext cx="449280" cy="272880"/>
              </a:xfrm>
              <a:prstGeom prst="ellipse">
                <a:avLst/>
              </a:prstGeom>
              <a:solidFill>
                <a:srgbClr val="33cc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042880" y="4602240"/>
                <a:ext cx="1350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Times New Roman"/>
                  </a:rPr>
                  <a:t>T4</a:t>
                </a:r>
                <a:endParaRPr b="0" lang="en-US" sz="9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932800" y="4305240"/>
                <a:ext cx="355680" cy="2779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5294520" y="4305240"/>
                <a:ext cx="365040" cy="2779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261840" y="5599080"/>
                <a:ext cx="761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000000"/>
                    </a:solidFill>
                    <a:latin typeface="Times New Roman"/>
                  </a:rPr>
                  <a:t>Individual D</a:t>
                </a:r>
                <a:endParaRPr b="0" lang="en-US" sz="11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161400" y="5307120"/>
                <a:ext cx="5968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276960" y="534672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9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414840" y="5397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6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3T14:31:39Z</dcterms:created>
  <dc:creator>Marconi_User</dc:creator>
  <dc:description/>
  <dc:language>en-US</dc:language>
  <cp:lastModifiedBy>Marconi_User</cp:lastModifiedBy>
  <cp:lastPrinted>1999-10-11T15:27:19Z</cp:lastPrinted>
  <dcterms:modified xsi:type="dcterms:W3CDTF">1999-11-26T13:46:37Z</dcterms:modified>
  <cp:revision>32</cp:revision>
  <dc:subject/>
  <dc:title>Service Creation using Genetic Programming</dc:title>
</cp:coreProperties>
</file>