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7440" y="14400"/>
            <a:ext cx="7480080" cy="6843600"/>
          </a:xfrm>
          <a:custGeom>
            <a:avLst/>
            <a:gdLst/>
            <a:ahLst/>
            <a:rect l="l" t="t" r="r" b="b"/>
            <a:pathLst>
              <a:path w="4712" h="4311">
                <a:moveTo>
                  <a:pt x="1463" y="0"/>
                </a:moveTo>
                <a:lnTo>
                  <a:pt x="0" y="1467"/>
                </a:lnTo>
                <a:lnTo>
                  <a:pt x="2845" y="4311"/>
                </a:lnTo>
                <a:lnTo>
                  <a:pt x="4712" y="2433"/>
                </a:lnTo>
                <a:lnTo>
                  <a:pt x="4712" y="467"/>
                </a:lnTo>
                <a:lnTo>
                  <a:pt x="4245" y="0"/>
                </a:lnTo>
                <a:lnTo>
                  <a:pt x="1463" y="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ecfe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876920" y="6400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FORCES : IEE Colloquium : London’99    Slide </a:t>
            </a:r>
            <a:fld id="{10A50134-135B-4AB8-B2F5-08CE2263394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2120" y="647712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e.magill@eee.strath.ac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Uni%20Logo%20Background5" descr=""/>
          <p:cNvPicPr/>
          <p:nvPr/>
        </p:nvPicPr>
        <p:blipFill>
          <a:blip r:embed="rId2"/>
          <a:stretch/>
        </p:blipFill>
        <p:spPr>
          <a:xfrm>
            <a:off x="7461360" y="0"/>
            <a:ext cx="1676160" cy="1528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822320" y="914400"/>
            <a:ext cx="55627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7440" y="14400"/>
            <a:ext cx="7480080" cy="6843600"/>
          </a:xfrm>
          <a:custGeom>
            <a:avLst/>
            <a:gdLst/>
            <a:ahLst/>
            <a:rect l="l" t="t" r="r" b="b"/>
            <a:pathLst>
              <a:path w="4712" h="4311">
                <a:moveTo>
                  <a:pt x="1463" y="0"/>
                </a:moveTo>
                <a:lnTo>
                  <a:pt x="0" y="1467"/>
                </a:lnTo>
                <a:lnTo>
                  <a:pt x="2845" y="4311"/>
                </a:lnTo>
                <a:lnTo>
                  <a:pt x="4712" y="2433"/>
                </a:lnTo>
                <a:lnTo>
                  <a:pt x="4712" y="467"/>
                </a:lnTo>
                <a:lnTo>
                  <a:pt x="4245" y="0"/>
                </a:lnTo>
                <a:lnTo>
                  <a:pt x="1463" y="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ecfe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Uni%20Logo%20Background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063880" y="0"/>
            <a:ext cx="7080120" cy="6458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4479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ext generation networks - next generation feature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124080"/>
            <a:ext cx="8686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Evan Mag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1752480"/>
            <a:ext cx="487692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ll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1676520"/>
            <a:ext cx="761760" cy="609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1752480"/>
            <a:ext cx="762120" cy="609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hanged paradig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rvices and features unaware of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3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245 allows for “service negoti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aware of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can communic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ed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aware of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can communic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changed paradi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2362320"/>
            <a:ext cx="0" cy="106668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2209680"/>
            <a:ext cx="0" cy="12193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3429000"/>
            <a:ext cx="28195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848720" y="5105520"/>
          <a:ext cx="10033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105520"/>
                    <a:ext cx="10033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867280" y="5181480"/>
          <a:ext cx="10033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181480"/>
                    <a:ext cx="10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95880" y="3581280"/>
          <a:ext cx="137160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581280"/>
                    <a:ext cx="13716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H="1" flipV="1">
            <a:off x="7543800" y="4648320"/>
            <a:ext cx="83808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172200" y="4647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hanged paradig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moval of signalling limi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can communic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aware of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r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erworking - at least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aware of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can communic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er to peer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aware of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can communic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w approaches to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2362320"/>
            <a:ext cx="0" cy="106668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2209680"/>
            <a:ext cx="0" cy="12193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1828800"/>
            <a:ext cx="12193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828800"/>
            <a:ext cx="10670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3429000"/>
            <a:ext cx="28195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848720" y="4495680"/>
          <a:ext cx="10033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4495680"/>
                    <a:ext cx="10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486400" y="4495680"/>
          <a:ext cx="10033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495680"/>
                    <a:ext cx="10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400800" y="3581280"/>
          <a:ext cx="137160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581280"/>
                    <a:ext cx="13716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629400" y="205740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ew approaches to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er to peer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3rd party e.g. H323 gatekee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iff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ules/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ules p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upward 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w approaches to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ome initial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NA fe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mple notation to describe service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rdi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 general identical for fe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rdinality can be nego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w approaches to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nging nature of regulations, services a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volume of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volume and complexity of service intera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w opportunities for interaction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eer to peer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egotiation and med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To concl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67652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tent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ature interaction: a quick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xt generatio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nged paradi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w approaches to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0240" y="279360"/>
            <a:ext cx="15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day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480" y="279360"/>
            <a:ext cx="58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traditional view of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76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ference between the actions of independently written telecommunication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s a simple example is CFB and CW on a singl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3657600"/>
            <a:ext cx="5543280" cy="1886040"/>
            <a:chOff x="990720" y="3657600"/>
            <a:chExt cx="5543280" cy="1886040"/>
          </a:xfrm>
        </p:grpSpPr>
        <p:grpSp>
          <p:nvGrpSpPr>
            <p:cNvPr id="52" name=""/>
            <p:cNvGrpSpPr/>
            <p:nvPr/>
          </p:nvGrpSpPr>
          <p:grpSpPr>
            <a:xfrm>
              <a:off x="990720" y="3657600"/>
              <a:ext cx="5543280" cy="1123920"/>
              <a:chOff x="990720" y="3657600"/>
              <a:chExt cx="5543280" cy="112392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990720" y="3657600"/>
                <a:ext cx="4178160" cy="444600"/>
                <a:chOff x="990720" y="3657600"/>
                <a:chExt cx="4178160" cy="44460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990720" y="3657600"/>
                  <a:ext cx="444240" cy="4446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724280" y="3657600"/>
                  <a:ext cx="444600" cy="4446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467000" y="3879720"/>
                  <a:ext cx="3225600" cy="0"/>
                </a:xfrm>
                <a:prstGeom prst="line">
                  <a:avLst/>
                </a:prstGeom>
                <a:ln w="50760">
                  <a:solidFill>
                    <a:srgbClr val="cccc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5111640" y="3968640"/>
                <a:ext cx="1422360" cy="812880"/>
                <a:chOff x="5111640" y="3968640"/>
                <a:chExt cx="1422360" cy="8128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5111640" y="3968640"/>
                  <a:ext cx="1422360" cy="812880"/>
                </a:xfrm>
                <a:prstGeom prst="rect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5541840" y="4010040"/>
                  <a:ext cx="5745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ccccff"/>
                      </a:solidFill>
                      <a:latin typeface="Times New Roman"/>
                    </a:rPr>
                    <a:t>C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541840" y="4390920"/>
                  <a:ext cx="63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ccccff"/>
                      </a:solidFill>
                      <a:latin typeface="Times New Roman"/>
                    </a:rPr>
                    <a:t>CF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" name=""/>
            <p:cNvGrpSpPr/>
            <p:nvPr/>
          </p:nvGrpSpPr>
          <p:grpSpPr>
            <a:xfrm>
              <a:off x="1911240" y="4158720"/>
              <a:ext cx="2629080" cy="1384920"/>
              <a:chOff x="1911240" y="4158720"/>
              <a:chExt cx="2629080" cy="1384920"/>
            </a:xfrm>
          </p:grpSpPr>
          <p:sp>
            <p:nvSpPr>
              <p:cNvPr id="62" name=""/>
              <p:cNvSpPr/>
              <p:nvPr/>
            </p:nvSpPr>
            <p:spPr>
              <a:xfrm>
                <a:off x="1911240" y="5111640"/>
                <a:ext cx="432000" cy="432000"/>
              </a:xfrm>
              <a:prstGeom prst="ellipse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2457360" y="4158720"/>
                <a:ext cx="2082960" cy="1041480"/>
              </a:xfrm>
              <a:prstGeom prst="line">
                <a:avLst/>
              </a:prstGeom>
              <a:ln w="50760">
                <a:solidFill>
                  <a:srgbClr val="3333cc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 flipH="1">
            <a:off x="4799880" y="6019920"/>
            <a:ext cx="39625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feature interaction: a quick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279360"/>
            <a:ext cx="41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aditional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1430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ff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ull knowledg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mercial sensi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i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mited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B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mited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chite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mited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799880" y="6019920"/>
            <a:ext cx="39625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feature interaction: a quick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28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2193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roblem has been constr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ulated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endor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ught by network provider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latively few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rke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ly private networks with large feature 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ow feature uptake per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solated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799880" y="6019920"/>
            <a:ext cx="39625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feature interaction: a quick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ext generatio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066680"/>
            <a:ext cx="784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use of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ffic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abl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323 VoIP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P Internet Teleph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API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SAPI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IN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DSL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P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=====&gt;  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xt gener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act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37160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r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arger margins in service provi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-regulated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ew mark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pen service provi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igration of services to periphery of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bile data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ed service 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interworking betwee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creased inter-service working across public &amp; private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n-Europea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xt gener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act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29528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multimedia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number of application outside the 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interworking between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 different (types)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side and outside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vided by different 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e-to-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xt gener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act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on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re complicate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fferent service locations &amp; ow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ven between identic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deo conference and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etween near identic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deo conference cardi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basic tenet that services can added rapidly, easily and safely by (third) parties is jeopardised by featur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xt gener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4:25:24Z</dcterms:created>
  <dc:creator>Bob Gardner</dc:creator>
  <dc:description/>
  <dc:language>en-US</dc:language>
  <cp:lastModifiedBy>Evan Magill</cp:lastModifiedBy>
  <cp:lastPrinted>1996-01-15T06:19:28Z</cp:lastPrinted>
  <dcterms:modified xsi:type="dcterms:W3CDTF">1999-11-24T11:56:38Z</dcterms:modified>
  <cp:revision>70</cp:revision>
  <dc:subject/>
  <dc:title>No Slide Title</dc:title>
</cp:coreProperties>
</file>