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70D-0601-49D6-BA5B-D3DDBF40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BAD-B223-49EF-83AA-CF52FB5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FCF-3208-44E9-BDE9-B7348D85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6DD-B354-4A51-BE58-11A57C5D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833-452B-468E-A34F-127CE9F3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98C-AAB2-4C32-962E-88B493BD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5FC-D7E4-448D-A18D-B16ABD3F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F98-F5C4-4909-88C8-1C4BE8F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968-07FA-48CA-8356-CA3C3DA9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B98-521A-4E56-B759-89AD923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726-20AC-4ADA-83E8-465C205F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429-62AE-4243-AE2E-3E6D084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8063-1DA0-49B6-B756-229E3E30C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35276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4191120" y="243828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4191120" y="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4191120" y="435276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6638760" y="243828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6638760" y="435276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>
            <a:off x="663876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>
            <a:off x="228600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>
            <a:off x="2362320" y="243828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>
            <a:off x="2133720" y="435276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>
            <a:off x="838080" y="609480"/>
            <a:ext cx="1866960" cy="70488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705720" y="6324480"/>
            <a:ext cx="20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DE, FORCES colloq, 24-11-99, Is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44040" y="2590920"/>
            <a:ext cx="238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olloqu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2438280"/>
            <a:ext cx="7597800" cy="267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IP Telephony Taking the Telecommunications Industry by Stor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orld IP Telephony Equipment Market… anticipated to surge to $10billion by 2005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rost &amp; Sullivan - World IP Telephony Equipment Market, Nov. 23rd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2133720"/>
            <a:ext cx="7597800" cy="286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“ 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Revolution ahead’ for mobile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otal commerce through mobile phones - £14.7 billion by 2003 in Europ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urlacher Research,  Mobile Commerce, Nov. 19th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Generation Networ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Generation Feature Inte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ing Services in Next Generation Networ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 Internet Compu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LAY AP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wards Asynchronous Secure Middlew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 Creation using Genetic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5:00:35Z</dcterms:created>
  <dc:creator>Marconi_User</dc:creator>
  <dc:description/>
  <dc:language>en-US</dc:language>
  <cp:lastModifiedBy>Marconi_User</cp:lastModifiedBy>
  <cp:lastPrinted>1999-11-24T16:49:25Z</cp:lastPrinted>
  <dcterms:modified xsi:type="dcterms:W3CDTF">1999-11-26T12:08:13Z</dcterms:modified>
  <cp:revision>3</cp:revision>
  <dc:subject/>
  <dc:title>No Slide Title</dc:title>
</cp:coreProperties>
</file>