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888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8880" y="39391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1400" y="91404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54200" y="91404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1400" y="39391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54200" y="3939120"/>
            <a:ext cx="28213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8880" y="91404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880" y="91404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7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8880" y="393912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914040"/>
            <a:ext cx="4276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763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53a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stir.ac.uk/~kjt/research/cres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ervice Crea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sing Graphical Descrip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4495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Ken Turn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Stirl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cc33"/>
                </a:solidFill>
                <a:uFillTx/>
                <a:latin typeface="Comic Sans MS"/>
                <a:hlinkClick r:id="rId1"/>
              </a:rPr>
              <a:t>www.cs.stir.ac.uk/~kjt/research/cress.htm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nd October 200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" name="CRESS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pliced Featu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for once-per-call, non-modular fe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t and paste into root/feature dia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2600" y="3886200"/>
            <a:ext cx="9059400" cy="1905120"/>
            <a:chOff x="-12600" y="3886200"/>
            <a:chExt cx="9059400" cy="1905120"/>
          </a:xfrm>
        </p:grpSpPr>
        <p:sp>
          <p:nvSpPr>
            <p:cNvPr id="87" name=""/>
            <p:cNvSpPr/>
            <p:nvPr/>
          </p:nvSpPr>
          <p:spPr>
            <a:xfrm>
              <a:off x="-12600" y="4037760"/>
              <a:ext cx="29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~ CallerDisplay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905120" y="3886200"/>
              <a:ext cx="1218960" cy="1905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3886200"/>
              <a:ext cx="1752480" cy="1905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3280" y="4037760"/>
              <a:ext cx="29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~ CallerDisplay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295280" y="4037760"/>
            <a:ext cx="6858000" cy="2273400"/>
            <a:chOff x="1295280" y="4037760"/>
            <a:chExt cx="6858000" cy="2273400"/>
          </a:xfrm>
        </p:grpSpPr>
        <p:sp>
          <p:nvSpPr>
            <p:cNvPr id="92" name=""/>
            <p:cNvSpPr/>
            <p:nvPr/>
          </p:nvSpPr>
          <p:spPr>
            <a:xfrm flipH="1">
              <a:off x="2209320" y="5257800"/>
              <a:ext cx="1143000" cy="533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5257800"/>
              <a:ext cx="1447920" cy="533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57906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OTS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57906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OTS 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4648320"/>
              <a:ext cx="3124080" cy="76176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1 Display B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4038480"/>
              <a:ext cx="0" cy="609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99960" y="4037760"/>
              <a:ext cx="26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CallerDisplay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95480" y="2208960"/>
            <a:ext cx="3124440" cy="1829520"/>
            <a:chOff x="2895480" y="2208960"/>
            <a:chExt cx="3124440" cy="1829520"/>
          </a:xfrm>
        </p:grpSpPr>
        <p:sp>
          <p:nvSpPr>
            <p:cNvPr id="100" name=""/>
            <p:cNvSpPr/>
            <p:nvPr/>
          </p:nvSpPr>
          <p:spPr>
            <a:xfrm>
              <a:off x="4419720" y="2743200"/>
              <a:ext cx="0" cy="533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0400" y="27424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dle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276720"/>
              <a:ext cx="3124440" cy="76176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OTS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7600" y="22089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OTS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dular Featu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for repeated, self-contained fe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stantiate after root/feature no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286000"/>
            <a:ext cx="31244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0* StartRing P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43000" y="3123360"/>
            <a:ext cx="3124080" cy="1296000"/>
            <a:chOff x="1143000" y="3123360"/>
            <a:chExt cx="3124080" cy="1296000"/>
          </a:xfrm>
        </p:grpSpPr>
        <p:sp>
          <p:nvSpPr>
            <p:cNvPr id="108" name=""/>
            <p:cNvSpPr/>
            <p:nvPr/>
          </p:nvSpPr>
          <p:spPr>
            <a:xfrm flipH="1">
              <a:off x="3581280" y="3200040"/>
              <a:ext cx="457200" cy="533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3000" y="3657240"/>
              <a:ext cx="3124080" cy="76212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1 Display P 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3960" y="3123360"/>
              <a:ext cx="26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CallerDisplay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24080" y="3199680"/>
            <a:ext cx="3124440" cy="2286720"/>
            <a:chOff x="3124080" y="3199680"/>
            <a:chExt cx="3124440" cy="2286720"/>
          </a:xfrm>
        </p:grpSpPr>
        <p:sp>
          <p:nvSpPr>
            <p:cNvPr id="112" name=""/>
            <p:cNvSpPr/>
            <p:nvPr/>
          </p:nvSpPr>
          <p:spPr>
            <a:xfrm>
              <a:off x="3657600" y="4343400"/>
              <a:ext cx="380880" cy="4572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3276720"/>
              <a:ext cx="0" cy="1447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4724640"/>
              <a:ext cx="3124440" cy="76176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319968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E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oolse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emented in Per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stomised for diagram editor, langu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TOOLS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pplication to I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oot diagram is PO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 such 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 Forward (Busy, Unconditional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 Scree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ing Number Deli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eepho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en L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ree-Way Call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tomated animation and analys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D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pplication to SI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oot diagram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ic SIP call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P client and serv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-like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tomated animation and analys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D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 in progress on translation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GI (Common Gateway Interfac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PL (Call Processing Languag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cessible to non-speciali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ed on actual practice but non-proprieta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phical but rigorous not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, portable tool supp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ug-in domains and target langu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(Intelligent Network) and SIP (Session Initiation Protocol) as examp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P services and call polic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domains and target langu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52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phical service descrip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cessi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rietary or non-specific solu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Chisel Representation Employing Systematic Specification)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ed on industrial practi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phical but rigorous not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, portable tool supp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ug-in domains and langu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s from IN (Intelligent Network) and SIP (Session Initiation Protocol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aphical Description –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tiv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ractive to non-speciali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ph flow resembles service logi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DL (Specification and Description Language)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phical syntax like flowcha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describe services, but rather gener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E (Service Creation Environment)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bination of SIBs (Service-Independent Building Block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rietary and switch-specifi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aphical Description – 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CM (Use Case Map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ow graph of component responsi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exible, but not widely know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cific solutions like WebLogic or diagrams for Call Processing Langu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yet general enough, but likely fu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s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ed by BellCore to reflect industrial needs and practi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mple notation but extensible, formalis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oa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Chisel Representation Employing Systematic Specification)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ain backwards-compatible with Chis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notation more convenient and rigoro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mit modular feature descrip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plug-in domains and target langu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vide platform-independent tool supp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pport translation and analysis with multiple diagram editors and target langu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monstrate with IN and SIP servi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ph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phical flow of input and output action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4799880"/>
            <a:ext cx="3809880" cy="1829520"/>
            <a:chOff x="533520" y="4799880"/>
            <a:chExt cx="3809880" cy="1829520"/>
          </a:xfrm>
        </p:grpSpPr>
        <p:sp>
          <p:nvSpPr>
            <p:cNvPr id="52" name=""/>
            <p:cNvSpPr/>
            <p:nvPr/>
          </p:nvSpPr>
          <p:spPr>
            <a:xfrm flipH="1">
              <a:off x="3200400" y="4800600"/>
              <a:ext cx="533520" cy="6858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5486400"/>
              <a:ext cx="3809880" cy="114300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52300" dir="4563564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4 StartRing B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||| StartRing A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0" y="47998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dle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0" y="4799880"/>
            <a:ext cx="3809880" cy="1829520"/>
            <a:chOff x="4572000" y="4799880"/>
            <a:chExt cx="3809880" cy="1829520"/>
          </a:xfrm>
        </p:grpSpPr>
        <p:sp>
          <p:nvSpPr>
            <p:cNvPr id="56" name=""/>
            <p:cNvSpPr/>
            <p:nvPr/>
          </p:nvSpPr>
          <p:spPr>
            <a:xfrm>
              <a:off x="5105520" y="4800600"/>
              <a:ext cx="609480" cy="6858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5486400"/>
              <a:ext cx="3809880" cy="114300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15 LineBusyTone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98200" y="4799880"/>
              <a:ext cx="130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Busy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8120" y="3733920"/>
            <a:ext cx="5790960" cy="1143000"/>
            <a:chOff x="3048120" y="3733920"/>
            <a:chExt cx="5790960" cy="1143000"/>
          </a:xfrm>
        </p:grpSpPr>
        <p:sp>
          <p:nvSpPr>
            <p:cNvPr id="60" name=""/>
            <p:cNvSpPr/>
            <p:nvPr/>
          </p:nvSpPr>
          <p:spPr>
            <a:xfrm>
              <a:off x="6324480" y="3809880"/>
              <a:ext cx="304920" cy="30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181120" y="3733920"/>
              <a:ext cx="304920" cy="380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4038480"/>
              <a:ext cx="2666880" cy="83844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52300" dir="4563564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3 Dial A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72200" y="4038480"/>
              <a:ext cx="2666880" cy="83844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52300" dir="4563564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17 Onhook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572000" y="2590920"/>
            <a:ext cx="2666880" cy="1218960"/>
            <a:chOff x="4572000" y="2590920"/>
            <a:chExt cx="2666880" cy="1218960"/>
          </a:xfrm>
        </p:grpSpPr>
        <p:sp>
          <p:nvSpPr>
            <p:cNvPr id="65" name=""/>
            <p:cNvSpPr/>
            <p:nvPr/>
          </p:nvSpPr>
          <p:spPr>
            <a:xfrm>
              <a:off x="5943600" y="2590920"/>
              <a:ext cx="0" cy="380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2971800"/>
              <a:ext cx="2666880" cy="83808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52300" dir="4563564" blurRad="0" rotWithShape="0">
                <a:srgbClr val="0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2 DialTone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572000" y="1752480"/>
            <a:ext cx="2666880" cy="83844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Offhook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3352680"/>
            <a:ext cx="5257800" cy="228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ule Box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2412360" y="3580560"/>
            <a:ext cx="29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ddress C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5805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0720" y="42663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le P &lt;- ~ Bus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99480" y="4876200"/>
            <a:ext cx="46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swer P / Busy P &lt;-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913680"/>
            <a:ext cx="46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lare 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270720" y="1446840"/>
            <a:ext cx="48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ort parent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8160" y="1980360"/>
            <a:ext cx="31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fine mac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4760" y="2513880"/>
            <a:ext cx="35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 signal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ot Diagram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root diagram defines a basic service, e.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ic word process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mple code from compi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TS (Plain Old Telephone Service)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OTS" descr=""/>
          <p:cNvPicPr/>
          <p:nvPr/>
        </p:nvPicPr>
        <p:blipFill>
          <a:blip r:embed="rId1"/>
          <a:stretch/>
        </p:blipFill>
        <p:spPr>
          <a:xfrm>
            <a:off x="3429000" y="3130560"/>
            <a:ext cx="26431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eature Diagram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s behaviour to root diagram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nt selection for word process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de optimisation by compi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 forwarding for PO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 may depend 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ot diagra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feature diagra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behaviour is root pl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often to find feature interaction – behaviour changes with other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13:41:41Z</dcterms:created>
  <dc:creator>Kenneth J. Turner</dc:creator>
  <dc:description/>
  <dc:language>en-US</dc:language>
  <cp:lastModifiedBy>Comp Sci &amp; Maths</cp:lastModifiedBy>
  <cp:lastPrinted>2001-09-24T15:20:23Z</cp:lastPrinted>
  <dcterms:modified xsi:type="dcterms:W3CDTF">2001-10-26T15:16:04Z</dcterms:modified>
  <cp:revision>27</cp:revision>
  <dc:subject/>
  <dc:title>Service Creation using Graphical Descriptions</dc:title>
</cp:coreProperties>
</file>