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7.jpeg" ContentType="image/jpeg"/>
  <Override PartName="/ppt/media/image6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1"/>
          </p:nvPr>
        </p:nvSpPr>
        <p:spPr>
          <a:xfrm>
            <a:off x="3885840" y="-360"/>
            <a:ext cx="297180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63360" y="7408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2"/>
          </p:nvPr>
        </p:nvSpPr>
        <p:spPr>
          <a:xfrm>
            <a:off x="-360" y="9378720"/>
            <a:ext cx="297180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3"/>
          </p:nvPr>
        </p:nvSpPr>
        <p:spPr>
          <a:xfrm>
            <a:off x="3885840" y="9378720"/>
            <a:ext cx="297180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59290-E8E0-4FEE-B994-05A46F41C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6372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rtunity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 Network-based Service Activation and Assurance Platform for Home Networking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6372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cordia systems and code in 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adband Access Termination Device and Broadband Gateway/Router can be co-located in the same physical dev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6372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cordia systems and code in 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adband Access Termination Device and Broadband Gateway/Router can be co-located in the same physical dev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98400" y="2466720"/>
            <a:ext cx="69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4191120"/>
            <a:ext cx="27432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90720" y="5345280"/>
            <a:ext cx="27432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98400" y="2466720"/>
            <a:ext cx="69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4191120"/>
            <a:ext cx="133848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396520" y="4191120"/>
            <a:ext cx="133848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5345280"/>
            <a:ext cx="133848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396520" y="5345280"/>
            <a:ext cx="133848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98400" y="2466720"/>
            <a:ext cx="69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90720" y="4191120"/>
            <a:ext cx="88308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918440" y="4191120"/>
            <a:ext cx="88308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845800" y="4191120"/>
            <a:ext cx="88308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90720" y="5345280"/>
            <a:ext cx="88308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1918440" y="5345280"/>
            <a:ext cx="88308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2845800" y="5345280"/>
            <a:ext cx="88308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98400" y="2466720"/>
            <a:ext cx="69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27432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98400" y="2466720"/>
            <a:ext cx="69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4191120"/>
            <a:ext cx="27432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98400" y="2466720"/>
            <a:ext cx="69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720" y="4191120"/>
            <a:ext cx="133848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2396520" y="4191120"/>
            <a:ext cx="133848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98400" y="2466720"/>
            <a:ext cx="69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98400" y="2466720"/>
            <a:ext cx="696276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98400" y="2466720"/>
            <a:ext cx="69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4191120"/>
            <a:ext cx="133848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396520" y="4191120"/>
            <a:ext cx="133848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720" y="5345280"/>
            <a:ext cx="133848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98400" y="2466720"/>
            <a:ext cx="69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27432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98400" y="2466720"/>
            <a:ext cx="69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4191120"/>
            <a:ext cx="133848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396520" y="4191120"/>
            <a:ext cx="133848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396520" y="5345280"/>
            <a:ext cx="133848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98400" y="2466720"/>
            <a:ext cx="69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4191120"/>
            <a:ext cx="133848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396520" y="4191120"/>
            <a:ext cx="133848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5345280"/>
            <a:ext cx="27432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8400" y="2466720"/>
            <a:ext cx="69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4191120"/>
            <a:ext cx="27432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990720" y="5345280"/>
            <a:ext cx="27432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98400" y="2466720"/>
            <a:ext cx="69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720" y="4191120"/>
            <a:ext cx="133848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396520" y="4191120"/>
            <a:ext cx="133848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90720" y="5345280"/>
            <a:ext cx="133848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396520" y="5345280"/>
            <a:ext cx="133848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98400" y="2466720"/>
            <a:ext cx="69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4191120"/>
            <a:ext cx="88308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918440" y="4191120"/>
            <a:ext cx="88308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845800" y="4191120"/>
            <a:ext cx="88308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990720" y="5345280"/>
            <a:ext cx="88308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1918440" y="5345280"/>
            <a:ext cx="88308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2845800" y="5345280"/>
            <a:ext cx="88308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98400" y="2466720"/>
            <a:ext cx="69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4191120"/>
            <a:ext cx="27432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98400" y="2466720"/>
            <a:ext cx="69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4191120"/>
            <a:ext cx="133848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396520" y="4191120"/>
            <a:ext cx="133848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8400" y="2466720"/>
            <a:ext cx="69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98400" y="2466720"/>
            <a:ext cx="696276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98400" y="2466720"/>
            <a:ext cx="69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4191120"/>
            <a:ext cx="133848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396520" y="4191120"/>
            <a:ext cx="133848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90720" y="5345280"/>
            <a:ext cx="133848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98400" y="2466720"/>
            <a:ext cx="69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4191120"/>
            <a:ext cx="133848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396520" y="4191120"/>
            <a:ext cx="133848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396520" y="5345280"/>
            <a:ext cx="133848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98400" y="2466720"/>
            <a:ext cx="69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4191120"/>
            <a:ext cx="133848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396520" y="4191120"/>
            <a:ext cx="133848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90720" y="5345280"/>
            <a:ext cx="27432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01600" y="5942160"/>
            <a:ext cx="1757520" cy="7887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685800" cy="52563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120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036440" y="1676160"/>
            <a:ext cx="741348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2520" indent="-182520">
              <a:spcBef>
                <a:spcPts val="601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179280">
              <a:spcBef>
                <a:spcPts val="60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50960" indent="-160560">
              <a:spcBef>
                <a:spcPts val="601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35000" indent="-169920">
              <a:spcBef>
                <a:spcPts val="60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19040" indent="-109440">
              <a:spcBef>
                <a:spcPts val="601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19040" indent="-109440">
              <a:spcBef>
                <a:spcPts val="6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19040" indent="-109440">
              <a:spcBef>
                <a:spcPts val="6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flipH="1">
            <a:off x="1036800" y="566640"/>
            <a:ext cx="7783200" cy="6085080"/>
          </a:xfrm>
          <a:custGeom>
            <a:avLst/>
            <a:gdLst/>
            <a:ahLst/>
            <a:rect l="l" t="t" r="r" b="b"/>
            <a:pathLst>
              <a:path w="4898" h="624">
                <a:moveTo>
                  <a:pt x="4898" y="0"/>
                </a:moveTo>
                <a:lnTo>
                  <a:pt x="0" y="0"/>
                </a:lnTo>
                <a:lnTo>
                  <a:pt x="0" y="624"/>
                </a:lnTo>
              </a:path>
            </a:pathLst>
          </a:custGeom>
          <a:noFill/>
          <a:ln w="1260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942240" y="6515280"/>
            <a:ext cx="176220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me Network Manag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2640538D-4A18-400B-B82B-26683C53E00B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429000" y="6645240"/>
            <a:ext cx="2362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2001 Telcordia Technologies, Inc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934920" y="579600"/>
            <a:ext cx="2695680" cy="1209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98400" y="2466720"/>
            <a:ext cx="69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" cy="52563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1596960" y="2414520"/>
            <a:ext cx="7245360" cy="4238640"/>
          </a:xfrm>
          <a:custGeom>
            <a:avLst/>
            <a:gdLst/>
            <a:ahLst/>
            <a:rect l="l" t="t" r="r" b="b"/>
            <a:pathLst>
              <a:path w="4898" h="624">
                <a:moveTo>
                  <a:pt x="4898" y="0"/>
                </a:moveTo>
                <a:lnTo>
                  <a:pt x="0" y="0"/>
                </a:lnTo>
                <a:lnTo>
                  <a:pt x="0" y="624"/>
                </a:lnTo>
              </a:path>
            </a:pathLst>
          </a:custGeom>
          <a:noFill/>
          <a:ln w="1260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962520" y="4114800"/>
            <a:ext cx="4638240" cy="2225880"/>
            <a:chOff x="3962520" y="4114800"/>
            <a:chExt cx="4638240" cy="2225880"/>
          </a:xfrm>
        </p:grpSpPr>
        <p:sp>
          <p:nvSpPr>
            <p:cNvPr id="48" name=""/>
            <p:cNvSpPr/>
            <p:nvPr/>
          </p:nvSpPr>
          <p:spPr>
            <a:xfrm>
              <a:off x="3962520" y="4114800"/>
              <a:ext cx="4638240" cy="220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" name="" descr=""/>
            <p:cNvPicPr/>
            <p:nvPr/>
          </p:nvPicPr>
          <p:blipFill>
            <a:blip r:embed="rId3"/>
            <a:stretch/>
          </p:blipFill>
          <p:spPr>
            <a:xfrm>
              <a:off x="4042080" y="4773600"/>
              <a:ext cx="1844640" cy="78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4039920" y="6064200"/>
              <a:ext cx="1463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SAIC Compan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31440" y="4149720"/>
              <a:ext cx="2288520" cy="189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hris Brightm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earch Scient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ternet Architecture Resear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lcordia Technologies, In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45 South Street 1D218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rristown, NJ 07960-643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oice: 973-829-233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ax: 973-829-588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-mail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risb@research.telcordia.co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990720" y="6645240"/>
            <a:ext cx="7619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 SAIC Compan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2001 Telcordia Technologies, Inc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70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90400" algn="ctr">
              <a:spcBef>
                <a:spcPts val="451"/>
              </a:spcBef>
              <a:buClr>
                <a:srgbClr val="0033cc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865080" algn="ctr">
              <a:spcBef>
                <a:spcPts val="400"/>
              </a:spcBef>
              <a:buClr>
                <a:srgbClr val="0033c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209600" algn="ctr">
              <a:spcBef>
                <a:spcPts val="400"/>
              </a:spcBef>
              <a:buClr>
                <a:srgbClr val="0033cc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209600">
              <a:spcBef>
                <a:spcPts val="4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209600">
              <a:spcBef>
                <a:spcPts val="4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99840" y="2590560"/>
            <a:ext cx="716292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 Black"/>
              </a:rPr>
              <a:t>Home Networks</a:t>
            </a:r>
            <a:br>
              <a:rPr sz="3200"/>
            </a:b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Configuration Management &amp; Service Assurance:</a:t>
            </a:r>
            <a:br>
              <a:rPr sz="2000"/>
            </a:b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olutions for the 80%</a:t>
            </a:r>
            <a:endParaRPr b="0" lang="en-US" sz="20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1676520" y="4267080"/>
            <a:ext cx="260352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171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pared for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S Colloqu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71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lasg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71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ober 2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120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 Black"/>
              </a:rPr>
              <a:t>Market Drivers</a:t>
            </a:r>
            <a:endParaRPr b="0" lang="en-US" sz="32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180360" indent="-18036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loyment of broadband service is cos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1240" indent="-17748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 of $700-$1,500 per DSL 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0360" indent="-18036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 Providers need to increase revenue per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1240" indent="-17748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71240" indent="-17748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 network management customer service off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0360" indent="-18036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 networks enable many new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1240" indent="-17748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ing Internet access among multiple P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71240" indent="-17748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more to come (e.g VoIP, multi-player gaming, video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0360" indent="-18036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loyment of home networks today are impeded by the complexity of managing the devi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1240" indent="-17748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71240" indent="-17748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oubleshoo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71240" indent="-17748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nfiguration for each new service or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0360" indent="-18036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4% of broadband households have multiple P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0360" indent="-18036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0% of DSL customers are interested in home networ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914400" y="2362320"/>
            <a:ext cx="7848720" cy="419076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3886200"/>
            <a:ext cx="2895480" cy="114300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 Black"/>
              </a:rPr>
              <a:t>High Level Architecture</a:t>
            </a:r>
            <a:endParaRPr b="0" lang="en-US" sz="3200" spc="-1" strike="noStrike">
              <a:solidFill>
                <a:srgbClr val="0033cc"/>
              </a:solidFill>
              <a:latin typeface="Arial Black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6934320" y="4035600"/>
            <a:ext cx="1841400" cy="916560"/>
            <a:chOff x="6934320" y="4035600"/>
            <a:chExt cx="1841400" cy="916560"/>
          </a:xfrm>
        </p:grpSpPr>
        <p:pic>
          <p:nvPicPr>
            <p:cNvPr id="234" name="rio-receiver" descr=""/>
            <p:cNvPicPr/>
            <p:nvPr/>
          </p:nvPicPr>
          <p:blipFill>
            <a:blip r:embed="rId1"/>
            <a:stretch/>
          </p:blipFill>
          <p:spPr>
            <a:xfrm>
              <a:off x="6934320" y="4035600"/>
              <a:ext cx="184140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7394040" y="4645080"/>
              <a:ext cx="1096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Internet 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914400" y="3959280"/>
            <a:ext cx="914400" cy="990720"/>
          </a:xfrm>
          <a:prstGeom prst="cube">
            <a:avLst>
              <a:gd name="adj" fmla="val 11458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Broadband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cces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Termination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666880" y="4111560"/>
            <a:ext cx="838440" cy="60984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Broadband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Gate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5562720" y="373032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791320" y="327348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876920" y="2664000"/>
            <a:ext cx="1477800" cy="1333440"/>
            <a:chOff x="4876920" y="2664000"/>
            <a:chExt cx="1477800" cy="1333440"/>
          </a:xfrm>
        </p:grpSpPr>
        <p:sp>
          <p:nvSpPr>
            <p:cNvPr id="241" name=""/>
            <p:cNvSpPr/>
            <p:nvPr/>
          </p:nvSpPr>
          <p:spPr>
            <a:xfrm>
              <a:off x="5101920" y="2696040"/>
              <a:ext cx="816480" cy="73692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200920" y="2798280"/>
              <a:ext cx="568440" cy="52092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286240" y="3466080"/>
              <a:ext cx="501840" cy="8568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244840" y="2882160"/>
              <a:ext cx="205920" cy="16452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561640" y="3085200"/>
              <a:ext cx="128520" cy="15624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038280" y="3714840"/>
              <a:ext cx="306360" cy="198000"/>
            </a:xfrm>
            <a:custGeom>
              <a:avLst/>
              <a:gdLst/>
              <a:ahLst/>
              <a:rect l="l" t="t" r="r" b="b"/>
              <a:pathLst>
                <a:path w="867" h="616">
                  <a:moveTo>
                    <a:pt x="22" y="198"/>
                  </a:moveTo>
                  <a:lnTo>
                    <a:pt x="137" y="76"/>
                  </a:lnTo>
                  <a:lnTo>
                    <a:pt x="254" y="15"/>
                  </a:lnTo>
                  <a:lnTo>
                    <a:pt x="389" y="0"/>
                  </a:lnTo>
                  <a:lnTo>
                    <a:pt x="500" y="38"/>
                  </a:lnTo>
                  <a:lnTo>
                    <a:pt x="665" y="114"/>
                  </a:lnTo>
                  <a:lnTo>
                    <a:pt x="745" y="173"/>
                  </a:lnTo>
                  <a:lnTo>
                    <a:pt x="806" y="259"/>
                  </a:lnTo>
                  <a:lnTo>
                    <a:pt x="857" y="357"/>
                  </a:lnTo>
                  <a:lnTo>
                    <a:pt x="867" y="445"/>
                  </a:lnTo>
                  <a:lnTo>
                    <a:pt x="754" y="589"/>
                  </a:lnTo>
                  <a:lnTo>
                    <a:pt x="479" y="616"/>
                  </a:lnTo>
                  <a:lnTo>
                    <a:pt x="273" y="468"/>
                  </a:lnTo>
                  <a:lnTo>
                    <a:pt x="91" y="468"/>
                  </a:lnTo>
                  <a:lnTo>
                    <a:pt x="0" y="340"/>
                  </a:lnTo>
                  <a:lnTo>
                    <a:pt x="22" y="198"/>
                  </a:lnTo>
                  <a:lnTo>
                    <a:pt x="22" y="198"/>
                  </a:lnTo>
                  <a:lnTo>
                    <a:pt x="22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038280" y="3751200"/>
              <a:ext cx="312840" cy="172800"/>
            </a:xfrm>
            <a:custGeom>
              <a:avLst/>
              <a:gdLst/>
              <a:ahLst/>
              <a:rect l="l" t="t" r="r" b="b"/>
              <a:pathLst>
                <a:path w="884" h="536">
                  <a:moveTo>
                    <a:pt x="47" y="55"/>
                  </a:moveTo>
                  <a:lnTo>
                    <a:pt x="123" y="0"/>
                  </a:lnTo>
                  <a:lnTo>
                    <a:pt x="289" y="0"/>
                  </a:lnTo>
                  <a:lnTo>
                    <a:pt x="389" y="29"/>
                  </a:lnTo>
                  <a:lnTo>
                    <a:pt x="273" y="173"/>
                  </a:lnTo>
                  <a:lnTo>
                    <a:pt x="446" y="84"/>
                  </a:lnTo>
                  <a:lnTo>
                    <a:pt x="583" y="34"/>
                  </a:lnTo>
                  <a:lnTo>
                    <a:pt x="690" y="82"/>
                  </a:lnTo>
                  <a:lnTo>
                    <a:pt x="737" y="139"/>
                  </a:lnTo>
                  <a:lnTo>
                    <a:pt x="644" y="166"/>
                  </a:lnTo>
                  <a:lnTo>
                    <a:pt x="538" y="230"/>
                  </a:lnTo>
                  <a:lnTo>
                    <a:pt x="530" y="350"/>
                  </a:lnTo>
                  <a:lnTo>
                    <a:pt x="709" y="200"/>
                  </a:lnTo>
                  <a:lnTo>
                    <a:pt x="785" y="186"/>
                  </a:lnTo>
                  <a:lnTo>
                    <a:pt x="870" y="243"/>
                  </a:lnTo>
                  <a:lnTo>
                    <a:pt x="884" y="329"/>
                  </a:lnTo>
                  <a:lnTo>
                    <a:pt x="680" y="510"/>
                  </a:lnTo>
                  <a:lnTo>
                    <a:pt x="578" y="536"/>
                  </a:lnTo>
                  <a:lnTo>
                    <a:pt x="437" y="517"/>
                  </a:lnTo>
                  <a:lnTo>
                    <a:pt x="325" y="397"/>
                  </a:lnTo>
                  <a:lnTo>
                    <a:pt x="97" y="403"/>
                  </a:lnTo>
                  <a:lnTo>
                    <a:pt x="30" y="321"/>
                  </a:lnTo>
                  <a:lnTo>
                    <a:pt x="0" y="137"/>
                  </a:lnTo>
                  <a:lnTo>
                    <a:pt x="47" y="55"/>
                  </a:lnTo>
                  <a:lnTo>
                    <a:pt x="47" y="55"/>
                  </a:lnTo>
                  <a:lnTo>
                    <a:pt x="47" y="55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043680" y="3830040"/>
              <a:ext cx="296640" cy="93960"/>
            </a:xfrm>
            <a:custGeom>
              <a:avLst/>
              <a:gdLst/>
              <a:ahLst/>
              <a:rect l="l" t="t" r="r" b="b"/>
              <a:pathLst>
                <a:path w="836" h="291">
                  <a:moveTo>
                    <a:pt x="0" y="25"/>
                  </a:moveTo>
                  <a:lnTo>
                    <a:pt x="106" y="73"/>
                  </a:lnTo>
                  <a:lnTo>
                    <a:pt x="190" y="46"/>
                  </a:lnTo>
                  <a:lnTo>
                    <a:pt x="266" y="21"/>
                  </a:lnTo>
                  <a:lnTo>
                    <a:pt x="342" y="35"/>
                  </a:lnTo>
                  <a:lnTo>
                    <a:pt x="382" y="75"/>
                  </a:lnTo>
                  <a:lnTo>
                    <a:pt x="412" y="124"/>
                  </a:lnTo>
                  <a:lnTo>
                    <a:pt x="511" y="179"/>
                  </a:lnTo>
                  <a:lnTo>
                    <a:pt x="581" y="90"/>
                  </a:lnTo>
                  <a:lnTo>
                    <a:pt x="680" y="27"/>
                  </a:lnTo>
                  <a:lnTo>
                    <a:pt x="770" y="0"/>
                  </a:lnTo>
                  <a:lnTo>
                    <a:pt x="829" y="48"/>
                  </a:lnTo>
                  <a:lnTo>
                    <a:pt x="836" y="95"/>
                  </a:lnTo>
                  <a:lnTo>
                    <a:pt x="772" y="189"/>
                  </a:lnTo>
                  <a:lnTo>
                    <a:pt x="663" y="265"/>
                  </a:lnTo>
                  <a:lnTo>
                    <a:pt x="561" y="291"/>
                  </a:lnTo>
                  <a:lnTo>
                    <a:pt x="407" y="268"/>
                  </a:lnTo>
                  <a:lnTo>
                    <a:pt x="289" y="164"/>
                  </a:lnTo>
                  <a:lnTo>
                    <a:pt x="112" y="154"/>
                  </a:lnTo>
                  <a:lnTo>
                    <a:pt x="23" y="111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046560" y="3764160"/>
              <a:ext cx="73440" cy="40680"/>
            </a:xfrm>
            <a:custGeom>
              <a:avLst/>
              <a:gdLst/>
              <a:ahLst/>
              <a:rect l="l" t="t" r="r" b="b"/>
              <a:pathLst>
                <a:path w="208" h="125">
                  <a:moveTo>
                    <a:pt x="35" y="0"/>
                  </a:moveTo>
                  <a:lnTo>
                    <a:pt x="126" y="38"/>
                  </a:lnTo>
                  <a:lnTo>
                    <a:pt x="166" y="72"/>
                  </a:lnTo>
                  <a:lnTo>
                    <a:pt x="206" y="108"/>
                  </a:lnTo>
                  <a:lnTo>
                    <a:pt x="208" y="124"/>
                  </a:lnTo>
                  <a:lnTo>
                    <a:pt x="192" y="125"/>
                  </a:lnTo>
                  <a:lnTo>
                    <a:pt x="151" y="97"/>
                  </a:lnTo>
                  <a:lnTo>
                    <a:pt x="101" y="76"/>
                  </a:lnTo>
                  <a:lnTo>
                    <a:pt x="0" y="55"/>
                  </a:lnTo>
                  <a:lnTo>
                    <a:pt x="0" y="27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273360" y="3789360"/>
              <a:ext cx="81360" cy="129240"/>
            </a:xfrm>
            <a:custGeom>
              <a:avLst/>
              <a:gdLst/>
              <a:ahLst/>
              <a:rect l="l" t="t" r="r" b="b"/>
              <a:pathLst>
                <a:path w="230" h="399">
                  <a:moveTo>
                    <a:pt x="139" y="2"/>
                  </a:moveTo>
                  <a:lnTo>
                    <a:pt x="177" y="51"/>
                  </a:lnTo>
                  <a:lnTo>
                    <a:pt x="230" y="120"/>
                  </a:lnTo>
                  <a:lnTo>
                    <a:pt x="230" y="219"/>
                  </a:lnTo>
                  <a:lnTo>
                    <a:pt x="160" y="321"/>
                  </a:lnTo>
                  <a:lnTo>
                    <a:pt x="72" y="365"/>
                  </a:lnTo>
                  <a:lnTo>
                    <a:pt x="12" y="399"/>
                  </a:lnTo>
                  <a:lnTo>
                    <a:pt x="0" y="380"/>
                  </a:lnTo>
                  <a:lnTo>
                    <a:pt x="101" y="298"/>
                  </a:lnTo>
                  <a:lnTo>
                    <a:pt x="181" y="198"/>
                  </a:lnTo>
                  <a:lnTo>
                    <a:pt x="171" y="101"/>
                  </a:lnTo>
                  <a:lnTo>
                    <a:pt x="150" y="57"/>
                  </a:lnTo>
                  <a:lnTo>
                    <a:pt x="122" y="15"/>
                  </a:lnTo>
                  <a:lnTo>
                    <a:pt x="124" y="0"/>
                  </a:lnTo>
                  <a:lnTo>
                    <a:pt x="139" y="2"/>
                  </a:lnTo>
                  <a:lnTo>
                    <a:pt x="139" y="2"/>
                  </a:lnTo>
                  <a:lnTo>
                    <a:pt x="13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027480" y="3713040"/>
              <a:ext cx="265320" cy="209880"/>
            </a:xfrm>
            <a:custGeom>
              <a:avLst/>
              <a:gdLst/>
              <a:ahLst/>
              <a:rect l="l" t="t" r="r" b="b"/>
              <a:pathLst>
                <a:path w="751" h="650">
                  <a:moveTo>
                    <a:pt x="736" y="168"/>
                  </a:moveTo>
                  <a:lnTo>
                    <a:pt x="673" y="120"/>
                  </a:lnTo>
                  <a:lnTo>
                    <a:pt x="645" y="99"/>
                  </a:lnTo>
                  <a:lnTo>
                    <a:pt x="609" y="80"/>
                  </a:lnTo>
                  <a:lnTo>
                    <a:pt x="559" y="61"/>
                  </a:lnTo>
                  <a:lnTo>
                    <a:pt x="514" y="48"/>
                  </a:lnTo>
                  <a:lnTo>
                    <a:pt x="422" y="36"/>
                  </a:lnTo>
                  <a:lnTo>
                    <a:pt x="232" y="73"/>
                  </a:lnTo>
                  <a:lnTo>
                    <a:pt x="177" y="99"/>
                  </a:lnTo>
                  <a:lnTo>
                    <a:pt x="128" y="141"/>
                  </a:lnTo>
                  <a:lnTo>
                    <a:pt x="71" y="202"/>
                  </a:lnTo>
                  <a:lnTo>
                    <a:pt x="46" y="284"/>
                  </a:lnTo>
                  <a:lnTo>
                    <a:pt x="48" y="350"/>
                  </a:lnTo>
                  <a:lnTo>
                    <a:pt x="65" y="411"/>
                  </a:lnTo>
                  <a:lnTo>
                    <a:pt x="99" y="458"/>
                  </a:lnTo>
                  <a:lnTo>
                    <a:pt x="152" y="476"/>
                  </a:lnTo>
                  <a:lnTo>
                    <a:pt x="301" y="477"/>
                  </a:lnTo>
                  <a:lnTo>
                    <a:pt x="365" y="496"/>
                  </a:lnTo>
                  <a:lnTo>
                    <a:pt x="420" y="544"/>
                  </a:lnTo>
                  <a:lnTo>
                    <a:pt x="468" y="584"/>
                  </a:lnTo>
                  <a:lnTo>
                    <a:pt x="515" y="609"/>
                  </a:lnTo>
                  <a:lnTo>
                    <a:pt x="628" y="628"/>
                  </a:lnTo>
                  <a:lnTo>
                    <a:pt x="628" y="650"/>
                  </a:lnTo>
                  <a:lnTo>
                    <a:pt x="495" y="643"/>
                  </a:lnTo>
                  <a:lnTo>
                    <a:pt x="382" y="580"/>
                  </a:lnTo>
                  <a:lnTo>
                    <a:pt x="335" y="542"/>
                  </a:lnTo>
                  <a:lnTo>
                    <a:pt x="280" y="527"/>
                  </a:lnTo>
                  <a:lnTo>
                    <a:pt x="152" y="527"/>
                  </a:lnTo>
                  <a:lnTo>
                    <a:pt x="80" y="504"/>
                  </a:lnTo>
                  <a:lnTo>
                    <a:pt x="33" y="445"/>
                  </a:lnTo>
                  <a:lnTo>
                    <a:pt x="6" y="365"/>
                  </a:lnTo>
                  <a:lnTo>
                    <a:pt x="0" y="280"/>
                  </a:lnTo>
                  <a:lnTo>
                    <a:pt x="27" y="181"/>
                  </a:lnTo>
                  <a:lnTo>
                    <a:pt x="53" y="143"/>
                  </a:lnTo>
                  <a:lnTo>
                    <a:pt x="91" y="105"/>
                  </a:lnTo>
                  <a:lnTo>
                    <a:pt x="152" y="59"/>
                  </a:lnTo>
                  <a:lnTo>
                    <a:pt x="221" y="29"/>
                  </a:lnTo>
                  <a:lnTo>
                    <a:pt x="325" y="4"/>
                  </a:lnTo>
                  <a:lnTo>
                    <a:pt x="449" y="0"/>
                  </a:lnTo>
                  <a:lnTo>
                    <a:pt x="591" y="38"/>
                  </a:lnTo>
                  <a:lnTo>
                    <a:pt x="685" y="99"/>
                  </a:lnTo>
                  <a:lnTo>
                    <a:pt x="747" y="149"/>
                  </a:lnTo>
                  <a:lnTo>
                    <a:pt x="751" y="164"/>
                  </a:lnTo>
                  <a:lnTo>
                    <a:pt x="736" y="168"/>
                  </a:lnTo>
                  <a:lnTo>
                    <a:pt x="736" y="168"/>
                  </a:lnTo>
                  <a:lnTo>
                    <a:pt x="736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211800" y="3809880"/>
              <a:ext cx="75600" cy="90360"/>
            </a:xfrm>
            <a:custGeom>
              <a:avLst/>
              <a:gdLst/>
              <a:ahLst/>
              <a:rect l="l" t="t" r="r" b="b"/>
              <a:pathLst>
                <a:path w="215" h="281">
                  <a:moveTo>
                    <a:pt x="211" y="19"/>
                  </a:moveTo>
                  <a:lnTo>
                    <a:pt x="80" y="142"/>
                  </a:lnTo>
                  <a:lnTo>
                    <a:pt x="46" y="230"/>
                  </a:lnTo>
                  <a:lnTo>
                    <a:pt x="48" y="268"/>
                  </a:lnTo>
                  <a:lnTo>
                    <a:pt x="42" y="281"/>
                  </a:lnTo>
                  <a:lnTo>
                    <a:pt x="27" y="275"/>
                  </a:lnTo>
                  <a:lnTo>
                    <a:pt x="0" y="230"/>
                  </a:lnTo>
                  <a:lnTo>
                    <a:pt x="17" y="171"/>
                  </a:lnTo>
                  <a:lnTo>
                    <a:pt x="42" y="116"/>
                  </a:lnTo>
                  <a:lnTo>
                    <a:pt x="78" y="79"/>
                  </a:lnTo>
                  <a:lnTo>
                    <a:pt x="116" y="53"/>
                  </a:lnTo>
                  <a:lnTo>
                    <a:pt x="156" y="28"/>
                  </a:lnTo>
                  <a:lnTo>
                    <a:pt x="198" y="0"/>
                  </a:lnTo>
                  <a:lnTo>
                    <a:pt x="215" y="3"/>
                  </a:lnTo>
                  <a:lnTo>
                    <a:pt x="211" y="19"/>
                  </a:lnTo>
                  <a:lnTo>
                    <a:pt x="211" y="19"/>
                  </a:lnTo>
                  <a:lnTo>
                    <a:pt x="21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123960" y="3742200"/>
              <a:ext cx="118080" cy="64440"/>
            </a:xfrm>
            <a:custGeom>
              <a:avLst/>
              <a:gdLst/>
              <a:ahLst/>
              <a:rect l="l" t="t" r="r" b="b"/>
              <a:pathLst>
                <a:path w="333" h="199">
                  <a:moveTo>
                    <a:pt x="325" y="20"/>
                  </a:moveTo>
                  <a:lnTo>
                    <a:pt x="141" y="102"/>
                  </a:lnTo>
                  <a:lnTo>
                    <a:pt x="65" y="161"/>
                  </a:lnTo>
                  <a:lnTo>
                    <a:pt x="29" y="197"/>
                  </a:lnTo>
                  <a:lnTo>
                    <a:pt x="2" y="199"/>
                  </a:lnTo>
                  <a:lnTo>
                    <a:pt x="0" y="171"/>
                  </a:lnTo>
                  <a:lnTo>
                    <a:pt x="32" y="127"/>
                  </a:lnTo>
                  <a:lnTo>
                    <a:pt x="116" y="62"/>
                  </a:lnTo>
                  <a:lnTo>
                    <a:pt x="165" y="38"/>
                  </a:lnTo>
                  <a:lnTo>
                    <a:pt x="215" y="24"/>
                  </a:lnTo>
                  <a:lnTo>
                    <a:pt x="319" y="0"/>
                  </a:lnTo>
                  <a:lnTo>
                    <a:pt x="333" y="7"/>
                  </a:lnTo>
                  <a:lnTo>
                    <a:pt x="325" y="20"/>
                  </a:lnTo>
                  <a:lnTo>
                    <a:pt x="325" y="20"/>
                  </a:lnTo>
                  <a:lnTo>
                    <a:pt x="3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088320" y="3728520"/>
              <a:ext cx="77760" cy="17280"/>
            </a:xfrm>
            <a:custGeom>
              <a:avLst/>
              <a:gdLst/>
              <a:ahLst/>
              <a:rect l="l" t="t" r="r" b="b"/>
              <a:pathLst>
                <a:path w="221" h="53">
                  <a:moveTo>
                    <a:pt x="14" y="2"/>
                  </a:moveTo>
                  <a:lnTo>
                    <a:pt x="42" y="0"/>
                  </a:lnTo>
                  <a:lnTo>
                    <a:pt x="133" y="0"/>
                  </a:lnTo>
                  <a:lnTo>
                    <a:pt x="215" y="32"/>
                  </a:lnTo>
                  <a:lnTo>
                    <a:pt x="221" y="47"/>
                  </a:lnTo>
                  <a:lnTo>
                    <a:pt x="207" y="53"/>
                  </a:lnTo>
                  <a:lnTo>
                    <a:pt x="130" y="36"/>
                  </a:lnTo>
                  <a:lnTo>
                    <a:pt x="42" y="36"/>
                  </a:lnTo>
                  <a:lnTo>
                    <a:pt x="14" y="32"/>
                  </a:lnTo>
                  <a:lnTo>
                    <a:pt x="0" y="17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69520" y="3842280"/>
              <a:ext cx="366480" cy="155160"/>
            </a:xfrm>
            <a:custGeom>
              <a:avLst/>
              <a:gdLst/>
              <a:ahLst/>
              <a:rect l="l" t="t" r="r" b="b"/>
              <a:pathLst>
                <a:path w="1036" h="479">
                  <a:moveTo>
                    <a:pt x="24" y="0"/>
                  </a:moveTo>
                  <a:lnTo>
                    <a:pt x="95" y="35"/>
                  </a:lnTo>
                  <a:lnTo>
                    <a:pt x="159" y="86"/>
                  </a:lnTo>
                  <a:lnTo>
                    <a:pt x="211" y="162"/>
                  </a:lnTo>
                  <a:lnTo>
                    <a:pt x="241" y="265"/>
                  </a:lnTo>
                  <a:lnTo>
                    <a:pt x="327" y="341"/>
                  </a:lnTo>
                  <a:lnTo>
                    <a:pt x="424" y="384"/>
                  </a:lnTo>
                  <a:lnTo>
                    <a:pt x="618" y="422"/>
                  </a:lnTo>
                  <a:lnTo>
                    <a:pt x="791" y="394"/>
                  </a:lnTo>
                  <a:lnTo>
                    <a:pt x="935" y="324"/>
                  </a:lnTo>
                  <a:lnTo>
                    <a:pt x="986" y="253"/>
                  </a:lnTo>
                  <a:lnTo>
                    <a:pt x="994" y="181"/>
                  </a:lnTo>
                  <a:lnTo>
                    <a:pt x="903" y="95"/>
                  </a:lnTo>
                  <a:lnTo>
                    <a:pt x="908" y="65"/>
                  </a:lnTo>
                  <a:lnTo>
                    <a:pt x="929" y="56"/>
                  </a:lnTo>
                  <a:lnTo>
                    <a:pt x="1000" y="94"/>
                  </a:lnTo>
                  <a:lnTo>
                    <a:pt x="1034" y="164"/>
                  </a:lnTo>
                  <a:lnTo>
                    <a:pt x="1036" y="253"/>
                  </a:lnTo>
                  <a:lnTo>
                    <a:pt x="977" y="356"/>
                  </a:lnTo>
                  <a:lnTo>
                    <a:pt x="901" y="422"/>
                  </a:lnTo>
                  <a:lnTo>
                    <a:pt x="789" y="457"/>
                  </a:lnTo>
                  <a:lnTo>
                    <a:pt x="677" y="474"/>
                  </a:lnTo>
                  <a:lnTo>
                    <a:pt x="583" y="479"/>
                  </a:lnTo>
                  <a:lnTo>
                    <a:pt x="437" y="453"/>
                  </a:lnTo>
                  <a:lnTo>
                    <a:pt x="258" y="373"/>
                  </a:lnTo>
                  <a:lnTo>
                    <a:pt x="190" y="282"/>
                  </a:lnTo>
                  <a:lnTo>
                    <a:pt x="161" y="211"/>
                  </a:lnTo>
                  <a:lnTo>
                    <a:pt x="125" y="139"/>
                  </a:lnTo>
                  <a:lnTo>
                    <a:pt x="74" y="75"/>
                  </a:lnTo>
                  <a:lnTo>
                    <a:pt x="0" y="23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86640" y="3656880"/>
              <a:ext cx="1101240" cy="21636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104080" y="3531240"/>
              <a:ext cx="843120" cy="21132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323680" y="3431880"/>
              <a:ext cx="457920" cy="9288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685480" y="2827440"/>
              <a:ext cx="213480" cy="62316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288760" y="3333960"/>
              <a:ext cx="407880" cy="6120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152680" y="2759400"/>
              <a:ext cx="631080" cy="53892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642280" y="3566160"/>
              <a:ext cx="271080" cy="9036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745600" y="3609000"/>
              <a:ext cx="132840" cy="5472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76920" y="3811320"/>
              <a:ext cx="1097640" cy="6444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91480" y="3501000"/>
              <a:ext cx="869400" cy="6372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915520" y="3507480"/>
              <a:ext cx="55080" cy="24300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635080" y="3572640"/>
              <a:ext cx="25200" cy="8136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645880" y="3561840"/>
              <a:ext cx="271800" cy="2052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739840" y="3605760"/>
              <a:ext cx="153360" cy="4068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038200" y="3630240"/>
              <a:ext cx="830520" cy="5364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914000" y="3791880"/>
              <a:ext cx="756720" cy="4140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891400" y="3675600"/>
              <a:ext cx="100440" cy="13608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937480" y="3824640"/>
              <a:ext cx="57960" cy="5148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894560" y="3844440"/>
              <a:ext cx="1062360" cy="3924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094000" y="3682080"/>
              <a:ext cx="566280" cy="5400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065920" y="3731040"/>
              <a:ext cx="412200" cy="3996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740920" y="3719520"/>
              <a:ext cx="124560" cy="2196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768280" y="3748680"/>
              <a:ext cx="125640" cy="1908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779080" y="3782160"/>
              <a:ext cx="145080" cy="2304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074200" y="2664000"/>
              <a:ext cx="773280" cy="19260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873760" y="2679120"/>
              <a:ext cx="78840" cy="10908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821560" y="2773080"/>
              <a:ext cx="133920" cy="64044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785920" y="2721240"/>
              <a:ext cx="86400" cy="58032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073480" y="2871720"/>
              <a:ext cx="148680" cy="54108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237280" y="3416040"/>
              <a:ext cx="486360" cy="277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733360" y="3417480"/>
              <a:ext cx="92160" cy="3024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286240" y="3423240"/>
              <a:ext cx="74160" cy="9144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243400" y="3507480"/>
              <a:ext cx="36000" cy="4176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649480" y="3421440"/>
              <a:ext cx="107280" cy="5976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771880" y="3466080"/>
              <a:ext cx="17640" cy="5364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276880" y="3354120"/>
              <a:ext cx="23400" cy="4500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279040" y="3326400"/>
              <a:ext cx="429120" cy="3852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696280" y="3328200"/>
              <a:ext cx="16920" cy="5148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607720" y="3348360"/>
              <a:ext cx="16200" cy="3924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26720" y="3347640"/>
              <a:ext cx="20520" cy="3924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434200" y="3345120"/>
              <a:ext cx="19080" cy="4140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53200" y="3349800"/>
              <a:ext cx="20520" cy="4392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589720" y="2799000"/>
              <a:ext cx="154440" cy="5976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159880" y="2983680"/>
              <a:ext cx="123480" cy="32076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282280" y="3257280"/>
              <a:ext cx="441720" cy="5904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695200" y="2783160"/>
              <a:ext cx="91080" cy="49896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159160" y="2778120"/>
              <a:ext cx="604080" cy="15120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198760" y="2822760"/>
              <a:ext cx="246240" cy="25200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085720" y="3553920"/>
              <a:ext cx="21600" cy="8424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1752480" y="441648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276720" y="4721400"/>
            <a:ext cx="1371600" cy="83808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507480" y="510228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802.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1371600" y="235872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4952880" y="441648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514600" y="2514600"/>
            <a:ext cx="1828800" cy="1139760"/>
          </a:xfrm>
          <a:prstGeom prst="wedgeRoundRectCallout">
            <a:avLst>
              <a:gd name="adj1" fmla="val -19268"/>
              <a:gd name="adj2" fmla="val 89694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NA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Firewal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DHCP (client &amp; serv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VPN (PPTP and/or IPs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133720" y="5105520"/>
            <a:ext cx="1218960" cy="834840"/>
          </a:xfrm>
          <a:prstGeom prst="wedgeRoundRectCallout">
            <a:avLst>
              <a:gd name="adj1" fmla="val -94662"/>
              <a:gd name="adj2" fmla="val -69203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able Modem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DSL Modem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Satellite, Etc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504600" y="3932280"/>
            <a:ext cx="20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Internet Access Sha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4952880" y="4416480"/>
            <a:ext cx="0" cy="99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j0223598" descr=""/>
          <p:cNvPicPr/>
          <p:nvPr/>
        </p:nvPicPr>
        <p:blipFill>
          <a:blip r:embed="rId2"/>
          <a:stretch/>
        </p:blipFill>
        <p:spPr>
          <a:xfrm>
            <a:off x="4267080" y="5205240"/>
            <a:ext cx="960480" cy="8877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4421160" y="60040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ap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BD09248_" descr=""/>
          <p:cNvPicPr/>
          <p:nvPr/>
        </p:nvPicPr>
        <p:blipFill>
          <a:blip r:embed="rId3"/>
          <a:stretch/>
        </p:blipFill>
        <p:spPr>
          <a:xfrm>
            <a:off x="6705720" y="2282760"/>
            <a:ext cx="1279440" cy="1524240"/>
          </a:xfrm>
          <a:prstGeom prst="rect">
            <a:avLst/>
          </a:prstGeom>
          <a:ln w="0">
            <a:noFill/>
          </a:ln>
        </p:spPr>
      </p:pic>
      <p:grpSp>
        <p:nvGrpSpPr>
          <p:cNvPr id="317" name=""/>
          <p:cNvGrpSpPr/>
          <p:nvPr/>
        </p:nvGrpSpPr>
        <p:grpSpPr>
          <a:xfrm>
            <a:off x="5867280" y="4905360"/>
            <a:ext cx="1676520" cy="1450080"/>
            <a:chOff x="5867280" y="4905360"/>
            <a:chExt cx="1676520" cy="1450080"/>
          </a:xfrm>
        </p:grpSpPr>
        <p:pic>
          <p:nvPicPr>
            <p:cNvPr id="318" name="ProGear" descr=""/>
            <p:cNvPicPr/>
            <p:nvPr/>
          </p:nvPicPr>
          <p:blipFill>
            <a:blip r:embed="rId4"/>
            <a:stretch/>
          </p:blipFill>
          <p:spPr>
            <a:xfrm>
              <a:off x="5867280" y="4905360"/>
              <a:ext cx="1676520" cy="13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6173640" y="6048360"/>
              <a:ext cx="108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Web Termi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 flipV="1">
            <a:off x="6705720" y="44161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505320" y="4416480"/>
            <a:ext cx="3504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29200" y="2925720"/>
            <a:ext cx="892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Broadba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Cloud"/>
          <p:cNvSpPr/>
          <p:nvPr/>
        </p:nvSpPr>
        <p:spPr>
          <a:xfrm>
            <a:off x="1295280" y="1066680"/>
            <a:ext cx="1981440" cy="12193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ervic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rovi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38080" y="1978200"/>
            <a:ext cx="990720" cy="380880"/>
          </a:xfrm>
          <a:prstGeom prst="can">
            <a:avLst>
              <a:gd name="adj" fmla="val 45833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ccess 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884240" y="417204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10ba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615120" y="4365720"/>
            <a:ext cx="103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10/100ba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868000" y="3005280"/>
            <a:ext cx="100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arallel/US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124080" y="914400"/>
            <a:ext cx="685800" cy="685800"/>
          </a:xfrm>
          <a:prstGeom prst="can">
            <a:avLst>
              <a:gd name="adj" fmla="val 16666"/>
            </a:avLst>
          </a:prstGeom>
          <a:solidFill>
            <a:srgbClr val="af418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service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provider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3276360" y="1600200"/>
            <a:ext cx="106668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Cloud"/>
          <p:cNvSpPr/>
          <p:nvPr/>
        </p:nvSpPr>
        <p:spPr>
          <a:xfrm>
            <a:off x="4114800" y="990720"/>
            <a:ext cx="2743200" cy="12189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650480" y="312408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082360" y="5494320"/>
            <a:ext cx="80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Hom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Doma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Bound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143000" y="762120"/>
            <a:ext cx="838080" cy="6094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Home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Network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514600" y="4648320"/>
            <a:ext cx="533520" cy="3045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g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34" idx="1"/>
            <a:endCxn id="333" idx="1"/>
          </p:cNvCxnSpPr>
          <p:nvPr/>
        </p:nvCxnSpPr>
        <p:spPr>
          <a:xfrm rot="10800000">
            <a:off x="1142280" y="1065960"/>
            <a:ext cx="1372320" cy="3734640"/>
          </a:xfrm>
          <a:prstGeom prst="curvedConnector5">
            <a:avLst>
              <a:gd name="adj1" fmla="val 116662"/>
              <a:gd name="adj2" fmla="val 49995"/>
              <a:gd name="adj3" fmla="val 116662"/>
            </a:avLst>
          </a:prstGeom>
          <a:ln w="25560">
            <a:solidFill>
              <a:srgbClr val="ff0000"/>
            </a:solidFill>
            <a:miter/>
            <a:tailEnd len="med" type="stealth" w="med"/>
          </a:ln>
        </p:spPr>
      </p:cxnSp>
      <p:cxnSp>
        <p:nvCxnSpPr>
          <p:cNvPr id="336" name=""/>
          <p:cNvCxnSpPr>
            <a:stCxn id="333" idx="2"/>
            <a:endCxn id="334" idx="0"/>
          </p:cNvCxnSpPr>
          <p:nvPr/>
        </p:nvCxnSpPr>
        <p:spPr>
          <a:xfrm>
            <a:off x="1561680" y="1371600"/>
            <a:ext cx="1220040" cy="32774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</p:cxnSp>
      <p:sp>
        <p:nvSpPr>
          <p:cNvPr id="337" name=""/>
          <p:cNvSpPr/>
          <p:nvPr/>
        </p:nvSpPr>
        <p:spPr>
          <a:xfrm>
            <a:off x="4876920" y="3505320"/>
            <a:ext cx="533160" cy="3045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g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467480" y="3048120"/>
            <a:ext cx="533520" cy="3045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g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781680" y="4038480"/>
            <a:ext cx="533520" cy="3049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g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0" name=""/>
          <p:cNvCxnSpPr>
            <a:stCxn id="333" idx="3"/>
            <a:endCxn id="337" idx="1"/>
          </p:cNvCxnSpPr>
          <p:nvPr/>
        </p:nvCxnSpPr>
        <p:spPr>
          <a:xfrm>
            <a:off x="1981080" y="1066320"/>
            <a:ext cx="2896560" cy="25916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</p:cxnSp>
      <p:cxnSp>
        <p:nvCxnSpPr>
          <p:cNvPr id="341" name=""/>
          <p:cNvCxnSpPr>
            <a:stCxn id="333" idx="3"/>
            <a:endCxn id="338" idx="1"/>
          </p:cNvCxnSpPr>
          <p:nvPr/>
        </p:nvCxnSpPr>
        <p:spPr>
          <a:xfrm>
            <a:off x="1981080" y="1066320"/>
            <a:ext cx="5487120" cy="21344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</p:cxnSp>
      <p:cxnSp>
        <p:nvCxnSpPr>
          <p:cNvPr id="342" name=""/>
          <p:cNvCxnSpPr>
            <a:stCxn id="333" idx="3"/>
            <a:endCxn id="339" idx="1"/>
          </p:cNvCxnSpPr>
          <p:nvPr/>
        </p:nvCxnSpPr>
        <p:spPr>
          <a:xfrm>
            <a:off x="1980720" y="1066320"/>
            <a:ext cx="4801320" cy="31251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120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 Black"/>
              </a:rPr>
              <a:t>Why not…</a:t>
            </a:r>
            <a:br>
              <a:rPr sz="32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the advantages to this approach?</a:t>
            </a:r>
            <a:endParaRPr b="0" lang="en-US" sz="18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036440" y="1676160"/>
            <a:ext cx="741348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1792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1792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eway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s of network-based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1792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end-to-end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1792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s total in-home network (i.e., not just broadband gatew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1792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correlate faults and performance problems across multiple h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1792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easier, automated, administration for the end-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1792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s flow-through from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120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 Black"/>
              </a:rPr>
              <a:t>Examples of Services Requiring Configuration Support</a:t>
            </a:r>
            <a:endParaRPr b="0" lang="en-US" sz="32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017360" y="1599840"/>
            <a:ext cx="3630600" cy="39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Access to corporate network (e.g., PPTP, IPse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server ho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-player ga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P3 file sha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 file sha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prin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access to in-hom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00240" y="1599840"/>
            <a:ext cx="3630600" cy="39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2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IP (e.g., MS NetMeeting – H.323, SI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mware upgrade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TP (client-side ac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-based services – e.g., telnet, FTP, s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deo Conferen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120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 Black"/>
              </a:rPr>
              <a:t>Interfaces to the Network-based System</a:t>
            </a:r>
            <a:endParaRPr b="0" lang="en-US" sz="32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036440" y="1507680"/>
            <a:ext cx="7413480" cy="39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1792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, Cell-phone, Oper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ministrative (Service Provi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1792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, Integrated with other management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1792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: e-mail, pager, phone-call, 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1792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 provider: e-mail, ala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1792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w-through from other systems – e.g., operations systems, service support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1792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c detection of activity in the in-home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120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 Black"/>
              </a:rPr>
              <a:t>Fault &amp; Performance Functional Areas</a:t>
            </a:r>
            <a:endParaRPr b="0" lang="en-US" sz="32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036440" y="1828440"/>
            <a:ext cx="7413480" cy="39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2520" indent="-182520">
              <a:spcBef>
                <a:spcPts val="601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 Area Access Funct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179280"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ewalls, NATs, Forwarding, 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-Home Networking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179280"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BIOS (Windows Network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-Home Network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179280"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, DHCP, Gateways, IP Allocation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179280"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-based services, WAN-based services, Acces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 Management/Intrusion De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179280"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configured firewalls, intrusion attempts, DoS atta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120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 Black"/>
              </a:rPr>
              <a:t>Summary</a:t>
            </a:r>
            <a:endParaRPr b="0" lang="en-US" sz="32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036440" y="1423800"/>
            <a:ext cx="7413480" cy="46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2520" indent="-182520">
              <a:spcBef>
                <a:spcPts val="601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 networks are happening now, and the technology we have is not advanced enough to allow my dad to configure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will demand the functionality that home networks can provide, but problems will ensue due to this complexity – mis-operation will be blamed on the network operato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operators need to be able to take proactive role in helping people to configure, manage and monitor their home networks – not 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very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but as an optional service for the 80% of people who will want the capability, but not the hassl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120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 Black"/>
              </a:rPr>
              <a:t>Overview</a:t>
            </a:r>
            <a:endParaRPr b="0" lang="en-US" sz="32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413840" cy="39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2520" indent="-182520">
              <a:spcBef>
                <a:spcPts val="601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there is a problem, and why it will get wo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179280"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D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179280"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 elements in a home net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tecture to address the 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s for a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120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 Black"/>
              </a:rPr>
              <a:t>Sincoskie’s Law</a:t>
            </a:r>
            <a:endParaRPr b="0" lang="en-US" sz="32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36440" y="1676160"/>
            <a:ext cx="741348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164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dominant internet access device changes every six ye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4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84-1990 : mini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0-1996 : work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6-2002 : 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2-2008 : smart cell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8-2014 : appl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952880" y="22096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400800" y="2590920"/>
            <a:ext cx="914400" cy="8762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724280" y="3352680"/>
            <a:ext cx="1352520" cy="9334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6629400" y="4114800"/>
            <a:ext cx="914400" cy="907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4876920" y="4952880"/>
            <a:ext cx="990360" cy="8906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 rot="1784400">
            <a:off x="6019560" y="2666880"/>
            <a:ext cx="457200" cy="304920"/>
          </a:xfrm>
          <a:custGeom>
            <a:avLst/>
            <a:gdLst>
              <a:gd name="textAreaLeft" fmla="*/ 0 w 457200"/>
              <a:gd name="textAreaRight" fmla="*/ 457560 w 457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8144400">
            <a:off x="5943240" y="3428640"/>
            <a:ext cx="457200" cy="304920"/>
          </a:xfrm>
          <a:custGeom>
            <a:avLst/>
            <a:gdLst>
              <a:gd name="textAreaLeft" fmla="*/ 0 w 457200"/>
              <a:gd name="textAreaRight" fmla="*/ 457560 w 457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8667600">
            <a:off x="6095880" y="4952520"/>
            <a:ext cx="457200" cy="304920"/>
          </a:xfrm>
          <a:custGeom>
            <a:avLst/>
            <a:gdLst>
              <a:gd name="textAreaLeft" fmla="*/ 0 w 457200"/>
              <a:gd name="textAreaRight" fmla="*/ 457560 w 457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784400">
            <a:off x="6248160" y="4114800"/>
            <a:ext cx="457200" cy="304920"/>
          </a:xfrm>
          <a:custGeom>
            <a:avLst/>
            <a:gdLst>
              <a:gd name="textAreaLeft" fmla="*/ 0 w 457200"/>
              <a:gd name="textAreaRight" fmla="*/ 457560 w 457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120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 Black"/>
              </a:rPr>
              <a:t>But…</a:t>
            </a:r>
            <a:endParaRPr b="0" lang="en-US" sz="32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413840" cy="39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 before we reach this brave new world of network connected appliances, we have a problem…If you have more than one PC in your home (54% of ‘broadband homes’ do), d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yo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now how to configure your network so that they can al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 the n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y networked games (both client and server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 printers and resourc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ct and send e-mai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in a secure and reliable fash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914400" y="2362320"/>
            <a:ext cx="7848720" cy="419076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3886200"/>
            <a:ext cx="2895480" cy="114300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 Black"/>
              </a:rPr>
              <a:t>A typical home network - 2003</a:t>
            </a:r>
            <a:endParaRPr b="0" lang="en-US" sz="3200" spc="-1" strike="noStrike">
              <a:solidFill>
                <a:srgbClr val="0033cc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6934320" y="4035600"/>
            <a:ext cx="1841400" cy="916560"/>
            <a:chOff x="6934320" y="4035600"/>
            <a:chExt cx="1841400" cy="916560"/>
          </a:xfrm>
        </p:grpSpPr>
        <p:pic>
          <p:nvPicPr>
            <p:cNvPr id="118" name="rio-receiver" descr=""/>
            <p:cNvPicPr/>
            <p:nvPr/>
          </p:nvPicPr>
          <p:blipFill>
            <a:blip r:embed="rId1"/>
            <a:stretch/>
          </p:blipFill>
          <p:spPr>
            <a:xfrm>
              <a:off x="6934320" y="4035600"/>
              <a:ext cx="184140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7394040" y="4645080"/>
              <a:ext cx="1096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Internet 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14400" y="3959280"/>
            <a:ext cx="914400" cy="990720"/>
          </a:xfrm>
          <a:prstGeom prst="cube">
            <a:avLst>
              <a:gd name="adj" fmla="val 11458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Broadband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cces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Termination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666880" y="4111560"/>
            <a:ext cx="838440" cy="60984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Broadband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Gate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5562720" y="373032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91320" y="327348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876920" y="2664000"/>
            <a:ext cx="1477800" cy="1333440"/>
            <a:chOff x="4876920" y="2664000"/>
            <a:chExt cx="1477800" cy="1333440"/>
          </a:xfrm>
        </p:grpSpPr>
        <p:sp>
          <p:nvSpPr>
            <p:cNvPr id="125" name=""/>
            <p:cNvSpPr/>
            <p:nvPr/>
          </p:nvSpPr>
          <p:spPr>
            <a:xfrm>
              <a:off x="5101920" y="2696040"/>
              <a:ext cx="816480" cy="73692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200920" y="2798280"/>
              <a:ext cx="568440" cy="52092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286240" y="3466080"/>
              <a:ext cx="501840" cy="8568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244840" y="2882160"/>
              <a:ext cx="205920" cy="16452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561640" y="3085200"/>
              <a:ext cx="128520" cy="15624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38280" y="3714840"/>
              <a:ext cx="306360" cy="198000"/>
            </a:xfrm>
            <a:custGeom>
              <a:avLst/>
              <a:gdLst/>
              <a:ahLst/>
              <a:rect l="l" t="t" r="r" b="b"/>
              <a:pathLst>
                <a:path w="867" h="616">
                  <a:moveTo>
                    <a:pt x="22" y="198"/>
                  </a:moveTo>
                  <a:lnTo>
                    <a:pt x="137" y="76"/>
                  </a:lnTo>
                  <a:lnTo>
                    <a:pt x="254" y="15"/>
                  </a:lnTo>
                  <a:lnTo>
                    <a:pt x="389" y="0"/>
                  </a:lnTo>
                  <a:lnTo>
                    <a:pt x="500" y="38"/>
                  </a:lnTo>
                  <a:lnTo>
                    <a:pt x="665" y="114"/>
                  </a:lnTo>
                  <a:lnTo>
                    <a:pt x="745" y="173"/>
                  </a:lnTo>
                  <a:lnTo>
                    <a:pt x="806" y="259"/>
                  </a:lnTo>
                  <a:lnTo>
                    <a:pt x="857" y="357"/>
                  </a:lnTo>
                  <a:lnTo>
                    <a:pt x="867" y="445"/>
                  </a:lnTo>
                  <a:lnTo>
                    <a:pt x="754" y="589"/>
                  </a:lnTo>
                  <a:lnTo>
                    <a:pt x="479" y="616"/>
                  </a:lnTo>
                  <a:lnTo>
                    <a:pt x="273" y="468"/>
                  </a:lnTo>
                  <a:lnTo>
                    <a:pt x="91" y="468"/>
                  </a:lnTo>
                  <a:lnTo>
                    <a:pt x="0" y="340"/>
                  </a:lnTo>
                  <a:lnTo>
                    <a:pt x="22" y="198"/>
                  </a:lnTo>
                  <a:lnTo>
                    <a:pt x="22" y="198"/>
                  </a:lnTo>
                  <a:lnTo>
                    <a:pt x="22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38280" y="3751200"/>
              <a:ext cx="312840" cy="172800"/>
            </a:xfrm>
            <a:custGeom>
              <a:avLst/>
              <a:gdLst/>
              <a:ahLst/>
              <a:rect l="l" t="t" r="r" b="b"/>
              <a:pathLst>
                <a:path w="884" h="536">
                  <a:moveTo>
                    <a:pt x="47" y="55"/>
                  </a:moveTo>
                  <a:lnTo>
                    <a:pt x="123" y="0"/>
                  </a:lnTo>
                  <a:lnTo>
                    <a:pt x="289" y="0"/>
                  </a:lnTo>
                  <a:lnTo>
                    <a:pt x="389" y="29"/>
                  </a:lnTo>
                  <a:lnTo>
                    <a:pt x="273" y="173"/>
                  </a:lnTo>
                  <a:lnTo>
                    <a:pt x="446" y="84"/>
                  </a:lnTo>
                  <a:lnTo>
                    <a:pt x="583" y="34"/>
                  </a:lnTo>
                  <a:lnTo>
                    <a:pt x="690" y="82"/>
                  </a:lnTo>
                  <a:lnTo>
                    <a:pt x="737" y="139"/>
                  </a:lnTo>
                  <a:lnTo>
                    <a:pt x="644" y="166"/>
                  </a:lnTo>
                  <a:lnTo>
                    <a:pt x="538" y="230"/>
                  </a:lnTo>
                  <a:lnTo>
                    <a:pt x="530" y="350"/>
                  </a:lnTo>
                  <a:lnTo>
                    <a:pt x="709" y="200"/>
                  </a:lnTo>
                  <a:lnTo>
                    <a:pt x="785" y="186"/>
                  </a:lnTo>
                  <a:lnTo>
                    <a:pt x="870" y="243"/>
                  </a:lnTo>
                  <a:lnTo>
                    <a:pt x="884" y="329"/>
                  </a:lnTo>
                  <a:lnTo>
                    <a:pt x="680" y="510"/>
                  </a:lnTo>
                  <a:lnTo>
                    <a:pt x="578" y="536"/>
                  </a:lnTo>
                  <a:lnTo>
                    <a:pt x="437" y="517"/>
                  </a:lnTo>
                  <a:lnTo>
                    <a:pt x="325" y="397"/>
                  </a:lnTo>
                  <a:lnTo>
                    <a:pt x="97" y="403"/>
                  </a:lnTo>
                  <a:lnTo>
                    <a:pt x="30" y="321"/>
                  </a:lnTo>
                  <a:lnTo>
                    <a:pt x="0" y="137"/>
                  </a:lnTo>
                  <a:lnTo>
                    <a:pt x="47" y="55"/>
                  </a:lnTo>
                  <a:lnTo>
                    <a:pt x="47" y="55"/>
                  </a:lnTo>
                  <a:lnTo>
                    <a:pt x="47" y="55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043680" y="3830040"/>
              <a:ext cx="296640" cy="93960"/>
            </a:xfrm>
            <a:custGeom>
              <a:avLst/>
              <a:gdLst/>
              <a:ahLst/>
              <a:rect l="l" t="t" r="r" b="b"/>
              <a:pathLst>
                <a:path w="836" h="291">
                  <a:moveTo>
                    <a:pt x="0" y="25"/>
                  </a:moveTo>
                  <a:lnTo>
                    <a:pt x="106" y="73"/>
                  </a:lnTo>
                  <a:lnTo>
                    <a:pt x="190" y="46"/>
                  </a:lnTo>
                  <a:lnTo>
                    <a:pt x="266" y="21"/>
                  </a:lnTo>
                  <a:lnTo>
                    <a:pt x="342" y="35"/>
                  </a:lnTo>
                  <a:lnTo>
                    <a:pt x="382" y="75"/>
                  </a:lnTo>
                  <a:lnTo>
                    <a:pt x="412" y="124"/>
                  </a:lnTo>
                  <a:lnTo>
                    <a:pt x="511" y="179"/>
                  </a:lnTo>
                  <a:lnTo>
                    <a:pt x="581" y="90"/>
                  </a:lnTo>
                  <a:lnTo>
                    <a:pt x="680" y="27"/>
                  </a:lnTo>
                  <a:lnTo>
                    <a:pt x="770" y="0"/>
                  </a:lnTo>
                  <a:lnTo>
                    <a:pt x="829" y="48"/>
                  </a:lnTo>
                  <a:lnTo>
                    <a:pt x="836" y="95"/>
                  </a:lnTo>
                  <a:lnTo>
                    <a:pt x="772" y="189"/>
                  </a:lnTo>
                  <a:lnTo>
                    <a:pt x="663" y="265"/>
                  </a:lnTo>
                  <a:lnTo>
                    <a:pt x="561" y="291"/>
                  </a:lnTo>
                  <a:lnTo>
                    <a:pt x="407" y="268"/>
                  </a:lnTo>
                  <a:lnTo>
                    <a:pt x="289" y="164"/>
                  </a:lnTo>
                  <a:lnTo>
                    <a:pt x="112" y="154"/>
                  </a:lnTo>
                  <a:lnTo>
                    <a:pt x="23" y="111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046560" y="3764160"/>
              <a:ext cx="73440" cy="40680"/>
            </a:xfrm>
            <a:custGeom>
              <a:avLst/>
              <a:gdLst/>
              <a:ahLst/>
              <a:rect l="l" t="t" r="r" b="b"/>
              <a:pathLst>
                <a:path w="208" h="125">
                  <a:moveTo>
                    <a:pt x="35" y="0"/>
                  </a:moveTo>
                  <a:lnTo>
                    <a:pt x="126" y="38"/>
                  </a:lnTo>
                  <a:lnTo>
                    <a:pt x="166" y="72"/>
                  </a:lnTo>
                  <a:lnTo>
                    <a:pt x="206" y="108"/>
                  </a:lnTo>
                  <a:lnTo>
                    <a:pt x="208" y="124"/>
                  </a:lnTo>
                  <a:lnTo>
                    <a:pt x="192" y="125"/>
                  </a:lnTo>
                  <a:lnTo>
                    <a:pt x="151" y="97"/>
                  </a:lnTo>
                  <a:lnTo>
                    <a:pt x="101" y="76"/>
                  </a:lnTo>
                  <a:lnTo>
                    <a:pt x="0" y="55"/>
                  </a:lnTo>
                  <a:lnTo>
                    <a:pt x="0" y="27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273360" y="3789360"/>
              <a:ext cx="81360" cy="129240"/>
            </a:xfrm>
            <a:custGeom>
              <a:avLst/>
              <a:gdLst/>
              <a:ahLst/>
              <a:rect l="l" t="t" r="r" b="b"/>
              <a:pathLst>
                <a:path w="230" h="399">
                  <a:moveTo>
                    <a:pt x="139" y="2"/>
                  </a:moveTo>
                  <a:lnTo>
                    <a:pt x="177" y="51"/>
                  </a:lnTo>
                  <a:lnTo>
                    <a:pt x="230" y="120"/>
                  </a:lnTo>
                  <a:lnTo>
                    <a:pt x="230" y="219"/>
                  </a:lnTo>
                  <a:lnTo>
                    <a:pt x="160" y="321"/>
                  </a:lnTo>
                  <a:lnTo>
                    <a:pt x="72" y="365"/>
                  </a:lnTo>
                  <a:lnTo>
                    <a:pt x="12" y="399"/>
                  </a:lnTo>
                  <a:lnTo>
                    <a:pt x="0" y="380"/>
                  </a:lnTo>
                  <a:lnTo>
                    <a:pt x="101" y="298"/>
                  </a:lnTo>
                  <a:lnTo>
                    <a:pt x="181" y="198"/>
                  </a:lnTo>
                  <a:lnTo>
                    <a:pt x="171" y="101"/>
                  </a:lnTo>
                  <a:lnTo>
                    <a:pt x="150" y="57"/>
                  </a:lnTo>
                  <a:lnTo>
                    <a:pt x="122" y="15"/>
                  </a:lnTo>
                  <a:lnTo>
                    <a:pt x="124" y="0"/>
                  </a:lnTo>
                  <a:lnTo>
                    <a:pt x="139" y="2"/>
                  </a:lnTo>
                  <a:lnTo>
                    <a:pt x="139" y="2"/>
                  </a:lnTo>
                  <a:lnTo>
                    <a:pt x="13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27480" y="3713040"/>
              <a:ext cx="265320" cy="209880"/>
            </a:xfrm>
            <a:custGeom>
              <a:avLst/>
              <a:gdLst/>
              <a:ahLst/>
              <a:rect l="l" t="t" r="r" b="b"/>
              <a:pathLst>
                <a:path w="751" h="650">
                  <a:moveTo>
                    <a:pt x="736" y="168"/>
                  </a:moveTo>
                  <a:lnTo>
                    <a:pt x="673" y="120"/>
                  </a:lnTo>
                  <a:lnTo>
                    <a:pt x="645" y="99"/>
                  </a:lnTo>
                  <a:lnTo>
                    <a:pt x="609" y="80"/>
                  </a:lnTo>
                  <a:lnTo>
                    <a:pt x="559" y="61"/>
                  </a:lnTo>
                  <a:lnTo>
                    <a:pt x="514" y="48"/>
                  </a:lnTo>
                  <a:lnTo>
                    <a:pt x="422" y="36"/>
                  </a:lnTo>
                  <a:lnTo>
                    <a:pt x="232" y="73"/>
                  </a:lnTo>
                  <a:lnTo>
                    <a:pt x="177" y="99"/>
                  </a:lnTo>
                  <a:lnTo>
                    <a:pt x="128" y="141"/>
                  </a:lnTo>
                  <a:lnTo>
                    <a:pt x="71" y="202"/>
                  </a:lnTo>
                  <a:lnTo>
                    <a:pt x="46" y="284"/>
                  </a:lnTo>
                  <a:lnTo>
                    <a:pt x="48" y="350"/>
                  </a:lnTo>
                  <a:lnTo>
                    <a:pt x="65" y="411"/>
                  </a:lnTo>
                  <a:lnTo>
                    <a:pt x="99" y="458"/>
                  </a:lnTo>
                  <a:lnTo>
                    <a:pt x="152" y="476"/>
                  </a:lnTo>
                  <a:lnTo>
                    <a:pt x="301" y="477"/>
                  </a:lnTo>
                  <a:lnTo>
                    <a:pt x="365" y="496"/>
                  </a:lnTo>
                  <a:lnTo>
                    <a:pt x="420" y="544"/>
                  </a:lnTo>
                  <a:lnTo>
                    <a:pt x="468" y="584"/>
                  </a:lnTo>
                  <a:lnTo>
                    <a:pt x="515" y="609"/>
                  </a:lnTo>
                  <a:lnTo>
                    <a:pt x="628" y="628"/>
                  </a:lnTo>
                  <a:lnTo>
                    <a:pt x="628" y="650"/>
                  </a:lnTo>
                  <a:lnTo>
                    <a:pt x="495" y="643"/>
                  </a:lnTo>
                  <a:lnTo>
                    <a:pt x="382" y="580"/>
                  </a:lnTo>
                  <a:lnTo>
                    <a:pt x="335" y="542"/>
                  </a:lnTo>
                  <a:lnTo>
                    <a:pt x="280" y="527"/>
                  </a:lnTo>
                  <a:lnTo>
                    <a:pt x="152" y="527"/>
                  </a:lnTo>
                  <a:lnTo>
                    <a:pt x="80" y="504"/>
                  </a:lnTo>
                  <a:lnTo>
                    <a:pt x="33" y="445"/>
                  </a:lnTo>
                  <a:lnTo>
                    <a:pt x="6" y="365"/>
                  </a:lnTo>
                  <a:lnTo>
                    <a:pt x="0" y="280"/>
                  </a:lnTo>
                  <a:lnTo>
                    <a:pt x="27" y="181"/>
                  </a:lnTo>
                  <a:lnTo>
                    <a:pt x="53" y="143"/>
                  </a:lnTo>
                  <a:lnTo>
                    <a:pt x="91" y="105"/>
                  </a:lnTo>
                  <a:lnTo>
                    <a:pt x="152" y="59"/>
                  </a:lnTo>
                  <a:lnTo>
                    <a:pt x="221" y="29"/>
                  </a:lnTo>
                  <a:lnTo>
                    <a:pt x="325" y="4"/>
                  </a:lnTo>
                  <a:lnTo>
                    <a:pt x="449" y="0"/>
                  </a:lnTo>
                  <a:lnTo>
                    <a:pt x="591" y="38"/>
                  </a:lnTo>
                  <a:lnTo>
                    <a:pt x="685" y="99"/>
                  </a:lnTo>
                  <a:lnTo>
                    <a:pt x="747" y="149"/>
                  </a:lnTo>
                  <a:lnTo>
                    <a:pt x="751" y="164"/>
                  </a:lnTo>
                  <a:lnTo>
                    <a:pt x="736" y="168"/>
                  </a:lnTo>
                  <a:lnTo>
                    <a:pt x="736" y="168"/>
                  </a:lnTo>
                  <a:lnTo>
                    <a:pt x="736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211800" y="3809880"/>
              <a:ext cx="75600" cy="90360"/>
            </a:xfrm>
            <a:custGeom>
              <a:avLst/>
              <a:gdLst/>
              <a:ahLst/>
              <a:rect l="l" t="t" r="r" b="b"/>
              <a:pathLst>
                <a:path w="215" h="281">
                  <a:moveTo>
                    <a:pt x="211" y="19"/>
                  </a:moveTo>
                  <a:lnTo>
                    <a:pt x="80" y="142"/>
                  </a:lnTo>
                  <a:lnTo>
                    <a:pt x="46" y="230"/>
                  </a:lnTo>
                  <a:lnTo>
                    <a:pt x="48" y="268"/>
                  </a:lnTo>
                  <a:lnTo>
                    <a:pt x="42" y="281"/>
                  </a:lnTo>
                  <a:lnTo>
                    <a:pt x="27" y="275"/>
                  </a:lnTo>
                  <a:lnTo>
                    <a:pt x="0" y="230"/>
                  </a:lnTo>
                  <a:lnTo>
                    <a:pt x="17" y="171"/>
                  </a:lnTo>
                  <a:lnTo>
                    <a:pt x="42" y="116"/>
                  </a:lnTo>
                  <a:lnTo>
                    <a:pt x="78" y="79"/>
                  </a:lnTo>
                  <a:lnTo>
                    <a:pt x="116" y="53"/>
                  </a:lnTo>
                  <a:lnTo>
                    <a:pt x="156" y="28"/>
                  </a:lnTo>
                  <a:lnTo>
                    <a:pt x="198" y="0"/>
                  </a:lnTo>
                  <a:lnTo>
                    <a:pt x="215" y="3"/>
                  </a:lnTo>
                  <a:lnTo>
                    <a:pt x="211" y="19"/>
                  </a:lnTo>
                  <a:lnTo>
                    <a:pt x="211" y="19"/>
                  </a:lnTo>
                  <a:lnTo>
                    <a:pt x="21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23960" y="3742200"/>
              <a:ext cx="118080" cy="64440"/>
            </a:xfrm>
            <a:custGeom>
              <a:avLst/>
              <a:gdLst/>
              <a:ahLst/>
              <a:rect l="l" t="t" r="r" b="b"/>
              <a:pathLst>
                <a:path w="333" h="199">
                  <a:moveTo>
                    <a:pt x="325" y="20"/>
                  </a:moveTo>
                  <a:lnTo>
                    <a:pt x="141" y="102"/>
                  </a:lnTo>
                  <a:lnTo>
                    <a:pt x="65" y="161"/>
                  </a:lnTo>
                  <a:lnTo>
                    <a:pt x="29" y="197"/>
                  </a:lnTo>
                  <a:lnTo>
                    <a:pt x="2" y="199"/>
                  </a:lnTo>
                  <a:lnTo>
                    <a:pt x="0" y="171"/>
                  </a:lnTo>
                  <a:lnTo>
                    <a:pt x="32" y="127"/>
                  </a:lnTo>
                  <a:lnTo>
                    <a:pt x="116" y="62"/>
                  </a:lnTo>
                  <a:lnTo>
                    <a:pt x="165" y="38"/>
                  </a:lnTo>
                  <a:lnTo>
                    <a:pt x="215" y="24"/>
                  </a:lnTo>
                  <a:lnTo>
                    <a:pt x="319" y="0"/>
                  </a:lnTo>
                  <a:lnTo>
                    <a:pt x="333" y="7"/>
                  </a:lnTo>
                  <a:lnTo>
                    <a:pt x="325" y="20"/>
                  </a:lnTo>
                  <a:lnTo>
                    <a:pt x="325" y="20"/>
                  </a:lnTo>
                  <a:lnTo>
                    <a:pt x="3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088320" y="3728520"/>
              <a:ext cx="77760" cy="17280"/>
            </a:xfrm>
            <a:custGeom>
              <a:avLst/>
              <a:gdLst/>
              <a:ahLst/>
              <a:rect l="l" t="t" r="r" b="b"/>
              <a:pathLst>
                <a:path w="221" h="53">
                  <a:moveTo>
                    <a:pt x="14" y="2"/>
                  </a:moveTo>
                  <a:lnTo>
                    <a:pt x="42" y="0"/>
                  </a:lnTo>
                  <a:lnTo>
                    <a:pt x="133" y="0"/>
                  </a:lnTo>
                  <a:lnTo>
                    <a:pt x="215" y="32"/>
                  </a:lnTo>
                  <a:lnTo>
                    <a:pt x="221" y="47"/>
                  </a:lnTo>
                  <a:lnTo>
                    <a:pt x="207" y="53"/>
                  </a:lnTo>
                  <a:lnTo>
                    <a:pt x="130" y="36"/>
                  </a:lnTo>
                  <a:lnTo>
                    <a:pt x="42" y="36"/>
                  </a:lnTo>
                  <a:lnTo>
                    <a:pt x="14" y="32"/>
                  </a:lnTo>
                  <a:lnTo>
                    <a:pt x="0" y="17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969520" y="3842280"/>
              <a:ext cx="366480" cy="155160"/>
            </a:xfrm>
            <a:custGeom>
              <a:avLst/>
              <a:gdLst/>
              <a:ahLst/>
              <a:rect l="l" t="t" r="r" b="b"/>
              <a:pathLst>
                <a:path w="1036" h="479">
                  <a:moveTo>
                    <a:pt x="24" y="0"/>
                  </a:moveTo>
                  <a:lnTo>
                    <a:pt x="95" y="35"/>
                  </a:lnTo>
                  <a:lnTo>
                    <a:pt x="159" y="86"/>
                  </a:lnTo>
                  <a:lnTo>
                    <a:pt x="211" y="162"/>
                  </a:lnTo>
                  <a:lnTo>
                    <a:pt x="241" y="265"/>
                  </a:lnTo>
                  <a:lnTo>
                    <a:pt x="327" y="341"/>
                  </a:lnTo>
                  <a:lnTo>
                    <a:pt x="424" y="384"/>
                  </a:lnTo>
                  <a:lnTo>
                    <a:pt x="618" y="422"/>
                  </a:lnTo>
                  <a:lnTo>
                    <a:pt x="791" y="394"/>
                  </a:lnTo>
                  <a:lnTo>
                    <a:pt x="935" y="324"/>
                  </a:lnTo>
                  <a:lnTo>
                    <a:pt x="986" y="253"/>
                  </a:lnTo>
                  <a:lnTo>
                    <a:pt x="994" y="181"/>
                  </a:lnTo>
                  <a:lnTo>
                    <a:pt x="903" y="95"/>
                  </a:lnTo>
                  <a:lnTo>
                    <a:pt x="908" y="65"/>
                  </a:lnTo>
                  <a:lnTo>
                    <a:pt x="929" y="56"/>
                  </a:lnTo>
                  <a:lnTo>
                    <a:pt x="1000" y="94"/>
                  </a:lnTo>
                  <a:lnTo>
                    <a:pt x="1034" y="164"/>
                  </a:lnTo>
                  <a:lnTo>
                    <a:pt x="1036" y="253"/>
                  </a:lnTo>
                  <a:lnTo>
                    <a:pt x="977" y="356"/>
                  </a:lnTo>
                  <a:lnTo>
                    <a:pt x="901" y="422"/>
                  </a:lnTo>
                  <a:lnTo>
                    <a:pt x="789" y="457"/>
                  </a:lnTo>
                  <a:lnTo>
                    <a:pt x="677" y="474"/>
                  </a:lnTo>
                  <a:lnTo>
                    <a:pt x="583" y="479"/>
                  </a:lnTo>
                  <a:lnTo>
                    <a:pt x="437" y="453"/>
                  </a:lnTo>
                  <a:lnTo>
                    <a:pt x="258" y="373"/>
                  </a:lnTo>
                  <a:lnTo>
                    <a:pt x="190" y="282"/>
                  </a:lnTo>
                  <a:lnTo>
                    <a:pt x="161" y="211"/>
                  </a:lnTo>
                  <a:lnTo>
                    <a:pt x="125" y="139"/>
                  </a:lnTo>
                  <a:lnTo>
                    <a:pt x="74" y="75"/>
                  </a:lnTo>
                  <a:lnTo>
                    <a:pt x="0" y="23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886640" y="3656880"/>
              <a:ext cx="1101240" cy="21636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4080" y="3531240"/>
              <a:ext cx="843120" cy="21132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23680" y="3431880"/>
              <a:ext cx="457920" cy="9288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685480" y="2827440"/>
              <a:ext cx="213480" cy="62316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288760" y="3333960"/>
              <a:ext cx="407880" cy="6120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152680" y="2759400"/>
              <a:ext cx="631080" cy="53892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42280" y="3566160"/>
              <a:ext cx="271080" cy="9036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45600" y="3609000"/>
              <a:ext cx="132840" cy="5472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876920" y="3811320"/>
              <a:ext cx="1097640" cy="6444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091480" y="3501000"/>
              <a:ext cx="869400" cy="6372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15520" y="3507480"/>
              <a:ext cx="55080" cy="24300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635080" y="3572640"/>
              <a:ext cx="25200" cy="8136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645880" y="3561840"/>
              <a:ext cx="271800" cy="2052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739840" y="3605760"/>
              <a:ext cx="153360" cy="4068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038200" y="3630240"/>
              <a:ext cx="830520" cy="5364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914000" y="3791880"/>
              <a:ext cx="756720" cy="4140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891400" y="3675600"/>
              <a:ext cx="100440" cy="13608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937480" y="3824640"/>
              <a:ext cx="57960" cy="5148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894560" y="3844440"/>
              <a:ext cx="1062360" cy="3924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094000" y="3682080"/>
              <a:ext cx="566280" cy="5400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065920" y="3731040"/>
              <a:ext cx="412200" cy="3996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740920" y="3719520"/>
              <a:ext cx="124560" cy="2196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768280" y="3748680"/>
              <a:ext cx="125640" cy="1908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779080" y="3782160"/>
              <a:ext cx="145080" cy="2304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074200" y="2664000"/>
              <a:ext cx="773280" cy="19260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873760" y="2679120"/>
              <a:ext cx="78840" cy="10908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821560" y="2773080"/>
              <a:ext cx="133920" cy="64044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785920" y="2721240"/>
              <a:ext cx="86400" cy="58032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073480" y="2871720"/>
              <a:ext cx="148680" cy="54108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237280" y="3416040"/>
              <a:ext cx="486360" cy="277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733360" y="3417480"/>
              <a:ext cx="92160" cy="3024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286240" y="3423240"/>
              <a:ext cx="74160" cy="9144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243400" y="3507480"/>
              <a:ext cx="36000" cy="4176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649480" y="3421440"/>
              <a:ext cx="107280" cy="5976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71880" y="3466080"/>
              <a:ext cx="17640" cy="5364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276880" y="3354120"/>
              <a:ext cx="23400" cy="4500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79040" y="3326400"/>
              <a:ext cx="429120" cy="3852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696280" y="3328200"/>
              <a:ext cx="16920" cy="5148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607720" y="3348360"/>
              <a:ext cx="16200" cy="3924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26720" y="3347640"/>
              <a:ext cx="20520" cy="3924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434200" y="3345120"/>
              <a:ext cx="19080" cy="4140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53200" y="3349800"/>
              <a:ext cx="20520" cy="4392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89720" y="2799000"/>
              <a:ext cx="154440" cy="5976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159880" y="2983680"/>
              <a:ext cx="123480" cy="32076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82280" y="3257280"/>
              <a:ext cx="441720" cy="5904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695200" y="2783160"/>
              <a:ext cx="91080" cy="49896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159160" y="2778120"/>
              <a:ext cx="604080" cy="15120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198760" y="2822760"/>
              <a:ext cx="246240" cy="25200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085720" y="3553920"/>
              <a:ext cx="21600" cy="8424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1752480" y="441648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4721400"/>
            <a:ext cx="1371600" cy="83808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507480" y="510228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802.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1371600" y="235872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4952880" y="441648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514600" y="2514600"/>
            <a:ext cx="1828800" cy="1139760"/>
          </a:xfrm>
          <a:prstGeom prst="wedgeRoundRectCallout">
            <a:avLst>
              <a:gd name="adj1" fmla="val -19268"/>
              <a:gd name="adj2" fmla="val 89694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NA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Firewal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DHCP (client &amp; serv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VPN (PPTP and/or IPs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133720" y="5105520"/>
            <a:ext cx="1218960" cy="834840"/>
          </a:xfrm>
          <a:prstGeom prst="wedgeRoundRectCallout">
            <a:avLst>
              <a:gd name="adj1" fmla="val -94662"/>
              <a:gd name="adj2" fmla="val -69203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able Modem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DSL Modem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Satellite, Etc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504600" y="3932280"/>
            <a:ext cx="20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Internet Access Sha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4952880" y="4416480"/>
            <a:ext cx="0" cy="99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j0223598" descr=""/>
          <p:cNvPicPr/>
          <p:nvPr/>
        </p:nvPicPr>
        <p:blipFill>
          <a:blip r:embed="rId2"/>
          <a:stretch/>
        </p:blipFill>
        <p:spPr>
          <a:xfrm>
            <a:off x="4267080" y="5205240"/>
            <a:ext cx="960480" cy="8877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4421160" y="60040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ap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BD09248_" descr=""/>
          <p:cNvPicPr/>
          <p:nvPr/>
        </p:nvPicPr>
        <p:blipFill>
          <a:blip r:embed="rId3"/>
          <a:stretch/>
        </p:blipFill>
        <p:spPr>
          <a:xfrm>
            <a:off x="6705720" y="2282760"/>
            <a:ext cx="1279440" cy="1524240"/>
          </a:xfrm>
          <a:prstGeom prst="rect">
            <a:avLst/>
          </a:prstGeom>
          <a:ln w="0">
            <a:noFill/>
          </a:ln>
        </p:spPr>
      </p:pic>
      <p:grpSp>
        <p:nvGrpSpPr>
          <p:cNvPr id="201" name=""/>
          <p:cNvGrpSpPr/>
          <p:nvPr/>
        </p:nvGrpSpPr>
        <p:grpSpPr>
          <a:xfrm>
            <a:off x="5867280" y="4905360"/>
            <a:ext cx="1676520" cy="1450080"/>
            <a:chOff x="5867280" y="4905360"/>
            <a:chExt cx="1676520" cy="1450080"/>
          </a:xfrm>
        </p:grpSpPr>
        <p:pic>
          <p:nvPicPr>
            <p:cNvPr id="202" name="ProGear" descr=""/>
            <p:cNvPicPr/>
            <p:nvPr/>
          </p:nvPicPr>
          <p:blipFill>
            <a:blip r:embed="rId4"/>
            <a:stretch/>
          </p:blipFill>
          <p:spPr>
            <a:xfrm>
              <a:off x="5867280" y="4905360"/>
              <a:ext cx="1676520" cy="13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6173640" y="6048360"/>
              <a:ext cx="108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Web Termi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 flipV="1">
            <a:off x="6705720" y="44161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505320" y="4416480"/>
            <a:ext cx="3504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29200" y="2925720"/>
            <a:ext cx="892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Broadba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Cloud"/>
          <p:cNvSpPr/>
          <p:nvPr/>
        </p:nvSpPr>
        <p:spPr>
          <a:xfrm>
            <a:off x="1295280" y="1066680"/>
            <a:ext cx="1981440" cy="12193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ervic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rovi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38080" y="1978200"/>
            <a:ext cx="990720" cy="380880"/>
          </a:xfrm>
          <a:prstGeom prst="can">
            <a:avLst>
              <a:gd name="adj" fmla="val 45833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ccess 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84240" y="417204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10ba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615120" y="4365720"/>
            <a:ext cx="103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10/100ba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68000" y="3005280"/>
            <a:ext cx="100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arallel/US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914400"/>
            <a:ext cx="685800" cy="685800"/>
          </a:xfrm>
          <a:prstGeom prst="can">
            <a:avLst>
              <a:gd name="adj" fmla="val 16666"/>
            </a:avLst>
          </a:prstGeom>
          <a:solidFill>
            <a:srgbClr val="af418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service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provider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3276360" y="1600200"/>
            <a:ext cx="106668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4114800" y="990720"/>
            <a:ext cx="2743200" cy="12189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50480" y="312408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082360" y="5494320"/>
            <a:ext cx="80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Hom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Doma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Bound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120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 Black"/>
              </a:rPr>
              <a:t>Typical Network Elements in 2003…</a:t>
            </a:r>
            <a:endParaRPr b="0" lang="en-US" sz="32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42640" y="1828440"/>
            <a:ext cx="7413480" cy="33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171360" indent="-17136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and access (e.g. DSL modem, cable mod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and Residential Gateway/Execution Environment (e.g. OSG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PCs with different access constraints and prioriti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7480" indent="-16848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’ Mach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7480" indent="-16848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itor’ (Friends, work colleagues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7480" indent="-16848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’ (Different access, VPN connections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ices with IP-based networking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7480" indent="-16848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2.3, 802.11 (WiFi), Home PNA, HomePlug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ew appli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7480" indent="-16848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-pads, digital TVs, smart appli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120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 Black"/>
              </a:rPr>
              <a:t>It all has to be configured…</a:t>
            </a:r>
            <a:endParaRPr b="0" lang="en-US" sz="32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36440" y="1423800"/>
            <a:ext cx="741348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180360" indent="-18036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and Gateway/Routers break the end-to-end IP model (due to Firewall and NAT functionalit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1240" indent="-17748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ed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iddle Bo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IETF termi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0360" indent="-18036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applications (e.g., server-based and peer-to-peer) don’t work with a Middl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1240" indent="-17748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ess the Middle Box and/or applications are specially configu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71240" indent="-17748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ample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server hosting, PPTP, IPsec, Multi-player gaming, MP3 file sharing, VoIP (e.g., MS NetMeeting – H.323, SIP), FTP (client-side active), IP-based services (e.g., telnet, FTP, ssh)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0360" indent="-18036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ing these Middle Boxes is non-triv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0360" indent="-18036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ing end devices (e.g. PCs) is also often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0360" indent="-18036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’s a mostly mechanistic process, but if I get it wrong it won’t work, it will be difficult to debug,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 might create security holes which users aren’t aware o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120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 Black"/>
              </a:rPr>
              <a:t>The solution…let the experts do it!</a:t>
            </a:r>
            <a:br>
              <a:rPr sz="2800"/>
            </a:br>
            <a:endParaRPr b="0" lang="en-US" sz="28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36440" y="1676160"/>
            <a:ext cx="741348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home network user is not equipped to manage network faults or to detect possible performance bottlene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1792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enough to manage a single PC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of it is complicated, rote, management – ideal for a Service Provider to per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need to be able to detect faults and identify performance bottlenecks remo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1792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inputs to the customer for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1792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, even better, fix the problem remote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120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 Black"/>
              </a:rPr>
              <a:t>Home Network Management</a:t>
            </a:r>
            <a:endParaRPr b="0" lang="en-US" sz="32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36440" y="1424160"/>
            <a:ext cx="7802280" cy="22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ation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179280"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adband Gateway device capabilities such as firewall, Port forwarding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179280"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guration of PCs and other end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179280"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-going configuration updates when customer adds services such as VoIP, access to VPNs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ult and performance management issu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066680" y="3733920"/>
            <a:ext cx="7440840" cy="2225520"/>
            <a:chOff x="1066680" y="3733920"/>
            <a:chExt cx="7440840" cy="2225520"/>
          </a:xfrm>
        </p:grpSpPr>
        <p:sp>
          <p:nvSpPr>
            <p:cNvPr id="226" name=""/>
            <p:cNvSpPr/>
            <p:nvPr/>
          </p:nvSpPr>
          <p:spPr>
            <a:xfrm>
              <a:off x="1066680" y="3733920"/>
              <a:ext cx="3630600" cy="22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irewall mis-configu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vailability (e.g., DHCP, D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nnectivity problem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QoS perform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ort forwarding problem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876920" y="3733920"/>
              <a:ext cx="3630600" cy="22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P address assign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etBIOS problem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AT issues (protocol conversion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ultiple DHCP serv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ultiple DNS serv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9T13:51:45Z</dcterms:created>
  <dc:creator>Chris Brightman</dc:creator>
  <dc:description/>
  <dc:language>en-US</dc:language>
  <cp:lastModifiedBy>Chris Brightman</cp:lastModifiedBy>
  <cp:lastPrinted>2001-06-20T01:54:32Z</cp:lastPrinted>
  <dcterms:modified xsi:type="dcterms:W3CDTF">2001-10-15T13:53:29Z</dcterms:modified>
  <cp:revision>96</cp:revision>
  <dc:subject>FORCES Colloquium, Glasgow, 2nd October 2001</dc:subject>
  <dc:title>Home Network Management</dc:title>
</cp:coreProperties>
</file>