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3.wmf" ContentType="image/x-wmf"/>
  <Override PartName="/ppt/media/image5.png" ContentType="image/png"/>
  <Override PartName="/ppt/media/image9.png" ContentType="image/png"/>
  <Override PartName="/ppt/media/image17.wmf" ContentType="image/x-wmf"/>
  <Override PartName="/ppt/media/image12.wmf" ContentType="image/x-wmf"/>
  <Override PartName="/ppt/media/image4.png" ContentType="image/png"/>
  <Override PartName="/ppt/media/image8.png" ContentType="image/png"/>
  <Override PartName="/ppt/media/image19.png" ContentType="image/png"/>
  <Override PartName="/ppt/media/image18.wmf" ContentType="image/x-wmf"/>
  <Override PartName="/ppt/media/image20.wmf" ContentType="image/x-wmf"/>
  <Override PartName="/ppt/media/image16.jpeg" ContentType="image/jpeg"/>
  <Override PartName="/ppt/media/image1.wmf" ContentType="image/x-wmf"/>
  <Override PartName="/ppt/media/image14.wmf" ContentType="image/x-wmf"/>
  <Override PartName="/ppt/media/image6.png" ContentType="image/png"/>
  <Override PartName="/ppt/media/image2.png" ContentType="image/png"/>
  <Override PartName="/ppt/media/image10.wmf" ContentType="image/x-wmf"/>
  <Override PartName="/ppt/media/image15.wmf" ContentType="image/x-wmf"/>
  <Override PartName="/ppt/media/image7.png" ContentType="image/png"/>
  <Override PartName="/ppt/media/image11.wmf" ContentType="image/x-wm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21488" cy="99218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5640" y="456840"/>
            <a:ext cx="6705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7720" y="1517400"/>
            <a:ext cx="7620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550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837720" y="3746160"/>
            <a:ext cx="7620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550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5640" y="456840"/>
            <a:ext cx="6705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517400"/>
            <a:ext cx="3718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550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42640" y="1517400"/>
            <a:ext cx="3718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550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37720" y="3746160"/>
            <a:ext cx="3718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550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42640" y="3746160"/>
            <a:ext cx="3718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550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5640" y="456840"/>
            <a:ext cx="6705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37720" y="15174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550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414240" y="15174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550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90760" y="15174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550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837720" y="374616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550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414240" y="374616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550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90760" y="374616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550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5640" y="456840"/>
            <a:ext cx="6705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837720" y="1517400"/>
            <a:ext cx="76201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5640" y="456840"/>
            <a:ext cx="6705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7720" y="1517400"/>
            <a:ext cx="7620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550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5640" y="456840"/>
            <a:ext cx="6705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7720" y="1517400"/>
            <a:ext cx="37184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550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42640" y="1517400"/>
            <a:ext cx="37184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550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5640" y="456840"/>
            <a:ext cx="6705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2285640" y="456840"/>
            <a:ext cx="67057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5640" y="456840"/>
            <a:ext cx="6705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7720" y="1517400"/>
            <a:ext cx="3718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550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42640" y="1517400"/>
            <a:ext cx="37184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550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7720" y="3746160"/>
            <a:ext cx="3718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550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5640" y="456840"/>
            <a:ext cx="6705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837720" y="1517400"/>
            <a:ext cx="76201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5640" y="456840"/>
            <a:ext cx="6705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517400"/>
            <a:ext cx="37184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550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2640" y="1517400"/>
            <a:ext cx="3718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550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42640" y="3746160"/>
            <a:ext cx="3718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550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5640" y="456840"/>
            <a:ext cx="6705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517400"/>
            <a:ext cx="3718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550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42640" y="1517400"/>
            <a:ext cx="3718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550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7720" y="3746160"/>
            <a:ext cx="7620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550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5640" y="456840"/>
            <a:ext cx="6705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517400"/>
            <a:ext cx="7620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550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837720" y="3746160"/>
            <a:ext cx="7620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550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5640" y="456840"/>
            <a:ext cx="6705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517400"/>
            <a:ext cx="3718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550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42640" y="1517400"/>
            <a:ext cx="3718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550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37720" y="3746160"/>
            <a:ext cx="3718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550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42640" y="3746160"/>
            <a:ext cx="3718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550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5640" y="456840"/>
            <a:ext cx="6705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7720" y="15174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550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14240" y="15174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550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990760" y="15174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550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837720" y="374616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550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414240" y="374616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550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990760" y="374616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550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5640" y="456840"/>
            <a:ext cx="6705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7720" y="1517400"/>
            <a:ext cx="7620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550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5640" y="456840"/>
            <a:ext cx="6705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7720" y="1517400"/>
            <a:ext cx="37184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550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42640" y="1517400"/>
            <a:ext cx="37184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550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5640" y="456840"/>
            <a:ext cx="6705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5640" y="456840"/>
            <a:ext cx="67057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5640" y="456840"/>
            <a:ext cx="6705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7720" y="1517400"/>
            <a:ext cx="3718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550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2640" y="1517400"/>
            <a:ext cx="37184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550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37720" y="3746160"/>
            <a:ext cx="3718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550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5640" y="456840"/>
            <a:ext cx="6705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7720" y="1517400"/>
            <a:ext cx="37184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550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2640" y="1517400"/>
            <a:ext cx="3718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550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42640" y="3746160"/>
            <a:ext cx="3718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550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5640" y="456840"/>
            <a:ext cx="6705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7720" y="1517400"/>
            <a:ext cx="3718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550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42640" y="1517400"/>
            <a:ext cx="3718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550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37720" y="3746160"/>
            <a:ext cx="7620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550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0" y="5175360"/>
          <a:ext cx="938160" cy="1676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5175360"/>
                    <a:ext cx="938160" cy="16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837720" y="1517400"/>
            <a:ext cx="7620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550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spcBef>
                <a:spcPts val="550"/>
              </a:spcBef>
              <a:spcAft>
                <a:spcPts val="550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480">
              <a:spcBef>
                <a:spcPts val="550"/>
              </a:spcBef>
              <a:spcAft>
                <a:spcPts val="550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14480">
              <a:spcBef>
                <a:spcPts val="550"/>
              </a:spcBef>
              <a:spcAft>
                <a:spcPts val="550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14480">
              <a:spcBef>
                <a:spcPts val="550"/>
              </a:spcBef>
              <a:spcAft>
                <a:spcPts val="550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14480">
              <a:spcBef>
                <a:spcPts val="550"/>
              </a:spcBef>
              <a:spcAft>
                <a:spcPts val="550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14480">
              <a:spcBef>
                <a:spcPts val="550"/>
              </a:spcBef>
              <a:spcAft>
                <a:spcPts val="550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4"/>
          <a:stretch/>
        </p:blipFill>
        <p:spPr>
          <a:xfrm>
            <a:off x="1828800" y="586116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5"/>
          <a:stretch/>
        </p:blipFill>
        <p:spPr>
          <a:xfrm>
            <a:off x="838080" y="586116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6"/>
          <a:stretch/>
        </p:blipFill>
        <p:spPr>
          <a:xfrm>
            <a:off x="2819520" y="608976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6248520" y="6477120"/>
            <a:ext cx="289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3300"/>
                </a:solidFill>
                <a:latin typeface="Arial"/>
              </a:rPr>
              <a:t>www.rtel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7">
            <a:lum bright="-20000"/>
          </a:blip>
          <a:stretch/>
        </p:blipFill>
        <p:spPr>
          <a:xfrm>
            <a:off x="0" y="37476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2"/>
          <p:cNvSpPr>
            <a:spLocks noGrp="1"/>
          </p:cNvSpPr>
          <p:nvPr>
            <p:ph type="title"/>
          </p:nvPr>
        </p:nvSpPr>
        <p:spPr>
          <a:xfrm>
            <a:off x="2285640" y="456840"/>
            <a:ext cx="6705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9" name="Gif" descr=""/>
          <p:cNvPicPr/>
          <p:nvPr/>
        </p:nvPicPr>
        <p:blipFill>
          <a:blip r:embed="rId8"/>
          <a:stretch/>
        </p:blipFill>
        <p:spPr>
          <a:xfrm>
            <a:off x="0" y="374760"/>
            <a:ext cx="2209680" cy="838080"/>
          </a:xfrm>
          <a:prstGeom prst="rect">
            <a:avLst/>
          </a:prstGeom>
          <a:ln w="0">
            <a:noFill/>
          </a:ln>
        </p:spPr>
      </p:pic>
      <p:pic>
        <p:nvPicPr>
          <p:cNvPr id="10" name="" descr=""/>
          <p:cNvPicPr/>
          <p:nvPr/>
        </p:nvPicPr>
        <p:blipFill>
          <a:blip r:embed="rId9"/>
          <a:stretch/>
        </p:blipFill>
        <p:spPr>
          <a:xfrm>
            <a:off x="3581280" y="608976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0" y="4267080"/>
          <a:ext cx="1446120" cy="2584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4267080"/>
                    <a:ext cx="1446120" cy="258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2666880" y="555624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1295280" y="555624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6"/>
          <a:stretch/>
        </p:blipFill>
        <p:spPr>
          <a:xfrm>
            <a:off x="4038480" y="586116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172200" y="6470640"/>
            <a:ext cx="289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3300"/>
                </a:solidFill>
                <a:latin typeface="Arial"/>
              </a:rPr>
              <a:t>www.rtel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7">
            <a:lum bright="-20000"/>
          </a:blip>
          <a:stretch/>
        </p:blipFill>
        <p:spPr>
          <a:xfrm>
            <a:off x="0" y="1752480"/>
            <a:ext cx="9144000" cy="838440"/>
          </a:xfrm>
          <a:prstGeom prst="rect">
            <a:avLst/>
          </a:prstGeom>
          <a:ln w="0">
            <a:noFill/>
          </a:ln>
        </p:spPr>
      </p:pic>
      <p:pic>
        <p:nvPicPr>
          <p:cNvPr id="54" name="Gif" descr=""/>
          <p:cNvPicPr/>
          <p:nvPr/>
        </p:nvPicPr>
        <p:blipFill>
          <a:blip r:embed="rId8"/>
          <a:stretch/>
        </p:blipFill>
        <p:spPr>
          <a:xfrm>
            <a:off x="0" y="1752480"/>
            <a:ext cx="2209680" cy="8384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9"/>
          <a:stretch/>
        </p:blipFill>
        <p:spPr>
          <a:xfrm>
            <a:off x="5105520" y="586116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09680" y="1828440"/>
            <a:ext cx="6934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algn="ctr"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1224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792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792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792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5029200" y="4571640"/>
            <a:ext cx="373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Jim Henderson</a:t>
            </a:r>
            <a:br>
              <a:rPr sz="1800"/>
            </a:b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echnical Director</a:t>
            </a:r>
            <a:br>
              <a:rPr sz="1800"/>
            </a:b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(and Chief e-strologer)</a:t>
            </a:r>
            <a:br>
              <a:rPr sz="1800"/>
            </a:b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Real Time Engineering Limit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905120" y="2819520"/>
            <a:ext cx="6019560" cy="233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The Invasion of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The Pervasive Computer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819520" y="1905120"/>
            <a:ext cx="5562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6e6e6"/>
                    </a:gs>
                    <a:gs pos="100000">
                      <a:srgbClr val="ffffff"/>
                    </a:gs>
                  </a:gsLst>
                  <a:lin ang="13500000"/>
                </a:gradFill>
                <a:latin typeface="Times New Roman"/>
              </a:rPr>
              <a:t>Out of the Box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6e6e6"/>
                  </a:gs>
                  <a:gs pos="100000">
                    <a:srgbClr val="ffffff"/>
                  </a:gs>
                </a:gsLst>
                <a:lin ang="13500000"/>
              </a:gradFill>
              <a:latin typeface="Times New Roman"/>
              <a:ea typeface="Times New Roman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5640" y="456840"/>
            <a:ext cx="6705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ffffff"/>
                </a:solidFill>
                <a:latin typeface="Arial Black"/>
              </a:rPr>
              <a:t>Soft Enabling Factors</a:t>
            </a:r>
            <a:endParaRPr b="1" lang="en-US" sz="3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86000" y="1294920"/>
            <a:ext cx="664848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7360" indent="-38736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Secure e&amp;m-commer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7360" indent="-38736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Information distribution via IP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-228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ternet, Intranet, Extranet (VP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7360" indent="-38736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Web interfaced applications</a:t>
            </a:r>
            <a:br>
              <a:rPr sz="2200"/>
            </a:b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(all you need is a browser!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7360" indent="-38736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Re-usable OO software (.NET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7360" indent="-38736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Complex information processing</a:t>
            </a:r>
            <a:br>
              <a:rPr sz="2200"/>
            </a:b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accessible via AS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7360" indent="-38736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Pervasive communications</a:t>
            </a:r>
            <a:br>
              <a:rPr sz="2200"/>
            </a:b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without user interven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7360" indent="-38736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Intelligent Agents – learn your preferen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5640" y="456840"/>
            <a:ext cx="6705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ffffff"/>
                </a:solidFill>
                <a:latin typeface="Arial Black"/>
              </a:rPr>
              <a:t>Social Enabling Factors</a:t>
            </a:r>
            <a:endParaRPr b="1" lang="en-US" sz="3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828800" y="1447920"/>
            <a:ext cx="664848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7360" indent="-38736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Familiarity with PC/Window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7360" indent="-38736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E-mail and Web acces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7360" indent="-38736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Expectation of computer inter-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7360" indent="-38736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Interactive Televis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7360" indent="-38736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Game systems are evolving into home servers (Playstation 2, X-Box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38080" y="4038480"/>
            <a:ext cx="8305920" cy="17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Aft>
                <a:spcPts val="6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Originally </a:t>
            </a:r>
            <a:r>
              <a:rPr b="1" lang="en-GB" sz="2600" spc="-1" strike="noStrike">
                <a:solidFill>
                  <a:srgbClr val="ff0000"/>
                </a:solidFill>
                <a:latin typeface="Arial"/>
              </a:rPr>
              <a:t>Survival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 made us invent tool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Aft>
                <a:spcPts val="6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Then </a:t>
            </a:r>
            <a:r>
              <a:rPr b="1" lang="en-GB" sz="2600" spc="-1" strike="noStrike">
                <a:solidFill>
                  <a:srgbClr val="ff0000"/>
                </a:solidFill>
                <a:latin typeface="Arial"/>
              </a:rPr>
              <a:t>War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 led us to improve technolog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Aft>
                <a:spcPts val="6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Then </a:t>
            </a:r>
            <a:r>
              <a:rPr b="1" lang="en-GB" sz="2600" spc="-1" strike="noStrike">
                <a:solidFill>
                  <a:srgbClr val="ff0000"/>
                </a:solidFill>
                <a:latin typeface="Arial"/>
              </a:rPr>
              <a:t>Business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 led us to where we are now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Aft>
                <a:spcPts val="6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0000"/>
                </a:solidFill>
                <a:latin typeface="Arial"/>
              </a:rPr>
              <a:t>Entertainment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 will lead us to Pervasive Comput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5640" y="456840"/>
            <a:ext cx="6705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ffffff"/>
                </a:solidFill>
                <a:latin typeface="Arial Black"/>
              </a:rPr>
              <a:t>Disabling Factors</a:t>
            </a:r>
            <a:endParaRPr b="1" lang="en-US" sz="3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42640" y="121932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7360" indent="-387360">
              <a:spcBef>
                <a:spcPts val="499"/>
              </a:spcBef>
              <a:spcAft>
                <a:spcPts val="499"/>
              </a:spcAft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andwidt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7360" indent="-387360">
              <a:spcBef>
                <a:spcPts val="499"/>
              </a:spcBef>
              <a:spcAft>
                <a:spcPts val="499"/>
              </a:spcAft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attery development refuses to follow Moore’s La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7360" indent="-387360">
              <a:spcBef>
                <a:spcPts val="499"/>
              </a:spcBef>
              <a:spcAft>
                <a:spcPts val="499"/>
              </a:spcAft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oftware design is still subject to wide quality variation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7360" indent="-387360">
              <a:spcBef>
                <a:spcPts val="499"/>
              </a:spcBef>
              <a:spcAft>
                <a:spcPts val="499"/>
              </a:spcAft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torage and data transmission reliabi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7360" indent="-387360">
              <a:spcBef>
                <a:spcPts val="499"/>
              </a:spcBef>
              <a:spcAft>
                <a:spcPts val="499"/>
              </a:spcAft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24x7 support needs to be pervasive as wel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7360" indent="-387360">
              <a:spcBef>
                <a:spcPts val="499"/>
              </a:spcBef>
              <a:spcAft>
                <a:spcPts val="499"/>
              </a:spcAft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Hype overloa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7360" indent="-387360">
              <a:spcBef>
                <a:spcPts val="499"/>
              </a:spcBef>
              <a:spcAft>
                <a:spcPts val="499"/>
              </a:spcAft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apital intensive developments suppressing company performa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7360" indent="-387360">
              <a:spcBef>
                <a:spcPts val="499"/>
              </a:spcBef>
              <a:spcAft>
                <a:spcPts val="499"/>
              </a:spcAft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We have yet to work out an effective charging mechan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54520" y="4952880"/>
            <a:ext cx="604980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0000"/>
                </a:solidFill>
                <a:latin typeface="Arial"/>
              </a:rPr>
              <a:t>In the end a chain can be no stronger</a:t>
            </a:r>
            <a:br>
              <a:rPr sz="2600"/>
            </a:br>
            <a:r>
              <a:rPr b="1" lang="en-GB" sz="2600" spc="-1" strike="noStrike">
                <a:solidFill>
                  <a:srgbClr val="ff0000"/>
                </a:solidFill>
                <a:latin typeface="Arial"/>
              </a:rPr>
              <a:t>than its weakest lin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5640" y="456840"/>
            <a:ext cx="6705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 Black"/>
              </a:rPr>
              <a:t>Technologies</a:t>
            </a:r>
            <a:endParaRPr b="1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523880" y="1218960"/>
            <a:ext cx="7467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74760" indent="-374760">
              <a:spcBef>
                <a:spcPts val="550"/>
              </a:spcBef>
              <a:spcAft>
                <a:spcPts val="550"/>
              </a:spcAft>
              <a:buClr>
                <a:srgbClr val="0000ff"/>
              </a:buClr>
              <a:buFont typeface="Wingdings" charset="2"/>
              <a:buChar char=""/>
              <a:tabLst>
                <a:tab algn="l" pos="5715000"/>
                <a:tab algn="r" pos="6473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Communication Technolog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4560" indent="-192960">
              <a:lnSpc>
                <a:spcPct val="7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5715000"/>
                <a:tab algn="r" pos="6473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SM –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urrent commonest digital standard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9.6Kbit/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4560" indent="-192960">
              <a:lnSpc>
                <a:spcPct val="7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5715000"/>
                <a:tab algn="r" pos="6473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PRS –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neral Product Radio Service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160Kbit/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4560" indent="-192960">
              <a:lnSpc>
                <a:spcPct val="7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5715000"/>
                <a:tab algn="r" pos="6473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UMTS –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Universal Mobile Telecommunications System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2Mbit/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4560" indent="-192960">
              <a:lnSpc>
                <a:spcPct val="7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5715000"/>
                <a:tab algn="r" pos="6473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atellit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– Low Earth Orbit device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20Mbit/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550"/>
              </a:spcBef>
              <a:spcAft>
                <a:spcPts val="550"/>
              </a:spcAft>
              <a:buClr>
                <a:srgbClr val="0000ff"/>
              </a:buClr>
              <a:buFont typeface="Wingdings" charset="2"/>
              <a:buChar char=""/>
              <a:tabLst>
                <a:tab algn="l" pos="5715000"/>
                <a:tab algn="r" pos="6473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Application interfa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4560" indent="-19296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5715000"/>
                <a:tab algn="r" pos="6473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Wireless Protocols – WAP/I-Mode, Bluetoot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4560" indent="-19296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5715000"/>
                <a:tab algn="r" pos="6473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Voice activ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4560" indent="-19296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5715000"/>
                <a:tab algn="r" pos="6473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ocation Services – Where am I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550"/>
              </a:spcBef>
              <a:spcAft>
                <a:spcPts val="550"/>
              </a:spcAft>
              <a:buClr>
                <a:srgbClr val="0000ff"/>
              </a:buClr>
              <a:buFont typeface="Wingdings" charset="2"/>
              <a:buChar char=""/>
              <a:tabLst>
                <a:tab algn="l" pos="5715000"/>
                <a:tab algn="r" pos="6473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4560" indent="-19296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5715000"/>
                <a:tab algn="r" pos="6473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DA, PC or telephone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4560" indent="-19296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5715000"/>
                <a:tab algn="r" pos="6473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OHO Base St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4560" indent="-19296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5715000"/>
                <a:tab algn="r" pos="6473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ame Servers/Intelligent VCRs </a:t>
            </a:r>
            <a:r>
              <a:rPr b="1" lang="en-GB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Home Servers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550"/>
              </a:spcBef>
              <a:spcAft>
                <a:spcPts val="550"/>
              </a:spcAft>
              <a:buNone/>
              <a:tabLst>
                <a:tab algn="l" pos="0"/>
                <a:tab algn="l" pos="5715000"/>
                <a:tab algn="r" pos="647388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bd05191_" descr=""/>
          <p:cNvPicPr/>
          <p:nvPr/>
        </p:nvPicPr>
        <p:blipFill>
          <a:blip r:embed="rId1"/>
          <a:stretch/>
        </p:blipFill>
        <p:spPr>
          <a:xfrm>
            <a:off x="152280" y="1371600"/>
            <a:ext cx="1325520" cy="1230480"/>
          </a:xfrm>
          <a:prstGeom prst="rect">
            <a:avLst/>
          </a:prstGeom>
          <a:ln w="0">
            <a:noFill/>
          </a:ln>
        </p:spPr>
      </p:pic>
      <p:pic>
        <p:nvPicPr>
          <p:cNvPr id="136" name="6110" descr=""/>
          <p:cNvPicPr/>
          <p:nvPr/>
        </p:nvPicPr>
        <p:blipFill>
          <a:blip r:embed="rId2"/>
          <a:stretch/>
        </p:blipFill>
        <p:spPr>
          <a:xfrm>
            <a:off x="7924680" y="3124080"/>
            <a:ext cx="787680" cy="23385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85640" y="456840"/>
            <a:ext cx="6705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700" spc="-1" strike="noStrike">
                <a:solidFill>
                  <a:srgbClr val="ffffff"/>
                </a:solidFill>
                <a:latin typeface="Arial Black"/>
              </a:rPr>
              <a:t>Timescales</a:t>
            </a:r>
            <a:endParaRPr b="1" lang="en-US" sz="37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209680" y="1142640"/>
            <a:ext cx="6648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ff"/>
                </a:solidFill>
                <a:latin typeface="Arial"/>
              </a:rPr>
              <a:t>Mainly over the next 3 year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GPRS – 2001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UMTS – 2002/3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Bluetooth 2001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Wireless LANS now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Web Pads by middle of 2001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Mobile phone/PDA/handheld PC merging now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Location services being piloted on GSM</a:t>
            </a:r>
            <a:br>
              <a:rPr sz="2200"/>
            </a:b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(more accurate with always on technology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Home servers (via game servers/VCRs) - 2001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5640" y="456840"/>
            <a:ext cx="6705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ffffff"/>
                </a:solidFill>
                <a:latin typeface="Arial Black"/>
              </a:rPr>
              <a:t>In the Factory</a:t>
            </a:r>
            <a:endParaRPr b="1" lang="en-US" sz="3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09320" y="1523520"/>
            <a:ext cx="641988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spcBef>
                <a:spcPts val="649"/>
              </a:spcBef>
              <a:spcAft>
                <a:spcPts val="649"/>
              </a:spcAft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Most real-time data is becoming available on web-enabled servic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spcAft>
                <a:spcPts val="649"/>
              </a:spcAft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Wireless data access units are starting to appear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spcAft>
                <a:spcPts val="649"/>
              </a:spcAft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Intrinsically safe data capture units are starting to use wireless technolog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spcAft>
                <a:spcPts val="649"/>
              </a:spcAft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Wireless instruments make huge cable cost savings possib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5640" y="456840"/>
            <a:ext cx="6705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ffffff"/>
                </a:solidFill>
                <a:latin typeface="Arial Black"/>
              </a:rPr>
              <a:t>In the Office</a:t>
            </a:r>
            <a:endParaRPr b="1" lang="en-US" sz="3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980720" y="1752120"/>
            <a:ext cx="687708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7360" indent="-387360">
              <a:spcBef>
                <a:spcPts val="624"/>
              </a:spcBef>
              <a:spcAft>
                <a:spcPts val="624"/>
              </a:spcAft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Phone connects to local base unit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7360" indent="-387360">
              <a:spcBef>
                <a:spcPts val="624"/>
              </a:spcBef>
              <a:spcAft>
                <a:spcPts val="624"/>
              </a:spcAft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Mobile/wearable PC/PDA leaves Internet VPN and connects to WLAN</a:t>
            </a:r>
            <a:br>
              <a:rPr sz="2500"/>
            </a:b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(Bluetooth or IEE 802.11)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7360" indent="-387360">
              <a:spcBef>
                <a:spcPts val="624"/>
              </a:spcBef>
              <a:spcAft>
                <a:spcPts val="624"/>
              </a:spcAft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Mouse/keyboard/printer/camera/scanner all use Bluetooth – use any local facilities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7360" indent="-387360">
              <a:spcBef>
                <a:spcPts val="624"/>
              </a:spcBef>
              <a:spcAft>
                <a:spcPts val="624"/>
              </a:spcAft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Data and processing power follows you</a:t>
            </a:r>
            <a:br>
              <a:rPr sz="2500"/>
            </a:b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(may not even reside in your company)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7360" indent="-387360">
              <a:spcBef>
                <a:spcPts val="624"/>
              </a:spcBef>
              <a:spcAft>
                <a:spcPts val="624"/>
              </a:spcAft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Bluetooth enabled identification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bd04922_" descr=""/>
          <p:cNvPicPr/>
          <p:nvPr/>
        </p:nvPicPr>
        <p:blipFill>
          <a:blip r:embed="rId1"/>
          <a:stretch/>
        </p:blipFill>
        <p:spPr>
          <a:xfrm>
            <a:off x="7772400" y="1523880"/>
            <a:ext cx="498600" cy="689040"/>
          </a:xfrm>
          <a:prstGeom prst="rect">
            <a:avLst/>
          </a:prstGeom>
          <a:ln w="0">
            <a:noFill/>
          </a:ln>
        </p:spPr>
      </p:pic>
      <p:pic>
        <p:nvPicPr>
          <p:cNvPr id="144" name="bd04908_" descr=""/>
          <p:cNvPicPr/>
          <p:nvPr/>
        </p:nvPicPr>
        <p:blipFill>
          <a:blip r:embed="rId2"/>
          <a:stretch/>
        </p:blipFill>
        <p:spPr>
          <a:xfrm>
            <a:off x="0" y="1371600"/>
            <a:ext cx="1981080" cy="17636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0" y="456840"/>
            <a:ext cx="6353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ffffff"/>
                </a:solidFill>
                <a:latin typeface="Arial Black"/>
              </a:rPr>
              <a:t>On the Move</a:t>
            </a:r>
            <a:endParaRPr b="1" lang="en-US" sz="3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94920" y="1523880"/>
            <a:ext cx="76201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7360" indent="-387360"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 car or on street - Phone/PDA/PC connect to cellular system ISP – calls, e-mail,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games &amp; video on deman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7360" indent="-387360"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otel/Plane/Train – Portable PC/PDA connects to cellular system ISP and by VPN to office or web-based data sour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7360" indent="-387360"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DA talks with home server for security check, to see who is in or re-program the cook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7360" indent="-387360"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e ‘Wearable Computer’ becomes a fashion accessor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4800600" y="5257800"/>
          <a:ext cx="2867040" cy="144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5257800"/>
                    <a:ext cx="2867040" cy="14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split dir="out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285640" y="456840"/>
            <a:ext cx="6705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ffffff"/>
                </a:solidFill>
                <a:latin typeface="Arial Black"/>
              </a:rPr>
              <a:t>At Home</a:t>
            </a:r>
            <a:endParaRPr b="1" lang="en-US" sz="3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676160" y="1371240"/>
            <a:ext cx="718164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7360" indent="-38736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hone connects to home base uni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7360" indent="-38736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C/PDA connects to home serv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7360" indent="-38736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eb pads provide digital TV/internet access via WLAN and home serv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7360" indent="-38736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ome server monitors appliances/security/servi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7360" indent="-38736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ecurity system detects you via Bluetooth identifi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7360" indent="-38736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obotic devices start to appea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7360" indent="-38736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ulti-user interactive gaming replaces real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bd06865_" descr=""/>
          <p:cNvPicPr/>
          <p:nvPr/>
        </p:nvPicPr>
        <p:blipFill>
          <a:blip r:embed="rId1"/>
          <a:stretch/>
        </p:blipFill>
        <p:spPr>
          <a:xfrm>
            <a:off x="228600" y="2133720"/>
            <a:ext cx="1352520" cy="1306440"/>
          </a:xfrm>
          <a:prstGeom prst="rect">
            <a:avLst/>
          </a:prstGeom>
          <a:ln w="0">
            <a:noFill/>
          </a:ln>
        </p:spPr>
      </p:pic>
      <p:pic>
        <p:nvPicPr>
          <p:cNvPr id="152" name="bd04922_" descr=""/>
          <p:cNvPicPr/>
          <p:nvPr/>
        </p:nvPicPr>
        <p:blipFill>
          <a:blip r:embed="rId2"/>
          <a:stretch/>
        </p:blipFill>
        <p:spPr>
          <a:xfrm>
            <a:off x="914400" y="1295280"/>
            <a:ext cx="498600" cy="6890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5640" y="456840"/>
            <a:ext cx="6705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ffffff"/>
                </a:solidFill>
                <a:latin typeface="Arial Black"/>
              </a:rPr>
              <a:t>Vision</a:t>
            </a:r>
            <a:endParaRPr b="1" lang="en-US" sz="3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676160" y="1295280"/>
            <a:ext cx="71816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7360" indent="-38736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e haven’t finished the last revolution ye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7360" indent="-38736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ervasive computing is com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7360" indent="-38736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t won’t work very well at fir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7360" indent="-38736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ere are still technological, business 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and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social hurdles to cro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7360" indent="-38736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e IT industry needs to prepare for an even faster pace of chan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7360" indent="-38736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Quality and reliability are essenti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7360" indent="-38736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(A network of Pervasive Computers will declare joint presidency of the USA without a recount – who could argue!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5640" y="456840"/>
            <a:ext cx="6705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 Black"/>
              </a:rPr>
              <a:t>Today’s </a:t>
            </a:r>
            <a:r>
              <a:rPr b="1" lang="en-US" sz="3000" spc="-1" strike="noStrike">
                <a:solidFill>
                  <a:srgbClr val="ffffff"/>
                </a:solidFill>
                <a:latin typeface="Arial Black"/>
              </a:rPr>
              <a:t>Agenda</a:t>
            </a:r>
            <a:endParaRPr b="1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752120" y="1218960"/>
            <a:ext cx="67057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7360" indent="-387360">
              <a:spcBef>
                <a:spcPts val="751"/>
              </a:spcBef>
              <a:spcAft>
                <a:spcPts val="751"/>
              </a:spcAft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Background to Real Time Engineerin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87360"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87360" indent="-387360">
              <a:spcBef>
                <a:spcPts val="649"/>
              </a:spcBef>
              <a:spcAft>
                <a:spcPts val="649"/>
              </a:spcAft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147680" indent="-2286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is it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7680" indent="-2286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Fac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7680" indent="-2286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abling Fac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7360" indent="-387360">
              <a:spcBef>
                <a:spcPts val="751"/>
              </a:spcBef>
              <a:spcAft>
                <a:spcPts val="751"/>
              </a:spcAft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is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905120" y="2362320"/>
            <a:ext cx="58672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6321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The Invasion of The Pervasive Comput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5638680" y="4503600"/>
            <a:ext cx="914400" cy="6778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5638680" y="41148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5640" y="456840"/>
            <a:ext cx="6705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ffffff"/>
                </a:solidFill>
                <a:latin typeface="Arial Black"/>
              </a:rPr>
              <a:t>A ‘Snapshot’ of RTEL</a:t>
            </a:r>
            <a:endParaRPr b="1" lang="en-US" sz="3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517400"/>
            <a:ext cx="7620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550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nded: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988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14480" indent="0">
              <a:spcBef>
                <a:spcPts val="550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ff: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50 Technical Staff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14480" indent="0">
              <a:spcBef>
                <a:spcPts val="550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0 Support Staff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14480" indent="0">
              <a:spcBef>
                <a:spcPts val="550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ffices: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lasgow, London,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ivingston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, Aberdeen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14480" indent="0">
              <a:spcBef>
                <a:spcPts val="550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urnover: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£11.5m y/e 1999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14480" indent="0">
              <a:spcBef>
                <a:spcPts val="550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wards: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SO 9001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14480" indent="0">
              <a:spcBef>
                <a:spcPts val="550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TI TickI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14480" indent="0">
              <a:spcBef>
                <a:spcPts val="550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vestor in Peop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14480" indent="0">
              <a:spcBef>
                <a:spcPts val="550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5640" y="456840"/>
            <a:ext cx="6705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ffffff"/>
                </a:solidFill>
                <a:latin typeface="Arial Black"/>
              </a:rPr>
              <a:t>Our Ideal</a:t>
            </a:r>
            <a:endParaRPr b="1" lang="en-US" sz="3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517400"/>
            <a:ext cx="7620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550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RTEL creates business-critical solutions throug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14480" indent="0">
              <a:spcBef>
                <a:spcPts val="550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mbining business knowledge with technology  to provide true efficiencies and advantag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ocusing on specific sectors where our understanding of the business drivers is second to non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 indent="0">
              <a:spcBef>
                <a:spcPts val="550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Major blue-chip organisations use our skills and staff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14480" indent="0">
              <a:spcBef>
                <a:spcPts val="550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0000"/>
                </a:solidFill>
                <a:latin typeface="Arial"/>
              </a:rPr>
              <a:t>they know us and they trust us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5640" y="456840"/>
            <a:ext cx="6705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ffffff"/>
                </a:solidFill>
                <a:latin typeface="Arial Black"/>
              </a:rPr>
              <a:t>Markets Operated</a:t>
            </a:r>
            <a:endParaRPr b="1" lang="en-US" sz="34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600200" y="1523880"/>
          <a:ext cx="6248520" cy="452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523880"/>
                    <a:ext cx="6248520" cy="452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9" name="in00045_" descr=""/>
          <p:cNvPicPr/>
          <p:nvPr/>
        </p:nvPicPr>
        <p:blipFill>
          <a:blip r:embed="rId3"/>
          <a:stretch/>
        </p:blipFill>
        <p:spPr>
          <a:xfrm>
            <a:off x="6858000" y="1930320"/>
            <a:ext cx="1447920" cy="968400"/>
          </a:xfrm>
          <a:prstGeom prst="rect">
            <a:avLst/>
          </a:prstGeom>
          <a:ln w="0">
            <a:noFill/>
          </a:ln>
        </p:spPr>
      </p:pic>
      <p:pic>
        <p:nvPicPr>
          <p:cNvPr id="110" name="in00479_" descr=""/>
          <p:cNvPicPr/>
          <p:nvPr/>
        </p:nvPicPr>
        <p:blipFill>
          <a:blip r:embed="rId4">
            <a:lum bright="10000"/>
          </a:blip>
          <a:stretch/>
        </p:blipFill>
        <p:spPr>
          <a:xfrm>
            <a:off x="457200" y="3276720"/>
            <a:ext cx="1447920" cy="977760"/>
          </a:xfrm>
          <a:prstGeom prst="rect">
            <a:avLst/>
          </a:prstGeom>
          <a:ln w="0">
            <a:noFill/>
          </a:ln>
        </p:spPr>
      </p:pic>
      <p:pic>
        <p:nvPicPr>
          <p:cNvPr id="111" name="j0230606" descr=""/>
          <p:cNvPicPr/>
          <p:nvPr/>
        </p:nvPicPr>
        <p:blipFill>
          <a:blip r:embed="rId5">
            <a:lum bright="10000"/>
          </a:blip>
          <a:stretch/>
        </p:blipFill>
        <p:spPr>
          <a:xfrm>
            <a:off x="5334120" y="4876920"/>
            <a:ext cx="1523880" cy="1023840"/>
          </a:xfrm>
          <a:prstGeom prst="rect">
            <a:avLst/>
          </a:prstGeom>
          <a:ln w="0">
            <a:noFill/>
          </a:ln>
        </p:spPr>
      </p:pic>
      <p:pic>
        <p:nvPicPr>
          <p:cNvPr id="112" name="j0089228" descr=""/>
          <p:cNvPicPr/>
          <p:nvPr/>
        </p:nvPicPr>
        <p:blipFill>
          <a:blip r:embed="rId6">
            <a:lum bright="10000"/>
          </a:blip>
          <a:stretch/>
        </p:blipFill>
        <p:spPr>
          <a:xfrm>
            <a:off x="2438280" y="1486080"/>
            <a:ext cx="1152720" cy="10285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4267080" y="5105520"/>
            <a:ext cx="1371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Energy and Utili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715000" y="1828800"/>
            <a:ext cx="1371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ravel and Trans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05320" y="2057400"/>
            <a:ext cx="182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inance and Comme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284796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il and G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5640" y="456840"/>
            <a:ext cx="6705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 Black"/>
              </a:rPr>
              <a:t>Core Competencies</a:t>
            </a:r>
            <a:endParaRPr b="1" lang="en-US" sz="3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517400"/>
            <a:ext cx="72388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550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rategic consultancy, development and support i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14480" indent="0">
              <a:spcBef>
                <a:spcPts val="550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385560"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ranet/Web Technologi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385560"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reless Solu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385560"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-Commerce/M-Commerce Solu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385560"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usiness-to-Busines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rading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385560"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385560"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rocess Management Syste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37720" y="1517400"/>
            <a:ext cx="7620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Just when we are getting used to the fast changing world of the Internet and the PC – we are about to be subjected to another step change fuelled by a convergence of  technologies chief among which is communic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0" algn="ctr">
              <a:lnSpc>
                <a:spcPct val="90000"/>
              </a:lnSpc>
              <a:spcBef>
                <a:spcPts val="726"/>
              </a:spcBef>
              <a:spcAft>
                <a:spcPts val="7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ff0000"/>
                </a:solidFill>
                <a:latin typeface="Arial"/>
              </a:rPr>
              <a:t>The Pervasive Computer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Generalised evolves to 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dividual, Application Specific dev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ot 1 or 2 but dozens – even hundre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C is moving from the desktop to the us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eled by convenient (and wireless) interaction betwee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ople, information and dev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action with a data-centric world becomes pervasiv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2285640" y="456840"/>
            <a:ext cx="6705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ffffff"/>
                </a:solidFill>
                <a:latin typeface="Arial Black"/>
              </a:rPr>
              <a:t>Pervasive Computing</a:t>
            </a:r>
            <a:endParaRPr b="1" lang="en-US" sz="3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5640" y="456840"/>
            <a:ext cx="6705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ffffff"/>
                </a:solidFill>
                <a:latin typeface="Arial Black"/>
              </a:rPr>
              <a:t>Where will it happen?</a:t>
            </a:r>
            <a:endParaRPr b="1" lang="en-US" sz="3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8960" y="121932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7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ff"/>
                </a:solidFill>
                <a:latin typeface="Arial"/>
              </a:rPr>
              <a:t>In the Offic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7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access no longer ties you to a des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7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mmunication becomes pervasiv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7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data </a:t>
            </a:r>
            <a:r>
              <a:rPr b="1" lang="en-GB" sz="1800" spc="-1" strike="noStrike" u="sng">
                <a:solidFill>
                  <a:srgbClr val="ff0000"/>
                </a:solidFill>
                <a:uFillTx/>
                <a:latin typeface="Arial"/>
              </a:rPr>
              <a:t>and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control you need is wherever you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ff"/>
                </a:solidFill>
                <a:latin typeface="Arial"/>
              </a:rPr>
              <a:t>In the Factory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7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(and eventually control) liberated from the control roo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ff"/>
                </a:solidFill>
                <a:latin typeface="Arial"/>
              </a:rPr>
              <a:t>On the Mov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7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 becomes mobile information centr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7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ersonal devices become more powerful and constantly connect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ff"/>
                </a:solidFill>
                <a:latin typeface="Arial"/>
              </a:rPr>
              <a:t>At Hom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7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Universal communic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7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n-line selective entertain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7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Home serv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5640" y="456840"/>
            <a:ext cx="6705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ffffff"/>
                </a:solidFill>
                <a:latin typeface="Arial Black"/>
              </a:rPr>
              <a:t>Hard Enabling Factors</a:t>
            </a:r>
            <a:endParaRPr b="1" lang="en-US" sz="3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09320" y="1447560"/>
            <a:ext cx="6782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5920" indent="-385920">
              <a:spcBef>
                <a:spcPts val="550"/>
              </a:spcBef>
              <a:spcAft>
                <a:spcPts val="550"/>
              </a:spcAft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PC miniaturis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spcBef>
                <a:spcPts val="550"/>
              </a:spcBef>
              <a:spcAft>
                <a:spcPts val="550"/>
              </a:spcAft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Micro web serv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spcBef>
                <a:spcPts val="550"/>
              </a:spcBef>
              <a:spcAft>
                <a:spcPts val="550"/>
              </a:spcAft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Wireless technolog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spcBef>
                <a:spcPts val="550"/>
              </a:spcBef>
              <a:spcAft>
                <a:spcPts val="550"/>
              </a:spcAft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High speed data conne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spcBef>
                <a:spcPts val="550"/>
              </a:spcBef>
              <a:spcAft>
                <a:spcPts val="550"/>
              </a:spcAft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Flat and then Flexible scree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spcBef>
                <a:spcPts val="550"/>
              </a:spcBef>
              <a:spcAft>
                <a:spcPts val="550"/>
              </a:spcAft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Voice activation/interfac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spcBef>
                <a:spcPts val="550"/>
              </a:spcBef>
              <a:spcAft>
                <a:spcPts val="550"/>
              </a:spcAft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Device inter-operabili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spcBef>
                <a:spcPts val="550"/>
              </a:spcBef>
              <a:spcAft>
                <a:spcPts val="550"/>
              </a:spcAft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Permanently on-lin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spcBef>
                <a:spcPts val="550"/>
              </a:spcBef>
              <a:spcAft>
                <a:spcPts val="550"/>
              </a:spcAft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Web-based Storag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5920" indent="0">
              <a:spcBef>
                <a:spcPts val="550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07T12:23:59Z</dcterms:created>
  <dc:creator>Ken Greenan</dc:creator>
  <dc:description/>
  <dc:language>en-US</dc:language>
  <cp:lastModifiedBy>Jim Henderson</cp:lastModifiedBy>
  <cp:lastPrinted>1999-11-30T15:41:11Z</cp:lastPrinted>
  <dcterms:modified xsi:type="dcterms:W3CDTF">2000-12-04T18:09:16Z</dcterms:modified>
  <cp:revision>32</cp:revision>
  <dc:subject/>
  <dc:title>No Slide Title</dc:title>
</cp:coreProperties>
</file>