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B7A-CE9A-4915-8C11-0F1E26EF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2D1-E041-4AAB-AD97-27BC99E2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947-6FB3-4879-B704-0BC19CA9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703-0E4D-424A-9079-7D06839A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582C-E311-4399-94B0-B856DA9A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15C8-CA71-4F5B-8F21-94669143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6A7D-A8B4-410F-B4EB-C10A6A0C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DF92-5D86-4B58-8B9F-310FEA9A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805C-7F66-40A2-BC16-56E2AD2F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3D49-7B32-417A-B6F5-5AFF546C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9499-5C84-4A0F-AF0C-9A781D4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EA8-7ECF-46F0-94F3-2549028C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C12E-7C82-4489-B37A-BC80E245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9FEB-3C7F-49C2-964B-B8ABE4EE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5345-DE06-461A-90E3-5C3C020A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707B-0BFA-4F87-B0A1-A865D48A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6E3B-EFED-4B0E-8823-F881B305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2DA-18C5-43FD-9050-9B5C69A5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62A-B42B-45F7-BFAF-E1737B80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B95-6D2D-4109-A54E-25B2A046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E9D-B3A8-4967-B138-9A281A58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1B2-2500-445C-A208-9D07F28E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A59-7FFC-447F-8C08-5545113D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E0B-127D-4BDC-9CEA-3DBC22B0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F23D-875A-4645-86E6-91518A43876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C39B-EDF8-4214-BAAF-3B328E8B14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391520" y="4952880"/>
            <a:ext cx="1523880" cy="169236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Detection and Resolution of Feature Interactions in Telecommunication Systems During Runtim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Dave Marp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Communications Divis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Department of Electrical &amp; Electronic Engineer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crest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5429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Using the Cocoon to achieve rollback : COMMIT CAS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2133720"/>
            <a:ext cx="17524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12040" y="175248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Start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ransac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2286000"/>
            <a:ext cx="15238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59160" y="19810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FOR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2438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266688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22560" y="236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Ev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133360" y="304812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83280" y="274320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Respon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3276720"/>
            <a:ext cx="0" cy="990360"/>
          </a:xfrm>
          <a:prstGeom prst="line">
            <a:avLst/>
          </a:prstGeom>
          <a:ln w="38160">
            <a:solidFill>
              <a:srgbClr val="6f89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5029200"/>
            <a:ext cx="33526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133360" y="464832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83280" y="434340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Respon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42120" y="472428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Commit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ransac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885840" y="5334120"/>
            <a:ext cx="15238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0880" y="50292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KIL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78200" y="21337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Process Copy Create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87560" y="3276720"/>
            <a:ext cx="209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Events/Response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Result in copy be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modifie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77840" y="5486400"/>
            <a:ext cx="239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Copy now becomes th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master’ instan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1828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22860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2514600"/>
            <a:ext cx="0" cy="685800"/>
          </a:xfrm>
          <a:prstGeom prst="line">
            <a:avLst/>
          </a:prstGeom>
          <a:ln w="9360">
            <a:solidFill>
              <a:srgbClr val="a58a1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7120" y="4191120"/>
            <a:ext cx="0" cy="1295280"/>
          </a:xfrm>
          <a:prstGeom prst="line">
            <a:avLst/>
          </a:prstGeom>
          <a:ln w="9360">
            <a:solidFill>
              <a:srgbClr val="a58a1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Using the Cocoon to achieve rollback : ABORT CAS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2133720"/>
            <a:ext cx="17524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12040" y="175248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Start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ransac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2286000"/>
            <a:ext cx="15238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59160" y="198108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FOR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438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266688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22560" y="236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Ev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133360" y="304812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83280" y="274320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Respon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3276720"/>
            <a:ext cx="0" cy="990360"/>
          </a:xfrm>
          <a:prstGeom prst="line">
            <a:avLst/>
          </a:prstGeom>
          <a:ln w="38160">
            <a:solidFill>
              <a:srgbClr val="6f89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5029200"/>
            <a:ext cx="33526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133360" y="4648320"/>
            <a:ext cx="3276360" cy="0"/>
          </a:xfrm>
          <a:prstGeom prst="line">
            <a:avLst/>
          </a:prstGeom>
          <a:ln w="38160">
            <a:solidFill>
              <a:srgbClr val="6f89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3280" y="434340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f89f7"/>
                </a:solidFill>
                <a:latin typeface="Tahoma"/>
              </a:rPr>
              <a:t>Respon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61280" y="471312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Abort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ransac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885840" y="5334120"/>
            <a:ext cx="1523880" cy="0"/>
          </a:xfrm>
          <a:prstGeom prst="line">
            <a:avLst/>
          </a:prstGeom>
          <a:ln w="38160">
            <a:solidFill>
              <a:srgbClr val="e53a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1160" y="502920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78200" y="21337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Process Copy Create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87560" y="3276720"/>
            <a:ext cx="209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Events/Response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Result in copy be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modifie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35720" y="5486400"/>
            <a:ext cx="3263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Copy dies and original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resumes – back to initi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state without seeing intervenin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8a19"/>
                </a:solidFill>
                <a:latin typeface="Tahoma"/>
              </a:rPr>
              <a:t>messag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1828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22860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5257800"/>
            <a:ext cx="2286000" cy="1066680"/>
          </a:xfrm>
          <a:prstGeom prst="wedgeRoundRectCallout">
            <a:avLst>
              <a:gd name="adj1" fmla="val 68333"/>
              <a:gd name="adj2" fmla="val -2812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Note: Obvious performance benefit here to be gained by only using the </a:t>
            </a:r>
            <a:r>
              <a:rPr b="0" i="1" lang="en-US" sz="1000" spc="-1" strike="noStrike">
                <a:solidFill>
                  <a:srgbClr val="40458c"/>
                </a:solidFill>
                <a:latin typeface="Tahoma"/>
              </a:rPr>
              <a:t>copy</a:t>
            </a: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 when rollback needs to be performed, since rollback is (hopefully) the less common case.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2514600"/>
            <a:ext cx="0" cy="685800"/>
          </a:xfrm>
          <a:prstGeom prst="line">
            <a:avLst/>
          </a:prstGeom>
          <a:ln w="9360">
            <a:solidFill>
              <a:srgbClr val="a58a1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77120" y="4191120"/>
            <a:ext cx="0" cy="1295280"/>
          </a:xfrm>
          <a:prstGeom prst="line">
            <a:avLst/>
          </a:prstGeom>
          <a:ln w="9360">
            <a:solidFill>
              <a:srgbClr val="a58a1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5334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647960" y="3048120"/>
            <a:ext cx="1886760" cy="857160"/>
            <a:chOff x="4647960" y="3048120"/>
            <a:chExt cx="1886760" cy="857160"/>
          </a:xfrm>
        </p:grpSpPr>
        <p:sp>
          <p:nvSpPr>
            <p:cNvPr id="321" name=""/>
            <p:cNvSpPr/>
            <p:nvPr/>
          </p:nvSpPr>
          <p:spPr>
            <a:xfrm flipH="1">
              <a:off x="4647600" y="3276720"/>
              <a:ext cx="1522440" cy="628560"/>
            </a:xfrm>
            <a:custGeom>
              <a:avLst/>
              <a:gdLst/>
              <a:ahLst/>
              <a:rect l="l" t="t" r="r" b="b"/>
              <a:pathLst>
                <a:path w="959" h="396">
                  <a:moveTo>
                    <a:pt x="959" y="0"/>
                  </a:moveTo>
                  <a:cubicBezTo>
                    <a:pt x="826" y="16"/>
                    <a:pt x="316" y="33"/>
                    <a:pt x="158" y="99"/>
                  </a:cubicBezTo>
                  <a:cubicBezTo>
                    <a:pt x="0" y="165"/>
                    <a:pt x="44" y="334"/>
                    <a:pt x="14" y="396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19600" y="3048120"/>
              <a:ext cx="91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ahoma"/>
                </a:rPr>
                <a:t>Resolution 3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reate tree of possible posterior state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0" y="3886200"/>
            <a:ext cx="609480" cy="1600200"/>
            <a:chOff x="2286000" y="3886200"/>
            <a:chExt cx="609480" cy="1600200"/>
          </a:xfrm>
        </p:grpSpPr>
        <p:sp>
          <p:nvSpPr>
            <p:cNvPr id="326" name=""/>
            <p:cNvSpPr/>
            <p:nvPr/>
          </p:nvSpPr>
          <p:spPr>
            <a:xfrm>
              <a:off x="2590920" y="449568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6000" y="3886200"/>
              <a:ext cx="60948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4876920"/>
              <a:ext cx="60948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867280" y="3886200"/>
            <a:ext cx="609840" cy="2590920"/>
            <a:chOff x="5867280" y="3886200"/>
            <a:chExt cx="609840" cy="2590920"/>
          </a:xfrm>
        </p:grpSpPr>
        <p:sp>
          <p:nvSpPr>
            <p:cNvPr id="330" name=""/>
            <p:cNvSpPr/>
            <p:nvPr/>
          </p:nvSpPr>
          <p:spPr>
            <a:xfrm>
              <a:off x="6172200" y="449568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2200" y="54864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67280" y="3886200"/>
              <a:ext cx="60984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67280" y="4876920"/>
              <a:ext cx="60984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67280" y="5867280"/>
              <a:ext cx="609840" cy="609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114800" y="1981080"/>
            <a:ext cx="3429000" cy="1600200"/>
            <a:chOff x="4114800" y="1981080"/>
            <a:chExt cx="3429000" cy="1600200"/>
          </a:xfrm>
        </p:grpSpPr>
        <p:sp>
          <p:nvSpPr>
            <p:cNvPr id="336" name=""/>
            <p:cNvSpPr/>
            <p:nvPr/>
          </p:nvSpPr>
          <p:spPr>
            <a:xfrm>
              <a:off x="4114800" y="2971800"/>
              <a:ext cx="60948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43600" y="1981080"/>
              <a:ext cx="1600200" cy="838440"/>
            </a:xfrm>
            <a:prstGeom prst="wedgeRoundRectCallout">
              <a:avLst>
                <a:gd name="adj1" fmla="val -123212"/>
                <a:gd name="adj2" fmla="val 91287"/>
                <a:gd name="adj3" fmla="val 16667"/>
              </a:avLst>
            </a:prstGeom>
            <a:solidFill>
              <a:srgbClr val="e53a1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ponses from more than one feature return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408200" y="1676520"/>
            <a:ext cx="877320" cy="304560"/>
            <a:chOff x="4408200" y="1676520"/>
            <a:chExt cx="877320" cy="304560"/>
          </a:xfrm>
        </p:grpSpPr>
        <p:sp>
          <p:nvSpPr>
            <p:cNvPr id="339" name=""/>
            <p:cNvSpPr/>
            <p:nvPr/>
          </p:nvSpPr>
          <p:spPr>
            <a:xfrm>
              <a:off x="4419720" y="1676520"/>
              <a:ext cx="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08200" y="1676520"/>
              <a:ext cx="87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ahoma"/>
                </a:rPr>
                <a:t>Initial Even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401720" y="2590920"/>
            <a:ext cx="756720" cy="380880"/>
            <a:chOff x="4401720" y="2590920"/>
            <a:chExt cx="756720" cy="380880"/>
          </a:xfrm>
        </p:grpSpPr>
        <p:sp>
          <p:nvSpPr>
            <p:cNvPr id="342" name=""/>
            <p:cNvSpPr/>
            <p:nvPr/>
          </p:nvSpPr>
          <p:spPr>
            <a:xfrm>
              <a:off x="4419720" y="259092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01720" y="266688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ahoma"/>
                </a:rPr>
                <a:t>Respons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90920" y="3048120"/>
            <a:ext cx="1522440" cy="857160"/>
            <a:chOff x="2590920" y="3048120"/>
            <a:chExt cx="1522440" cy="857160"/>
          </a:xfrm>
        </p:grpSpPr>
        <p:sp>
          <p:nvSpPr>
            <p:cNvPr id="345" name=""/>
            <p:cNvSpPr/>
            <p:nvPr/>
          </p:nvSpPr>
          <p:spPr>
            <a:xfrm>
              <a:off x="2590920" y="3276720"/>
              <a:ext cx="1522440" cy="628560"/>
            </a:xfrm>
            <a:custGeom>
              <a:avLst/>
              <a:gdLst/>
              <a:ahLst/>
              <a:rect l="l" t="t" r="r" b="b"/>
              <a:pathLst>
                <a:path w="959" h="396">
                  <a:moveTo>
                    <a:pt x="959" y="0"/>
                  </a:moveTo>
                  <a:cubicBezTo>
                    <a:pt x="826" y="16"/>
                    <a:pt x="316" y="33"/>
                    <a:pt x="158" y="99"/>
                  </a:cubicBezTo>
                  <a:cubicBezTo>
                    <a:pt x="0" y="165"/>
                    <a:pt x="44" y="334"/>
                    <a:pt x="14" y="396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00080" y="3048120"/>
              <a:ext cx="91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ahoma"/>
                </a:rPr>
                <a:t>Resolution 1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114800" y="3581280"/>
            <a:ext cx="1200600" cy="990720"/>
            <a:chOff x="4114800" y="3581280"/>
            <a:chExt cx="1200600" cy="990720"/>
          </a:xfrm>
        </p:grpSpPr>
        <p:sp>
          <p:nvSpPr>
            <p:cNvPr id="348" name=""/>
            <p:cNvSpPr/>
            <p:nvPr/>
          </p:nvSpPr>
          <p:spPr>
            <a:xfrm>
              <a:off x="4114800" y="3962520"/>
              <a:ext cx="609480" cy="6094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9720" y="358128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00280" y="3581280"/>
              <a:ext cx="91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58c"/>
                  </a:solidFill>
                  <a:latin typeface="Tahoma"/>
                </a:rPr>
                <a:t>Resolution 2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600200" y="1752480"/>
            <a:ext cx="3124080" cy="838440"/>
            <a:chOff x="1600200" y="1752480"/>
            <a:chExt cx="3124080" cy="838440"/>
          </a:xfrm>
        </p:grpSpPr>
        <p:sp>
          <p:nvSpPr>
            <p:cNvPr id="352" name=""/>
            <p:cNvSpPr/>
            <p:nvPr/>
          </p:nvSpPr>
          <p:spPr>
            <a:xfrm>
              <a:off x="4114800" y="1981080"/>
              <a:ext cx="609480" cy="609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0200" y="1752480"/>
              <a:ext cx="1600200" cy="838440"/>
            </a:xfrm>
            <a:prstGeom prst="wedgeRoundRectCallout">
              <a:avLst>
                <a:gd name="adj1" fmla="val 102379"/>
                <a:gd name="adj2" fmla="val 8902"/>
                <a:gd name="adj3" fmla="val 16667"/>
              </a:avLst>
            </a:prstGeom>
            <a:solidFill>
              <a:srgbClr val="e53a1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ponses from one feature return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Experimental Set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ine Features based around FIW’98 se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 Forwarding on Busy Line (CFB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en Line (T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rminating Call Screening (TC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 Forwarding Unconditional (CF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 Waiting (CW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turn Call (R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iginating Call Screening (OC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t Line (H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turn Call Immediate (RC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Headline Number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38 distinct 2-way (Feature to Feature) interactions identified in the sample s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f these, 31 were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detecte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utomatically, 7 were misse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f the 31 that were detected, all could be resolved in some way by the system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ree ‘real’ three feature interactions were detected in the experimental feature s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nalysis…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ction cases split into four groups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hared Trigger Interactions (ST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quential Action Interactions (SA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oping Interactions (L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ssed Trigger Interactions (MTI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technique detected all classes except the seven MTI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l of the three-way interactions were from the STI class – down to the definitions use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 Complex Case – Pg. 153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T 1 : RCI to 2, </a:t>
            </a:r>
            <a:r>
              <a:rPr b="0" lang="en-US" sz="3200" spc="-1" strike="noStrike">
                <a:solidFill>
                  <a:srgbClr val="e53a1d"/>
                </a:solidFill>
                <a:latin typeface="Tahoma"/>
              </a:rPr>
              <a:t>HL t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T 2 : </a:t>
            </a:r>
            <a:r>
              <a:rPr b="0" lang="en-US" sz="3200" spc="-1" strike="noStrike">
                <a:solidFill>
                  <a:srgbClr val="e53a1d"/>
                </a:solidFill>
                <a:latin typeface="Tahoma"/>
              </a:rPr>
              <a:t>CFU to 3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nd D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T 3 : </a:t>
            </a:r>
            <a:r>
              <a:rPr b="0" lang="en-US" sz="3200" spc="-1" strike="noStrike">
                <a:solidFill>
                  <a:srgbClr val="e53a1d"/>
                </a:solidFill>
                <a:latin typeface="Tahoma"/>
              </a:rPr>
              <a:t>CFBL to 4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nd C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T 4 : DND and </a:t>
            </a:r>
            <a:r>
              <a:rPr b="0" lang="en-US" sz="3200" spc="-1" strike="noStrike">
                <a:solidFill>
                  <a:srgbClr val="e53a1d"/>
                </a:solidFill>
                <a:latin typeface="Tahoma"/>
              </a:rPr>
              <a:t>TCS for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ight features on a single call pa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roximately 250 micro-steps along all potential call path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apabilitie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tection of Interactions at a single point of control between an arbitrary number of features, with no internal knowledge of those 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ual resolution of these interactions with later re-use to provide autom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sion of techniques to multi-way interaction scenari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apabilities - Continue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assification of interactions into four classes, with different pathologies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hared Triggers 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ngerous, system may behave unpredictab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equential Action 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fe, system is behaving ‘normally’, but stimuli are differ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Looping 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ngerous, A special case of Sequential resulting in busy loo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issed Triggers 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ngerous, system may behave unpredictably since it has missed event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cooning’ of existing code to allow it’s use without modification in this system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Limitations and Approaches for addressing them…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nnot detect MT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ded feature specification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n only work at a single point of cont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sions to network signaling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nnot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automatically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resolutions to interactions based on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oretical study of the trees to see if such automation is possible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ucture of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tionale behind the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Very) Brief review of exist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ication to new approa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new techniq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pabili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mit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uture Wo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Further Study 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tomatic Resolution technique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of of correct operation with legacy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ovement in the loop detection sy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TI detection (resolution?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orking across multiple points of control (protocols?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ationa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Techniques being used in today’s networks mean that there is more feature functionality then ever befo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feature functionality is increasingly developed by independent agencies that do not coordin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leads to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interaction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ich have to be resolved when features first meet, in the context of existing (legacy) syst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The Objective : To develop Feature Interaction techniques that can be used in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runtime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, in the context of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existing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syste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ationale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ew of Existing Techniqu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ign Time Approach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 Based Model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 Languages and Specific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ded Feature Specific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mporal Log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ment Approach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havioral Signatu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cess Suppor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tectu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ew of Existing Techniques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Continued…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ntime Techniqu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eature Manag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rect Commun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blem Reform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goti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y ideas from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transactions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allow features to ‘suggest’ responses to an event 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withou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them needing to be committed to the hard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 the following constraints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nimal knowledge of feature intern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 be used in run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sible to more than two featu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Overview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 rollback capabilities to existing 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a ‘tree’ of possible posterior states from an initial triggering ev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ine the tree for the best re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ord the selected resolution for application next time the scenario occu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dd rollback capabilities to existing features…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559520" y="2438280"/>
            <a:ext cx="1639080" cy="2882520"/>
            <a:chOff x="1559520" y="2438280"/>
            <a:chExt cx="1639080" cy="2882520"/>
          </a:xfrm>
        </p:grpSpPr>
        <p:sp>
          <p:nvSpPr>
            <p:cNvPr id="234" name=""/>
            <p:cNvSpPr/>
            <p:nvPr/>
          </p:nvSpPr>
          <p:spPr>
            <a:xfrm>
              <a:off x="1828800" y="2438280"/>
              <a:ext cx="914400" cy="91440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eatur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59520" y="4800600"/>
              <a:ext cx="163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To/Fro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Switching Syste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0" y="3276720"/>
              <a:ext cx="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826600" y="1905120"/>
            <a:ext cx="1639080" cy="3720600"/>
            <a:chOff x="5826600" y="1905120"/>
            <a:chExt cx="1639080" cy="3720600"/>
          </a:xfrm>
        </p:grpSpPr>
        <p:sp>
          <p:nvSpPr>
            <p:cNvPr id="238" name=""/>
            <p:cNvSpPr/>
            <p:nvPr/>
          </p:nvSpPr>
          <p:spPr>
            <a:xfrm>
              <a:off x="5867280" y="1905120"/>
              <a:ext cx="1371600" cy="1828800"/>
            </a:xfrm>
            <a:prstGeom prst="ellipse">
              <a:avLst/>
            </a:prstGeom>
            <a:solidFill>
              <a:srgbClr val="a58a1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co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95880" y="2209680"/>
              <a:ext cx="914400" cy="91440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Featur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26600" y="5105520"/>
              <a:ext cx="163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To/Fro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Switching System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53080" y="3657600"/>
              <a:ext cx="0" cy="137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ique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…in the context of a Feature Manager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343400" y="1371600"/>
            <a:ext cx="4191120" cy="4952880"/>
            <a:chOff x="4343400" y="1371600"/>
            <a:chExt cx="4191120" cy="4952880"/>
          </a:xfrm>
        </p:grpSpPr>
        <p:sp>
          <p:nvSpPr>
            <p:cNvPr id="244" name=""/>
            <p:cNvSpPr/>
            <p:nvPr/>
          </p:nvSpPr>
          <p:spPr>
            <a:xfrm>
              <a:off x="5181480" y="3352680"/>
              <a:ext cx="2362320" cy="1371600"/>
            </a:xfrm>
            <a:prstGeom prst="ellipse">
              <a:avLst/>
            </a:prstGeom>
            <a:solidFill>
              <a:srgbClr val="a58a1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Featur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Manag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1676520"/>
              <a:ext cx="914400" cy="1371600"/>
            </a:xfrm>
            <a:prstGeom prst="ellipse">
              <a:avLst/>
            </a:prstGeom>
            <a:solidFill>
              <a:srgbClr val="a58a1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ahoma"/>
                </a:rPr>
                <a:t>Coco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95680" y="1905120"/>
              <a:ext cx="609840" cy="68580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ahoma"/>
                </a:rPr>
                <a:t>Featur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52880" y="2971800"/>
              <a:ext cx="500040" cy="65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410080" y="1523880"/>
              <a:ext cx="914400" cy="1371600"/>
              <a:chOff x="5410080" y="1523880"/>
              <a:chExt cx="914400" cy="1371600"/>
            </a:xfrm>
          </p:grpSpPr>
          <p:sp>
            <p:nvSpPr>
              <p:cNvPr id="249" name=""/>
              <p:cNvSpPr/>
              <p:nvPr/>
            </p:nvSpPr>
            <p:spPr>
              <a:xfrm>
                <a:off x="5410080" y="1523880"/>
                <a:ext cx="914400" cy="1371600"/>
              </a:xfrm>
              <a:prstGeom prst="ellipse">
                <a:avLst/>
              </a:prstGeom>
              <a:solidFill>
                <a:srgbClr val="a58a1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Coco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62360" y="1752120"/>
                <a:ext cx="609480" cy="68580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Featur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553080" y="1676520"/>
              <a:ext cx="914400" cy="1371600"/>
              <a:chOff x="6553080" y="1676520"/>
              <a:chExt cx="914400" cy="1371600"/>
            </a:xfrm>
          </p:grpSpPr>
          <p:sp>
            <p:nvSpPr>
              <p:cNvPr id="252" name=""/>
              <p:cNvSpPr/>
              <p:nvPr/>
            </p:nvSpPr>
            <p:spPr>
              <a:xfrm>
                <a:off x="6553080" y="1676520"/>
                <a:ext cx="914400" cy="1371600"/>
              </a:xfrm>
              <a:prstGeom prst="ellipse">
                <a:avLst/>
              </a:prstGeom>
              <a:solidFill>
                <a:srgbClr val="a58a1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Coco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05360" y="1904760"/>
                <a:ext cx="609480" cy="68580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Featur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620120" y="1371600"/>
              <a:ext cx="914400" cy="1371600"/>
              <a:chOff x="7620120" y="1371600"/>
              <a:chExt cx="914400" cy="1371600"/>
            </a:xfrm>
          </p:grpSpPr>
          <p:sp>
            <p:nvSpPr>
              <p:cNvPr id="255" name=""/>
              <p:cNvSpPr/>
              <p:nvPr/>
            </p:nvSpPr>
            <p:spPr>
              <a:xfrm>
                <a:off x="7620120" y="1371600"/>
                <a:ext cx="914400" cy="1371600"/>
              </a:xfrm>
              <a:prstGeom prst="ellipse">
                <a:avLst/>
              </a:prstGeom>
              <a:solidFill>
                <a:srgbClr val="a58a1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Coco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72400" y="1599840"/>
                <a:ext cx="609480" cy="68580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Feature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934240" y="2852640"/>
              <a:ext cx="99720" cy="55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810120" y="2986200"/>
              <a:ext cx="128520" cy="45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14840" y="2685960"/>
              <a:ext cx="633240" cy="9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1480" y="5029200"/>
              <a:ext cx="2362320" cy="12952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witching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yste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24480" y="4676760"/>
              <a:ext cx="0" cy="3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47880" y="2362320"/>
            <a:ext cx="2361960" cy="2867040"/>
            <a:chOff x="947880" y="2362320"/>
            <a:chExt cx="2361960" cy="2867040"/>
          </a:xfrm>
        </p:grpSpPr>
        <p:sp>
          <p:nvSpPr>
            <p:cNvPr id="263" name=""/>
            <p:cNvSpPr/>
            <p:nvPr/>
          </p:nvSpPr>
          <p:spPr>
            <a:xfrm>
              <a:off x="947880" y="3933720"/>
              <a:ext cx="2361960" cy="12956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witching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yste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8800" y="2362320"/>
              <a:ext cx="609480" cy="68580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ahoma"/>
                </a:rPr>
                <a:t>Featur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720" y="3009960"/>
              <a:ext cx="0" cy="9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200400" y="3505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39520" y="6521400"/>
            <a:ext cx="64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ationale : Review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Application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e53a1d"/>
                </a:solidFill>
                <a:latin typeface="Tahoma"/>
              </a:rPr>
              <a:t>Technique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Result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Conclusion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3T20:04:33Z</dcterms:created>
  <dc:creator>dmarples</dc:creator>
  <dc:description/>
  <dc:language>en-US</dc:language>
  <cp:lastModifiedBy>dmarples</cp:lastModifiedBy>
  <dcterms:modified xsi:type="dcterms:W3CDTF">2000-12-05T13:21:14Z</dcterms:modified>
  <cp:revision>6</cp:revision>
  <dc:subject/>
  <dc:title>Detection and Resolution of Feature Interactions in Telecommunication Systems During Runtime</dc:title>
</cp:coreProperties>
</file>